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4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4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588024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457200"/>
            <a:ext cx="8456760" cy="13716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00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00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00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cation of WRF-Noah Model Results for the Summer Experiment Using SURFRAD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Outline: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WRF Model Configurati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Results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June, July 2005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6000" y="2209680"/>
            <a:ext cx="614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kul Tewari, Fei Chen, Kevin Manning, Wei Wang,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y Dudhia(NCAR), Jerry Wegiel (AFWA)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Verification for a Cloudy Day at Boulder, CO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26 July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23840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72000" y="1257480"/>
            <a:ext cx="3962520" cy="2628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2193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54160" y="14479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0" y="4724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26000" y="4191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5600" y="9907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Mode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Bias for all Stations (Clear Days) 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June 2005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317600"/>
            <a:ext cx="2971800" cy="279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3352680" cy="2646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9144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640" y="838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200" y="518148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971800" y="1292400"/>
            <a:ext cx="2971800" cy="282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86920" y="9144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2670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12120" y="435600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Bias for All Stations (Cloudy Days) 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327672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3429000" cy="2813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01720" y="762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621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48320" y="1128600"/>
            <a:ext cx="3352680" cy="290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12120" y="435600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Probability Distribution Function (PDF) for Wind Speed (June and July 200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3576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191120" cy="3571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70520" y="5803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6560" y="5651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70560" y="618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4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RMSE for all Stations (Clear Days)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2895480" cy="2675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114800" y="838080"/>
            <a:ext cx="3352680" cy="2667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2895480" cy="2674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14800" y="3505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926120" y="1523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2080" y="38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6172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61722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3040" y="464832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RMSE for All Stations (Cloudy day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3880" y="1055520"/>
            <a:ext cx="2895840" cy="252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304776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523880" y="3581280"/>
            <a:ext cx="2971800" cy="2824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495680" y="3581280"/>
            <a:ext cx="2971800" cy="2793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4600" y="1752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4600" y="5029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64612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6461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93040" y="426708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RMSE for all Stations (Clear + Cloudy)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809880" y="990720"/>
            <a:ext cx="4267440" cy="2971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666880" y="3962520"/>
            <a:ext cx="3886200" cy="2855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36440" y="39751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2200" y="214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13920" y="56516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3040" y="388620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Bias for all Stations (Clear + Cloudy)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 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124080" cy="294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3124080" cy="2946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971800" y="3962520"/>
            <a:ext cx="3048120" cy="2908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-92160" y="1994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9440" y="1828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4960" y="511812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5240" y="4191120"/>
            <a:ext cx="165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B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 TB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Blue: FPK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G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L Blue: PSU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Purple: SXF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54400" y="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A Simple Approach for detection of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cloudy events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219320"/>
            <a:ext cx="693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Cloud detection was done using “DSW Baseline” defined separately for each station and each month.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First the Expected Clear Sky DSW (ECS-DSW) was determined for every 3-minute using all available DSW observations at a station during a month. ECS-DSW is defined as the average of top 20% DSW values at a given time.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ECS-DSW diurnal curve was smoothed using a low-pass filter.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DSW-Baseline was defined as 80%  of ECS-D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Same DSW baseline was used for model as well as for stations.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Detection of Cloudy and Clear Days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477120" cy="5505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89800" y="245124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43000" y="2057400"/>
            <a:ext cx="2666880" cy="6858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143000" y="2819160"/>
            <a:ext cx="2666880" cy="190476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895480"/>
            <a:ext cx="2286000" cy="7621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19920" y="3809880"/>
            <a:ext cx="2209680" cy="152424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90800" y="32893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udy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To verify very high resolution, very large domain WRF model results from summer experiment using SURFRAD (SURFace RADiation budget network) data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To evaluate long-term WRF surface radiation budgets and near surface variables verified over different landuse types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To test the real-time capability of HRLDAS which provided the soil data for the summer experiment 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Landuse based Verification for 15 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963440" y="51944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 Temperatur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09000" y="51944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1960" y="5791320"/>
            <a:ext cx="67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Dryland Crop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Croplan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Grasslan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Shrub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Yellow: Ever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Needleleaf Forest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4920" y="12762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Landuse based Verification for 15 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18240" y="54230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 Q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5410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1960" y="5791320"/>
            <a:ext cx="67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Dryland Crop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Croplan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: Grasslan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reen: Shrub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Yellow: Ever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Needleleaf Forest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WRF model radiation and near surface results are evaluated for summer experiment. The model shows good agreement for SW radiation with observations for clear days.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Model shows systematic positive bias in forenoon hours and negative bias during afternoon hours for clear days.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Cropland generally has lower bias in temperature among all the landuse categories used for verification. Grassland and Shrubland seems to contribute more toward bias in temperature.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More comprehensive verification is in process.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Surface Radiation Budget Network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(SUR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0099"/>
                </a:solidFill>
                <a:uFillTx/>
                <a:latin typeface="Arial"/>
              </a:rPr>
              <a:t>Surf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ace </a:t>
            </a:r>
            <a:r>
              <a:rPr b="1" lang="en-US" sz="2000" spc="-1" strike="noStrike" u="sng">
                <a:solidFill>
                  <a:srgbClr val="330099"/>
                </a:solidFill>
                <a:uFillTx/>
                <a:latin typeface="Arial"/>
              </a:rPr>
              <a:t>Rad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iation Budget Network (SURFRAD) was established in 1993 through the support of NOAA's Office of Global Program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Its primary objective is to support climate research with accurate, continuous, long-term measurements of the surface radiation budget over the United States.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Seven SURFRAD stations are operating in climatologically diverse regions: Montana, Colorado, Illinois, Mississippi, Pennsylvania, Nevada and South Dakota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Possibly sensible and latent heat flux measurements will soon become an integral part of SURFRAD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http://www.srrb.noaa.gov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WRF-Model Configu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Single domain (4km)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No of points  E-W, N-S (971X741)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35 Vertical level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Model initialized at 00Z (integrated for 36 hrs)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Verification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June, July 2005 (summer experiment)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Physics Option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YSU PBL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Noah LSM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RRTM radiation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Dudhia SW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WSM 6-class graupel MP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Arial"/>
              </a:rPr>
              <a:t>Landuse Map and Observations S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4953240" cy="4097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4200" y="1447920"/>
            <a:ext cx="26640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1142640" y="1295280"/>
            <a:ext cx="1066680" cy="18288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71800" y="1295280"/>
            <a:ext cx="0" cy="14479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33920" y="1295280"/>
            <a:ext cx="75960" cy="19051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0" y="9907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der, CO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9160" y="7621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 Peck,MT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1840" y="990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ux, SD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2600" y="939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ville, IL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86364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 State, PA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0" y="5715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win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ek, MS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886200"/>
            <a:ext cx="0" cy="18288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876920" y="1143000"/>
            <a:ext cx="761760" cy="18288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752480" y="1219320"/>
            <a:ext cx="457200" cy="9144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257800"/>
            <a:ext cx="42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ville: Dryland Cropland (CAT2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lder: Cropland (CAT5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t Peck: Grassland/ Grassland (CAT7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win Creek: Cropland/ Woodland (CAT6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n State: Dryland Cropland (CAT2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oux: Dryland Cropland (CAT2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Arial"/>
              </a:rPr>
              <a:t>Observed Time Series SWDOWN</a:t>
            </a:r>
            <a:br>
              <a:rPr sz="2800"/>
            </a:br>
            <a:r>
              <a:rPr b="0" lang="en-US" sz="2800" spc="-1" strike="noStrike">
                <a:solidFill>
                  <a:srgbClr val="330099"/>
                </a:solidFill>
                <a:latin typeface="Arial"/>
              </a:rPr>
              <a:t>June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71800" y="1314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943600" y="1295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971800" y="4095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4095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867280" y="4095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59400" y="365760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ville, I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64612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lder, CO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1040" y="91440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1-10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1080" y="99072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11-20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4280" y="9144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21-30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Verification for a Clear Day at Bondville, IL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24 July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52480" y="131436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0600" y="3657600"/>
            <a:ext cx="3200400" cy="234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25146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66760" y="2146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98920" y="45086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6000" y="426708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7480" y="633744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Mode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Verification for a Clear Day at Boulder, CO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29 July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886200" cy="2629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495680" y="3994200"/>
            <a:ext cx="3962520" cy="286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1430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9560" y="9270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4952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6000" y="480060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4720" y="9907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Mode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Verification for a Cloudy Day at Bondville, IL</a:t>
            </a:r>
            <a:br>
              <a:rPr sz="2800"/>
            </a:b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27 July 20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39434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3657600" cy="262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939960" y="137160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495680" y="3962520"/>
            <a:ext cx="3581640" cy="2666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2193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DOW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85880" y="14605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0" y="4724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W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2080" y="449568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1040" y="106668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d: Ob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Blue: Model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20:04:00Z</dcterms:created>
  <dc:creator>Rhonda McGaffic</dc:creator>
  <dc:description/>
  <dc:language>en-US</dc:language>
  <cp:lastModifiedBy>mukul</cp:lastModifiedBy>
  <dcterms:modified xsi:type="dcterms:W3CDTF">2005-09-13T00:46:50Z</dcterms:modified>
  <cp:revision>501</cp:revision>
  <dc:subject/>
  <dc:title>NCAR R&amp;D Related to Homeland Defense and</dc:title>
</cp:coreProperties>
</file>