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CD44-7855-4F9F-BF9A-C5EC7E6AD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60B8-F18F-4B8F-9971-DFC9D368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4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44A9-E5BF-46E6-AEF6-8C053A810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9012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776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5BAE-47E3-404C-93D5-FFE7B87AE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CD6B-52E2-43F6-AC21-45E57BE7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22F5-DAE0-41E3-B107-8DB0095D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39DE-A4E1-4D49-88D8-85FD303A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E44E-ECB4-441D-BEB6-304AC20B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24E4-C176-4DFB-8BF0-1E553545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356E-70B2-4BB4-A776-2B126518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4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4948-B0A3-4D1B-89A6-15BA0FC1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3D66-B537-4C33-AC32-CCF0ECC2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1A17-D6C8-4859-862E-8D3AABFF4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52480" y="1295280"/>
            <a:ext cx="579132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71600" y="6248520"/>
            <a:ext cx="7391520" cy="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458200" y="1828800"/>
            <a:ext cx="0" cy="472428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04920" y="586728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se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WRF Standard Initi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 W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CAR/M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 13,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sed New SI Functiona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‘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rib_prep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GriB2 and native coordinat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d use of intermediate formatted data as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on flexibility of dealing with inpu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sed New SI Functiona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‘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interp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computational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I/O: conforming to WRF I/O 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I/O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the capability for processing multiple data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of meteorological data on non-staggered g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mmodate a general way to cre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dealiz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itial conditions for WR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sed New SI Functiona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‘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interp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S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accommodate for multiple sol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e solver-specific coding to the solver develo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sed New SI Functiona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user friendlin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input static data and meteorological data by providing well documented user-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install and run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ess on New SI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ed to propose the new development in the fall of 200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t financial support from AF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hered input from the reactivated SI work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design requirement for the new 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ess on New SI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‘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ridg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 near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ibber development is under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inter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 development will soon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velopment will start early nex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he tutorial time next summer, we hope to release the new 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‘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gridge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ample of performance improv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0 x 800 grids, 12 km resolution, polar stereographic projection, run on single Xeon (3.06 GHz, 6 Gb) process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 SI: 102:48 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SI: 6:31 min (a speedup of ~ 15 ti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ar Grid: 800x800, 12 k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362320" y="1447920"/>
            <a:ext cx="4560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‘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gridge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example of performance improv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00 x 1500 grids, 2.55 km resolution, Lambert-Conformal projection, run on the same Xeon process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 SI: 52:18 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SI: 5:04 min (a speedup of ~10 ti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ar Grid: 2100x1500, 2.55 k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47712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25400" y="1600200"/>
            <a:ext cx="6908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of current Standard Initialization (SI)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the new SI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new functionality in the new 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on the new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‘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gridge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ment due to multi-processor processing on a 6000 x 7000 g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done on processing topography and landuse data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‘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gridge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14400" y="1981080"/>
          <a:ext cx="7315200" cy="3486240"/>
        </p:xfrm>
        <a:graphic>
          <a:graphicData uri="http://schemas.openxmlformats.org/drawingml/2006/table">
            <a:tbl>
              <a:tblPr/>
              <a:tblGrid>
                <a:gridCol w="2438280"/>
                <a:gridCol w="2115000"/>
                <a:gridCol w="2761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C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lclock 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edup over 2 C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is underway to recode a new ‘SI’ and to address a number issues that the current SI h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is made in significantly improving the program compon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on the way to make the release deadline of Summer of 200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25760" y="1752120"/>
            <a:ext cx="60703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cc"/>
                </a:solidFill>
                <a:latin typeface="Arial"/>
              </a:rPr>
              <a:t>Mike Dud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MM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‘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ridg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work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F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O                       0 1200  1200     1   0  10.0    10.0     0.0   0.0 2 /kola3/duda/WRFV2/geog/topo_30s/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O                       0   600    600      1   0  10.0    10.0     0.0   0.0 2 /kola3/duda/WRFV2/geog/topo_1m/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O                       0   120    120      1   0  10.0    10.0     0.0   0.0 2 /kola3/duda/WRFV2/geog/topo_5m/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USE                1 1200  1200     1   0  10.0    10.0     0.0   0.0 1 /kola3/duda/WRFV2/geog/landuse_30s/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USE                0   600    600      1   0  10.0    10.0     0.0   0.0 1 /kola3/duda/WRFV2/geog/landuse_1m/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ILTYPE_TOP       1 1200  1200     1   0  10.0    10.0    0.0   0.0 1 /kola3/duda/WRFV2/geog/soiltype_top_30s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ILTYPE_BOT       1 1200  1200     1   0  10.0    10.0    0.0   0.0 1 /kola3/duda/WRFV2/geog/soiltype_bot_30s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EDO_NCEP        0 1250  1250   12   0 180.0 180.0 -90.0   0.0 1 /kola3/duda/WRFV2/geog/albedo_ncep/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FRAC            0 1250  1250   12   0 180.0 180.0 -90.0   0.0 1 /kola3/duda/WRFV2/geog/greenfrac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OPE                     1   180    180      1   0 180.0 180.0 -90.0   0.0 1 /kola3/duda/WRFV2/geog/islope/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SNOWALB         0   180    180     1   0 180.0 180.0 -90.0   0.0 1 /kola3/duda/WRFV2/geog/maxsnowalb/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ILTEMP                0   180    180      1   0 180.0 180.0 -90.0   0.0 2 /kola3/duda/WRFV2/geog/soiltemp_1deg/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column gives the name of the field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column is a flag indicating whether the field is categorical or continuou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rd through fifth columns give the x, y, and z dimensions of each tile, respectively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xth column indicates the number of additional halo points around each til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venth column gives the number of degrees of latitude spanned by each ti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ighth column gives the number of degrees of longitude spanned by each ti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inth and tenth columns give the offset of the tiles (from a set of tiles where some tile  has its south-west corner at 00N 000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venth column gives the number of bytes per datu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 twelfth column gives the path (and filename prefix) of tiles for the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of Current 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working SI was available in Nov/Dec of 2000. It was designed for the height coordinate WR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s added lat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co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M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data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B2 (most recent add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M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 for New 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urrent SI has served the WRF community well in the past 5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WRF development progresses, we see the needs to reevaluate S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SI meet the future requirement of the WRF commun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grid computation / data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 for New 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issues with current S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easy to input a new static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easy to adapt to a new sol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easy to ingest speci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scale well for large model dom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have parallel computing cap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flexibility and friendl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New 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write of program component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ridgen_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proved degribber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proved horizontal interpolation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ing functionality of vertical interpolation to WRF / re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ing user friendliness 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SI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3048120"/>
            <a:ext cx="205740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idgen_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4343400"/>
            <a:ext cx="160020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ib_pr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19520" y="3809880"/>
            <a:ext cx="1371600" cy="609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nte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48320" y="3809880"/>
            <a:ext cx="1447560" cy="609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inte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6576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209680" y="419112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09680" y="3352680"/>
            <a:ext cx="2895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81680" y="3733920"/>
            <a:ext cx="1752840" cy="6858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5880" y="41148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911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53400" y="1843200"/>
            <a:ext cx="40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 Program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SI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3048120"/>
            <a:ext cx="243864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ridgen_model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4343400"/>
            <a:ext cx="182880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rib_prep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00400" y="3809880"/>
            <a:ext cx="1600200" cy="609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interp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90920" y="3276720"/>
            <a:ext cx="609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133720" y="4114800"/>
            <a:ext cx="10666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38680" y="3352680"/>
            <a:ext cx="2895840" cy="1447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real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411480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54480" y="1843200"/>
            <a:ext cx="49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w SI Program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sed New SI Functiona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rite ‘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ridgen_model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 user interface for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input efficiency for 30 sec data; provide a lower resolution dataset (probably about 5 minu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computational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I/O: conforming to WRF I/O 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c data provided on solver-specific grid (C and E gr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6T21:22:11Z</dcterms:created>
  <dc:creator>weiwang</dc:creator>
  <dc:description/>
  <dc:language>en-US</dc:language>
  <cp:lastModifiedBy>weiwang</cp:lastModifiedBy>
  <dcterms:modified xsi:type="dcterms:W3CDTF">2005-09-14T01:29:07Z</dcterms:modified>
  <cp:revision>54</cp:revision>
  <dc:subject/>
  <dc:title>Updates on  WRF Pre- and Post-Processing Programs</dc:title>
</cp:coreProperties>
</file>