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0BB-9152-430B-99C3-B250872B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113-A53B-4A29-BF4E-B954268F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6DE-024F-4037-8DE8-8E3F8334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77E-E9DC-42D7-8B4F-57D9D14F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CE7-7373-4E20-B802-4D2F9965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7D6-6D8E-4949-B5C7-06040912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11D9-D028-49B4-9EE4-1EBDD083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A26-B9CC-4DFD-97D9-B2AA00A6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A0D-D135-4E1A-81D7-CDF550A0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917-8337-4F93-8ED6-01226198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BF3-06E0-4A0A-A72F-9D408B32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D123-5E77-4DD2-AEE1-64B63667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978D-33C6-408A-9816-B697C9178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view of WRFSI Upgrades and Enhancement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June 2002-June 20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Smart, Brent Shaw, Paula McCaslin and Brian Jam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AA/F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ement of Work  - FY0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Add remaining land state fields to WRFSI including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Max snow albedo: fractional discontinuous 1deg global (Feb/March 2003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Terrain slope categories: 1 deg global (March 2003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Max/min greenness fraction: computed from existing global .144 deg 12 month greenness fraction (April 2003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1000" y="1371600"/>
            <a:ext cx="802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Coordinate with NCEP/NCAR/AFWA to add model background  land states for consistent soil moisture, ground temp, frozen soil, etc. (Spring 2003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 Further develop GUI for initial software relea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une 2003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 Enhance "ease of use" capabilities (Oct 2002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 Develop nesting capability (in progres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 Evaluate MODIS data as optional global land use data set (Summer 2003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 Prepare software tarfile for June 2003 tutorial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ding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WA (100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AA  ( 75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A     ( 25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600" y="571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e beta-release software tarfile for initial Noah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22360" y="21715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Prepare remaining land states data for ingest by gridgen model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Develop gridgen model software to ingest remaining land states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Add new land states to hinterp (pass through to WRF-L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Develop GUI; installation procedure; platform porting; graphics; and so fo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New tarfile is now released with all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www.wrf-model.org/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Add other land states (SST climatolog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Make localization software more efficient (parall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Enhancements to GU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dd wrf.nl ed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dditional graphics: display SI meteor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dd analysis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art</cp:lastModifiedBy>
  <dcterms:modified xsi:type="dcterms:W3CDTF">2003-06-18T13:35:49Z</dcterms:modified>
  <cp:revision>4</cp:revision>
  <dc:subject/>
  <dc:title>PowerPoint Presentation</dc:title>
</cp:coreProperties>
</file>