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25E-A441-4E68-BD74-9BC09F63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46E-CD02-48DA-A3EC-8514CB2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DE9-5EB4-48CF-92F8-F7B2F177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5A6-415B-4DA2-B24A-FE112AB6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B30-47CB-4B9F-A024-24738FF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389-6C46-4C62-B77E-B848332D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A6B-9069-4430-A088-1DCD2AD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AE3-B040-4031-BD36-3B0E3BE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82C-F803-4989-B607-5675E85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FAC-F7BD-40C0-93BF-B7D279A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382-DBC8-4DCF-8F99-2D951DC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D6D-7A51-44FD-A56B-7372410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34C-1B23-4297-B47F-A0B7D5AE4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urrent and Future Initializ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RF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73720" y="2286000"/>
            <a:ext cx="19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EP/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5640480"/>
            <a:ext cx="106668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95840" y="5630760"/>
            <a:ext cx="130464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7120" y="5695920"/>
            <a:ext cx="924120" cy="9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9520" y="376704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F Land Working Group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8 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xpanding LSM-related content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 NCEP Eta/EDAS/NLDAS GRIB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and states at all soil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d liquid soil moi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and physical snow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use class and 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vegetation and soil parameter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est neighbor interpolation from native grid to chosen output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LSM Issues for WRF 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land-use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wo soil-class fields to 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ame external source as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flag for source of WRF land-use and soil class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=Default, False=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label indicating source of input l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EDAS, AGRMET, NLDAS, RUC, HRL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Multiple GRIB tables employed in GRIB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GRIB Tables 2, 129 (cloud micro), 130 (land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ABLE: How handle new GRIB grid nu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EP Eta output grid #’s 110, 218, 221 (drop 212 as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ation Requirements for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nified Noah LSM in NCEP Eta and WRF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gnostic 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moisture (liquid and frozen)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temperature: 10, 30, 60, 10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owpack: actual and water-equivalen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py water content: intercepted precip, d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Surfac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-use class (e.g vegetation, ur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phenology (seasonal cycle of green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getation and soil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WRF or Eta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a or WRF model has its 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ly cycled data assimilation system with 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SM physics, soil layers, grid, terrain, land mask, fixed fields of land use and soil class, physica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pled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DA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GD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land surface forcing from parent atmosphere model (may include precipitation assimi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coupled (NLDAS/GLDA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cipitation and solar insolation forcing are from non-mode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SM Initialization Philosophy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alternative when continuous cycling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F or Eta executed on a domain different from cycled WRF or Eta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 runs as coarser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ra high resolution: dispers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meso model runs: field offices, lab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land states, land-use map, soil map, parameters from most-similar fully cycled land data assimilation syst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SM, same soi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arest neighbor interpolation to obtain land states, land-use map, soil class map and apply same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ptchart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56272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4343400"/>
            <a:ext cx="70102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recast period between the analysis steps of the 12h pre-forecast data assimilation period, at each time step and at each point where observed precipitation is available, we comp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modify the model’s temperature, moisture, cloud and rain field to be more consistent with observed precipi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AS: Eta/Noah, 12-k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precip assimi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676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forecast data assimilation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 forecas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ta_rean_3245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73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elvetica Narrow"/>
              </a:rPr>
              <a:t>Interannual variability of North American Monsoon - </a:t>
            </a:r>
            <a:r>
              <a:rPr b="1" lang="en-US" sz="2200" spc="-1" strike="noStrike">
                <a:solidFill>
                  <a:srgbClr val="cc3300"/>
                </a:solidFill>
                <a:latin typeface="Helvetica Narrow"/>
              </a:rPr>
              <a:t>interior South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3124080" y="533520"/>
            <a:ext cx="313236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533520"/>
            <a:ext cx="3112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09480" y="1905120"/>
            <a:ext cx="1663920" cy="787320"/>
            <a:chOff x="609480" y="1905120"/>
            <a:chExt cx="1663920" cy="787320"/>
          </a:xfrm>
        </p:grpSpPr>
        <p:sp>
          <p:nvSpPr>
            <p:cNvPr id="67" name=""/>
            <p:cNvSpPr/>
            <p:nvPr/>
          </p:nvSpPr>
          <p:spPr>
            <a:xfrm>
              <a:off x="1600200" y="2286000"/>
              <a:ext cx="67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3333cc"/>
                  </a:solidFill>
                  <a:latin typeface="Helvetica Narrow"/>
                </a:rPr>
                <a:t>mois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480" y="1905120"/>
              <a:ext cx="10670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38080" y="6029280"/>
            <a:ext cx="8031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8600"/>
            <a:ext cx="14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0040"/>
            <a:ext cx="1401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Helvetica Narrow"/>
              </a:rPr>
              <a:t>July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32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20010731_30day" descr=""/>
          <p:cNvPicPr/>
          <p:nvPr/>
        </p:nvPicPr>
        <p:blipFill>
          <a:blip r:embed="rId3"/>
          <a:srcRect l="1295" t="6556" r="59291" b="60538"/>
          <a:stretch/>
        </p:blipFill>
        <p:spPr>
          <a:xfrm>
            <a:off x="6248520" y="533520"/>
            <a:ext cx="289548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60520" y="4649760"/>
            <a:ext cx="209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8400" y="5592600"/>
            <a:ext cx="179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88840" y="528804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44520" y="4876920"/>
            <a:ext cx="20808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0" t="6923" r="0" b="0"/>
          <a:stretch/>
        </p:blipFill>
        <p:spPr>
          <a:xfrm>
            <a:off x="0" y="4648320"/>
            <a:ext cx="29480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4040" y="6629400"/>
            <a:ext cx="2473200" cy="165240"/>
            <a:chOff x="284040" y="6629400"/>
            <a:chExt cx="2473200" cy="165240"/>
          </a:xfrm>
        </p:grpSpPr>
        <p:sp>
          <p:nvSpPr>
            <p:cNvPr id="80" name=""/>
            <p:cNvSpPr/>
            <p:nvPr/>
          </p:nvSpPr>
          <p:spPr>
            <a:xfrm>
              <a:off x="28404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696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572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756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5384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61800" y="4732200"/>
            <a:ext cx="2403360" cy="135000"/>
            <a:chOff x="361800" y="4732200"/>
            <a:chExt cx="2403360" cy="135000"/>
          </a:xfrm>
        </p:grpSpPr>
        <p:sp>
          <p:nvSpPr>
            <p:cNvPr id="86" name=""/>
            <p:cNvSpPr/>
            <p:nvPr/>
          </p:nvSpPr>
          <p:spPr>
            <a:xfrm>
              <a:off x="2458080" y="4732200"/>
              <a:ext cx="307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29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1800" y="4830840"/>
              <a:ext cx="2091960" cy="0"/>
              <a:chOff x="361800" y="4830840"/>
              <a:chExt cx="2091960" cy="0"/>
            </a:xfrm>
          </p:grpSpPr>
          <p:sp>
            <p:nvSpPr>
              <p:cNvPr id="88" name=""/>
              <p:cNvSpPr/>
              <p:nvPr/>
            </p:nvSpPr>
            <p:spPr>
              <a:xfrm>
                <a:off x="2211840" y="4830840"/>
                <a:ext cx="241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82880" y="4830840"/>
                <a:ext cx="826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1800" y="4830840"/>
                <a:ext cx="4550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 rot="10800000">
            <a:off x="29880" y="5002200"/>
            <a:ext cx="10620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4648320"/>
            <a:ext cx="201600" cy="1915560"/>
            <a:chOff x="0" y="4648320"/>
            <a:chExt cx="201600" cy="1915560"/>
          </a:xfrm>
        </p:grpSpPr>
        <p:sp>
          <p:nvSpPr>
            <p:cNvPr id="93" name=""/>
            <p:cNvSpPr/>
            <p:nvPr/>
          </p:nvSpPr>
          <p:spPr>
            <a:xfrm>
              <a:off x="7560" y="6397560"/>
              <a:ext cx="1936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21320"/>
              <a:ext cx="2001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648320"/>
              <a:ext cx="201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10800000">
            <a:off x="2900520" y="5013000"/>
            <a:ext cx="110880" cy="4395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191120"/>
            <a:ext cx="1612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rcRect l="0" t="6923" r="0" b="0"/>
          <a:stretch/>
        </p:blipFill>
        <p:spPr>
          <a:xfrm>
            <a:off x="2895480" y="4656240"/>
            <a:ext cx="3049560" cy="20494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971800" y="4800600"/>
            <a:ext cx="208080" cy="1736640"/>
            <a:chOff x="2971800" y="4800600"/>
            <a:chExt cx="208080" cy="1736640"/>
          </a:xfrm>
        </p:grpSpPr>
        <p:sp>
          <p:nvSpPr>
            <p:cNvPr id="100" name=""/>
            <p:cNvSpPr/>
            <p:nvPr/>
          </p:nvSpPr>
          <p:spPr>
            <a:xfrm>
              <a:off x="2971800" y="6370560"/>
              <a:ext cx="198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5587920"/>
              <a:ext cx="2080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4800600"/>
              <a:ext cx="20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00400" y="6629400"/>
            <a:ext cx="2558520" cy="165240"/>
            <a:chOff x="3200400" y="6629400"/>
            <a:chExt cx="2558520" cy="165240"/>
          </a:xfrm>
        </p:grpSpPr>
        <p:sp>
          <p:nvSpPr>
            <p:cNvPr id="104" name=""/>
            <p:cNvSpPr/>
            <p:nvPr/>
          </p:nvSpPr>
          <p:spPr>
            <a:xfrm>
              <a:off x="3200400" y="6629400"/>
              <a:ext cx="207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75080" y="6629400"/>
              <a:ext cx="2088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1880" y="6629400"/>
              <a:ext cx="198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615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50120" y="6629400"/>
              <a:ext cx="208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43400" y="4898880"/>
            <a:ext cx="214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o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661000"/>
            <a:ext cx="182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Helvetica-Narrow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09880" y="5389560"/>
            <a:ext cx="217440" cy="249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21280" y="5084280"/>
            <a:ext cx="217440" cy="24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91440" y="4267080"/>
            <a:ext cx="314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562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2M_12_diurnal_JUL2001_SMT_Eta" descr=""/>
          <p:cNvPicPr/>
          <p:nvPr/>
        </p:nvPicPr>
        <p:blipFill>
          <a:blip r:embed="rId6"/>
          <a:srcRect l="0" t="6812" r="0" b="0"/>
          <a:stretch/>
        </p:blipFill>
        <p:spPr>
          <a:xfrm>
            <a:off x="6095880" y="4648320"/>
            <a:ext cx="28958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400800" y="4822920"/>
            <a:ext cx="2165040" cy="0"/>
            <a:chOff x="6400800" y="4822920"/>
            <a:chExt cx="2165040" cy="0"/>
          </a:xfrm>
        </p:grpSpPr>
        <p:sp>
          <p:nvSpPr>
            <p:cNvPr id="116" name=""/>
            <p:cNvSpPr/>
            <p:nvPr/>
          </p:nvSpPr>
          <p:spPr>
            <a:xfrm>
              <a:off x="8315640" y="4822920"/>
              <a:ext cx="2502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360" y="4822920"/>
              <a:ext cx="856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822920"/>
              <a:ext cx="471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023600" y="1522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f00"/>
                </a:solidFill>
                <a:latin typeface="Helvetica Narrow"/>
              </a:rPr>
              <a:t>Jul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33920" y="1828800"/>
            <a:ext cx="1384200" cy="969840"/>
            <a:chOff x="3733920" y="1828800"/>
            <a:chExt cx="1384200" cy="969840"/>
          </a:xfrm>
        </p:grpSpPr>
        <p:sp>
          <p:nvSpPr>
            <p:cNvPr id="121" name=""/>
            <p:cNvSpPr/>
            <p:nvPr/>
          </p:nvSpPr>
          <p:spPr>
            <a:xfrm>
              <a:off x="4724280" y="2286000"/>
              <a:ext cx="393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700" spc="-1" strike="noStrike">
                  <a:solidFill>
                    <a:srgbClr val="cc3300"/>
                  </a:solidFill>
                  <a:latin typeface="Helvetica Narrow"/>
                </a:rPr>
                <a:t>d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1828800"/>
              <a:ext cx="1066680" cy="60948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737480" y="2230560"/>
            <a:ext cx="380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Helvetica Narrow"/>
              </a:rPr>
              <a:t>semi-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0640" y="1828800"/>
            <a:ext cx="103176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4724280"/>
            <a:ext cx="2485440" cy="133200"/>
            <a:chOff x="3276720" y="4724280"/>
            <a:chExt cx="2485440" cy="133200"/>
          </a:xfrm>
        </p:grpSpPr>
        <p:sp>
          <p:nvSpPr>
            <p:cNvPr id="126" name=""/>
            <p:cNvSpPr/>
            <p:nvPr/>
          </p:nvSpPr>
          <p:spPr>
            <a:xfrm>
              <a:off x="5447520" y="4724280"/>
              <a:ext cx="314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562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Helvetica-Narrow"/>
                </a:rPr>
                <a:t>33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76720" y="4822560"/>
              <a:ext cx="2165040" cy="0"/>
              <a:chOff x="3276720" y="4822560"/>
              <a:chExt cx="2165040" cy="0"/>
            </a:xfrm>
          </p:grpSpPr>
          <p:sp>
            <p:nvSpPr>
              <p:cNvPr id="128" name=""/>
              <p:cNvSpPr/>
              <p:nvPr/>
            </p:nvSpPr>
            <p:spPr>
              <a:xfrm>
                <a:off x="5191560" y="4822560"/>
                <a:ext cx="250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22280" y="4822560"/>
                <a:ext cx="856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4822560"/>
                <a:ext cx="471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400200" y="61722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Eta forecast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03560" y="46483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elvetica-Narrow"/>
              </a:rPr>
              <a:t>3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77120" y="6629400"/>
            <a:ext cx="2472840" cy="165240"/>
            <a:chOff x="6477120" y="6629400"/>
            <a:chExt cx="2472840" cy="165240"/>
          </a:xfrm>
        </p:grpSpPr>
        <p:sp>
          <p:nvSpPr>
            <p:cNvPr id="134" name=""/>
            <p:cNvSpPr/>
            <p:nvPr/>
          </p:nvSpPr>
          <p:spPr>
            <a:xfrm>
              <a:off x="6477120" y="6629400"/>
              <a:ext cx="2005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9680" y="6629400"/>
              <a:ext cx="2030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800" y="6629400"/>
              <a:ext cx="1911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80280" y="6629400"/>
              <a:ext cx="201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46560" y="6629400"/>
              <a:ext cx="203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16760" y="4816440"/>
            <a:ext cx="207720" cy="1736640"/>
            <a:chOff x="6116760" y="4816440"/>
            <a:chExt cx="207720" cy="1736640"/>
          </a:xfrm>
        </p:grpSpPr>
        <p:sp>
          <p:nvSpPr>
            <p:cNvPr id="140" name=""/>
            <p:cNvSpPr/>
            <p:nvPr/>
          </p:nvSpPr>
          <p:spPr>
            <a:xfrm>
              <a:off x="6116760" y="6386400"/>
              <a:ext cx="198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6760" y="5603760"/>
              <a:ext cx="207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760" y="4816440"/>
              <a:ext cx="204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Helvetica-Narro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52280" y="2666880"/>
            <a:ext cx="2551320" cy="1933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1080" y="3989520"/>
            <a:ext cx="93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Moist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5400" y="3798720"/>
            <a:ext cx="284040" cy="19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61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55132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399240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Dry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Helvetica-Narrow"/>
              </a:rPr>
              <a:t>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01800" y="3809880"/>
            <a:ext cx="28404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vsm2.2001073112" descr=""/>
          <p:cNvPicPr/>
          <p:nvPr/>
        </p:nvPicPr>
        <p:blipFill>
          <a:blip r:embed="rId9"/>
          <a:stretch/>
        </p:blipFill>
        <p:spPr>
          <a:xfrm>
            <a:off x="6248520" y="2590920"/>
            <a:ext cx="2666880" cy="206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135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948120"/>
            <a:ext cx="939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emi-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-Narrow"/>
              </a:rPr>
              <a:t>soil in 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37240" y="3809880"/>
            <a:ext cx="284400" cy="195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ources of Noah Land State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2-km Eta/Noah (4 soil layers: 10, 30, 60, 10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AS: 1-deg GFS/OSU (2 soil layers: 10, 190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ed cycled LDA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: 1948- 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Reanalysis II: 1979-present (GDAS: 2.5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gional Re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979-2004 (EDAS: 32-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upled cycled LDAS: Realtime parall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L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. American Land Data Assimila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8-deg, CONUS grid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DAS: Global Land Data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-deg, Noah LSM, 4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 spearhe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itializing 8-km WRF/Noah runs at NC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12-km 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s same Noah LSM as 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 use same Noah LSM paramet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States from nearest neighbor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-class and soil class from nearest neigh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temperature profile adjusted for terrain height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soil moisture adjusted if soil temperature adj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om 8-km NLDAS executing on WRF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0:48:51Z</dcterms:created>
  <dc:creator>M. EK</dc:creator>
  <dc:description/>
  <dc:language>en-US</dc:language>
  <cp:lastModifiedBy>kemitchell</cp:lastModifiedBy>
  <dcterms:modified xsi:type="dcterms:W3CDTF">2003-07-02T16:55:47Z</dcterms:modified>
  <cp:revision>10</cp:revision>
  <dc:subject/>
  <dc:title>PowerPoint Presentation</dc:title>
</cp:coreProperties>
</file>