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C6F-BBBC-43BD-B15A-F9F889EB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5B3-11A4-47F8-85C3-28968C72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590-F3F9-4508-8D93-9B453FA9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508-DED3-4836-99F0-A01A5C67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6058-F717-4515-A910-B44E6C31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8F27-24E7-4B92-813A-AAECA230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59E2-76F3-419E-BFE6-69DE2559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0D05-5321-418B-B1B5-F28EB4BF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0258-613C-4960-B9E2-4793A0B2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91F2-428B-4AC8-BE90-E583AD56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4772-1F20-4633-AB67-35F80676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2A0-5187-46F2-94D6-2706C0BA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8DF5-D450-437A-9CB9-5E211BDD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3A52-6A2C-4465-A0C3-590AEEC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1FB2-0805-40E5-AAAA-121CFC76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2529-AF7B-4E3C-AEB7-FC022FD9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E771-DE81-4D06-B470-52F95B47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C7C-5A59-4679-B4C8-33AEF31E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F89-9E5C-4A62-9AE4-C487B522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1AF-6501-4C1F-9FF4-AE41EBB4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E30-5A9F-499A-ACE6-211FB57C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169-99D2-4A37-98ED-FCD94A2D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FA1-5AB1-4A0D-8671-EE02C5FD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416-D2B3-490E-B8F4-67110A05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BB33-10E5-4138-B8BA-E73BF667B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C8D1-ECB1-466F-B528-58C4C63D3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c.fsl.noaa.gov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zmoroz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915400" cy="593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2819520"/>
            <a:ext cx="89154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Unicode MS"/>
              </a:rPr>
              <a:t>RUC Land Surface Model implementation in WRF</a:t>
            </a: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Tanya Smirnova, WRFLSM Workshop, 18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0C0-F7C7-4840-8FB1-7608AE6156A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0"/>
            <a:ext cx="883944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Physics options used in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WRFRUC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 at FS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CEP 5-class microphysics scheme (option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RTM longwave radiation (option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udhia shortwave radiation (option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llor-Yamada-Janjic Monin-Obukhov surfa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er (option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RUC land-surface model (option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llor-Yamada-Janjic TKE scheme (option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Kain-Fritsch (for CONUS) and Betts-Miller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njic (for TAQ) cumulus parameteriz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option 1, 2) as of May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E55-A6F0-4DF6-9291-4F23105A52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ucvgmdl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5943600" cy="4754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5867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Schematic presentation of processes included into RUC-LSM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562720"/>
            <a:ext cx="8915400" cy="1130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6 levels in soil – 0, 5, 20, 40, 160, 300 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State variables 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volumetric soil moisture, soil temperature, snow  cover/depth/temperature  - cycled in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RUC 1h cycle since 1997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20574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BA5-6944-414E-BA62-CF450F32B5E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6440" y="31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4920"/>
            <a:ext cx="9144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RFRUC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initialization need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RF S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Brent Shaw)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native RUC vertical coordinate rather tha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baric levels to provide initial fields of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mospheric variables including hydrometeor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vapor, cloud, ice, rain, snow, grau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4648320"/>
            <a:ext cx="87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most recent official release of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RF S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ncludes all these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075-C38B-4FA4-8F44-ED3D05E98D4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62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anges for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RFRUC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initialization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to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REAL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Dave Gi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modate for level structure in RUC soil doma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 through hydrometeor fie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Further changes needed to pass through from SI to WRF model other land-surface related variables such as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fields for snow tempera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w dens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 vapor mixing ratio at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quid volumetric soil moisture and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5C5-C0B6-40E7-96C1-74540B04115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304920"/>
            <a:ext cx="8763120" cy="71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WRFRUC LSM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 and vegetation parameters, vegetation    fraction and albedo provided by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RF 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cled soil temperature and moisture from RUC2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(RUC and WRFRUC use the same LSM, land-use and soil classifications, and the same parameter tab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cled snow depth and temperature from 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e in soil is initialized in W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mospheric forcing is provided by WRF. Still need from WRF modeling frame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precipitation type (solid versus liqu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tion in surface driver for implicit solution of energy and moisture bud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01D-A208-46D1-BECF-95AA68C8CE1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uc20_vegtyp" descr=""/>
          <p:cNvPicPr/>
          <p:nvPr/>
        </p:nvPicPr>
        <p:blipFill>
          <a:blip r:embed="rId1"/>
          <a:srcRect l="50007" t="21752" r="2631" b="33770"/>
          <a:stretch/>
        </p:blipFill>
        <p:spPr>
          <a:xfrm>
            <a:off x="0" y="685800"/>
            <a:ext cx="4495680" cy="3890880"/>
          </a:xfrm>
          <a:prstGeom prst="rect">
            <a:avLst/>
          </a:prstGeom>
          <a:ln w="0">
            <a:noFill/>
          </a:ln>
        </p:spPr>
      </p:pic>
      <p:pic>
        <p:nvPicPr>
          <p:cNvPr id="136" name="wrf10_vegtyp" descr=""/>
          <p:cNvPicPr/>
          <p:nvPr/>
        </p:nvPicPr>
        <p:blipFill>
          <a:blip r:embed="rId2"/>
          <a:srcRect l="1890" t="0" r="3662" b="0"/>
          <a:stretch/>
        </p:blipFill>
        <p:spPr>
          <a:xfrm>
            <a:off x="4575240" y="1676520"/>
            <a:ext cx="4568760" cy="5181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01800" y="179280"/>
            <a:ext cx="426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Vegetation types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provided by WRF 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(24 USGS cla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46600" y="380988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63680" y="541008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F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7080" y="4800600"/>
            <a:ext cx="383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-use paramet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ghness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iss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o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1FE-89D4-4114-851B-DF065D6537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uc20_soiltex" descr=""/>
          <p:cNvPicPr/>
          <p:nvPr/>
        </p:nvPicPr>
        <p:blipFill>
          <a:blip r:embed="rId1"/>
          <a:srcRect l="49104" t="0" r="0" b="38492"/>
          <a:stretch/>
        </p:blipFill>
        <p:spPr>
          <a:xfrm>
            <a:off x="152280" y="228600"/>
            <a:ext cx="4303800" cy="4724280"/>
          </a:xfrm>
          <a:prstGeom prst="rect">
            <a:avLst/>
          </a:prstGeom>
          <a:ln w="0">
            <a:noFill/>
          </a:ln>
        </p:spPr>
      </p:pic>
      <p:pic>
        <p:nvPicPr>
          <p:cNvPr id="142" name="wrf10_soiltex" descr=""/>
          <p:cNvPicPr/>
          <p:nvPr/>
        </p:nvPicPr>
        <p:blipFill>
          <a:blip r:embed="rId2"/>
          <a:srcRect l="2822" t="0" r="3814" b="0"/>
          <a:stretch/>
        </p:blipFill>
        <p:spPr>
          <a:xfrm>
            <a:off x="4648320" y="1752480"/>
            <a:ext cx="4303440" cy="5105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641680" y="39625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08240" y="53341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RF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1280" y="84240"/>
            <a:ext cx="436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oil types –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oth provided by WRF 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(16 cla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2920" y="541008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 parameters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-up 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960-C293-414A-895B-247E1363A6F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uc20_smc_17june" descr=""/>
          <p:cNvPicPr/>
          <p:nvPr/>
        </p:nvPicPr>
        <p:blipFill>
          <a:blip r:embed="rId1"/>
          <a:srcRect l="50050" t="0" r="0" b="40599"/>
          <a:stretch/>
        </p:blipFill>
        <p:spPr>
          <a:xfrm>
            <a:off x="93600" y="152280"/>
            <a:ext cx="4378320" cy="4953240"/>
          </a:xfrm>
          <a:prstGeom prst="rect">
            <a:avLst/>
          </a:prstGeom>
          <a:ln w="0">
            <a:noFill/>
          </a:ln>
        </p:spPr>
      </p:pic>
      <p:pic>
        <p:nvPicPr>
          <p:cNvPr id="148" name="wrf10_smc_17june" descr=""/>
          <p:cNvPicPr/>
          <p:nvPr/>
        </p:nvPicPr>
        <p:blipFill>
          <a:blip r:embed="rId2"/>
          <a:stretch/>
        </p:blipFill>
        <p:spPr>
          <a:xfrm>
            <a:off x="4533840" y="1533600"/>
            <a:ext cx="4610160" cy="532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87480" y="0"/>
            <a:ext cx="431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oil moistur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 00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22920" y="449568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84200" y="53341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F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DF0-517D-44D3-8E21-9CBAE8EBE0D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aq-wrf-topo" descr=""/>
          <p:cNvPicPr/>
          <p:nvPr/>
        </p:nvPicPr>
        <p:blipFill>
          <a:blip r:embed="rId1"/>
          <a:srcRect l="8913" t="10331" r="7496" b="4661"/>
          <a:stretch/>
        </p:blipFill>
        <p:spPr>
          <a:xfrm>
            <a:off x="3738600" y="0"/>
            <a:ext cx="517212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2160" y="457200"/>
            <a:ext cx="1995480" cy="2286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Q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20kmtopo" descr=""/>
          <p:cNvPicPr/>
          <p:nvPr/>
        </p:nvPicPr>
        <p:blipFill>
          <a:blip r:embed="rId2"/>
          <a:srcRect l="4399" t="15602" r="3598" b="9199"/>
          <a:stretch/>
        </p:blipFill>
        <p:spPr>
          <a:xfrm>
            <a:off x="0" y="2706840"/>
            <a:ext cx="4800600" cy="3924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3400" y="563868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7F2-647F-445C-8651-A17710FAF0A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uc20_sfctem_17june" descr=""/>
          <p:cNvPicPr/>
          <p:nvPr/>
        </p:nvPicPr>
        <p:blipFill>
          <a:blip r:embed="rId1"/>
          <a:srcRect l="55362" t="15965" r="2677" b="39907"/>
          <a:stretch/>
        </p:blipFill>
        <p:spPr>
          <a:xfrm>
            <a:off x="228600" y="8380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57" name="wrf20_sfctgem_17june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676760" cy="54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29280" y="160200"/>
            <a:ext cx="4257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urface tempera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, 17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22720" y="50292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RUC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05120" y="4800240"/>
            <a:ext cx="0" cy="3049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390-000D-4087-B2E0-9D4F01C9585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oil_atm2" descr=""/>
          <p:cNvPicPr/>
          <p:nvPr/>
        </p:nvPicPr>
        <p:blipFill>
          <a:blip r:embed="rId1"/>
          <a:srcRect l="16218" t="0" r="0" b="0"/>
          <a:stretch/>
        </p:blipFill>
        <p:spPr>
          <a:xfrm>
            <a:off x="457200" y="609480"/>
            <a:ext cx="8381880" cy="5340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2120" y="8380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Part 1:  Current and Future 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 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Initialization of WRF 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Land States at FS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F95-C2F3-4CB2-9D14-FEB2FAA0844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soil_atm3" descr=""/>
          <p:cNvPicPr/>
          <p:nvPr/>
        </p:nvPicPr>
        <p:blipFill>
          <a:blip r:embed="rId1"/>
          <a:srcRect l="0" t="0" r="27046" b="0"/>
          <a:stretch/>
        </p:blipFill>
        <p:spPr>
          <a:xfrm>
            <a:off x="457200" y="304920"/>
            <a:ext cx="8381880" cy="6134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08040" y="2952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9907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Part 2:  Evaluation of LSM </a:t>
            </a: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perform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C60-B251-485B-A5B1-D4A27FA2922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28600"/>
            <a:ext cx="9144000" cy="65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C LSM participated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Project for the Intercomparison of Land-Surface  </a:t>
            </a: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Parameterization Schemes 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(PILPS)</a:t>
            </a: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 - Phase 2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Snow Models Intercomparison Project 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(SNOWMIP)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– Phase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C LSM is implemented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perational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RUC20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t NC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eal-time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RUC20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t FSL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CD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MM5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hemistry package (Georg Grell) used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- air quality pre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- regional climate simulations (FSL, Germany, Israel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WRF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4DA-F059-4227-B035-EF298553FC3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d 1-d (PILPS 2d – Valdai, Russia)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tal runof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now water equivale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ecasts with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improved snow and soil physi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MAPS land-surfac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1400" y="3516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5800" y="12952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run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7000" y="396252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w water equival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swevald_76-77" descr=""/>
          <p:cNvPicPr/>
          <p:nvPr/>
        </p:nvPicPr>
        <p:blipFill>
          <a:blip r:embed="rId1"/>
          <a:stretch/>
        </p:blipFill>
        <p:spPr>
          <a:xfrm>
            <a:off x="0" y="4432320"/>
            <a:ext cx="4876920" cy="2244600"/>
          </a:xfrm>
          <a:prstGeom prst="rect">
            <a:avLst/>
          </a:prstGeom>
          <a:ln w="0">
            <a:noFill/>
          </a:ln>
        </p:spPr>
      </p:pic>
      <p:pic>
        <p:nvPicPr>
          <p:cNvPr id="170" name="rffvald_76-77" descr=""/>
          <p:cNvPicPr/>
          <p:nvPr/>
        </p:nvPicPr>
        <p:blipFill>
          <a:blip r:embed="rId2"/>
          <a:stretch/>
        </p:blipFill>
        <p:spPr>
          <a:xfrm>
            <a:off x="0" y="1782720"/>
            <a:ext cx="4876920" cy="2257560"/>
          </a:xfrm>
          <a:prstGeom prst="rect">
            <a:avLst/>
          </a:prstGeom>
          <a:ln w="0">
            <a:noFill/>
          </a:ln>
        </p:spPr>
      </p:pic>
      <p:pic>
        <p:nvPicPr>
          <p:cNvPr id="171" name="tsfcvald_76-77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4572000" cy="2124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12840" y="297180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n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920" y="182880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1976 - May 197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0DA-0677-4287-BE12-094C6CF6364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valdai_melt" descr=""/>
          <p:cNvPicPr/>
          <p:nvPr/>
        </p:nvPicPr>
        <p:blipFill>
          <a:blip r:embed="rId1"/>
          <a:srcRect l="0" t="32477" r="0" b="0"/>
          <a:stretch/>
        </p:blipFill>
        <p:spPr>
          <a:xfrm>
            <a:off x="457200" y="1143000"/>
            <a:ext cx="5257800" cy="503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" y="152280"/>
            <a:ext cx="8381880" cy="825480"/>
          </a:xfrm>
          <a:prstGeom prst="rect">
            <a:avLst/>
          </a:prstGeom>
          <a:noFill/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Effects of frozen soil physics on the simulation of the melting seasons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ldai, Russia (1966-198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27760" y="1717560"/>
            <a:ext cx="32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s when snow ablation st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434340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s when snow pack is all mel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6248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(Smirnova et al., JGR (2000)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105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, 4077-408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E37-94FD-4378-BF40-0D4F4B8F9BB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fig_snowmip_paper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47000" cy="4768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17000" y="228600"/>
            <a:ext cx="87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WMIP, an intercomparison of snow models: fir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. Etchevers, E. Martin, R. Brown et 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W meeting, August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14800" y="5105160"/>
            <a:ext cx="0" cy="5331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3886200"/>
            <a:ext cx="228600" cy="8380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BDC-8377-43EE-A9DB-7623B863FD5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snd_RUC_NCEP_00" descr=""/>
          <p:cNvPicPr/>
          <p:nvPr/>
        </p:nvPicPr>
        <p:blipFill>
          <a:blip r:embed="rId1"/>
          <a:srcRect l="0" t="0" r="0" b="29901"/>
          <a:stretch/>
        </p:blipFill>
        <p:spPr>
          <a:xfrm>
            <a:off x="3962520" y="3200400"/>
            <a:ext cx="5181480" cy="3454560"/>
          </a:xfrm>
          <a:prstGeom prst="rect">
            <a:avLst/>
          </a:prstGeom>
          <a:ln w="0">
            <a:noFill/>
          </a:ln>
        </p:spPr>
      </p:pic>
      <p:pic>
        <p:nvPicPr>
          <p:cNvPr id="184" name="syn_snow_ste_03008new" descr=""/>
          <p:cNvPicPr/>
          <p:nvPr/>
        </p:nvPicPr>
        <p:blipFill>
          <a:blip r:embed="rId2"/>
          <a:srcRect l="25915" t="44333" r="23792" b="7496"/>
          <a:stretch/>
        </p:blipFill>
        <p:spPr>
          <a:xfrm>
            <a:off x="304920" y="3657600"/>
            <a:ext cx="4190760" cy="3011400"/>
          </a:xfrm>
          <a:prstGeom prst="rect">
            <a:avLst/>
          </a:prstGeom>
          <a:ln w="0">
            <a:noFill/>
          </a:ln>
        </p:spPr>
      </p:pic>
      <p:pic>
        <p:nvPicPr>
          <p:cNvPr id="185" name="syn_snow_ste_03007)new" descr=""/>
          <p:cNvPicPr/>
          <p:nvPr/>
        </p:nvPicPr>
        <p:blipFill>
          <a:blip r:embed="rId3"/>
          <a:srcRect l="26624" t="45278" r="22372" b="7727"/>
          <a:stretch/>
        </p:blipFill>
        <p:spPr>
          <a:xfrm>
            <a:off x="380880" y="152280"/>
            <a:ext cx="4191120" cy="2895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25680" y="320040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SDIS daily snow c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02280" y="259704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7 January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78600" y="617868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8 January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27680" y="533520"/>
            <a:ext cx="3946680" cy="21060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ycled field of snow dep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rom operational RUC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t NC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ahoma"/>
              </a:rPr>
              <a:t>Valid at 2100 UT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ahoma"/>
              </a:rPr>
              <a:t>8 January 200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56960" y="609588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8 January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108-AB96-4FDE-B894-EE6D254A5AC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ad_us-12" descr=""/>
          <p:cNvPicPr/>
          <p:nvPr/>
        </p:nvPicPr>
        <p:blipFill>
          <a:blip r:embed="rId1"/>
          <a:srcRect l="48469" t="18636" r="0" b="13379"/>
          <a:stretch/>
        </p:blipFill>
        <p:spPr>
          <a:xfrm>
            <a:off x="2514600" y="3429000"/>
            <a:ext cx="359712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ruc-12h_pcpn" descr=""/>
          <p:cNvPicPr/>
          <p:nvPr/>
        </p:nvPicPr>
        <p:blipFill>
          <a:blip r:embed="rId2"/>
          <a:srcRect l="3790" t="0" r="14800" b="0"/>
          <a:stretch/>
        </p:blipFill>
        <p:spPr>
          <a:xfrm>
            <a:off x="0" y="152280"/>
            <a:ext cx="3276720" cy="4648320"/>
          </a:xfrm>
          <a:prstGeom prst="rect">
            <a:avLst/>
          </a:prstGeom>
          <a:ln w="0">
            <a:noFill/>
          </a:ln>
        </p:spPr>
      </p:pic>
      <p:pic>
        <p:nvPicPr>
          <p:cNvPr id="193" name="wrfruc-12h_pcpn" descr=""/>
          <p:cNvPicPr/>
          <p:nvPr/>
        </p:nvPicPr>
        <p:blipFill>
          <a:blip r:embed="rId3"/>
          <a:srcRect l="2326" t="0" r="13827" b="0"/>
          <a:stretch/>
        </p:blipFill>
        <p:spPr>
          <a:xfrm>
            <a:off x="5715000" y="152280"/>
            <a:ext cx="342900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930720" y="838080"/>
            <a:ext cx="10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WR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22840" y="76212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RU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28600"/>
            <a:ext cx="1981080" cy="308016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-h fore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9 Janua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49F-F7D2-4698-B6FD-6A7BED37E6D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uc20_anal_18z" descr=""/>
          <p:cNvPicPr/>
          <p:nvPr/>
        </p:nvPicPr>
        <p:blipFill>
          <a:blip r:embed="rId1"/>
          <a:srcRect l="58346" t="16166" r="4697" b="39958"/>
          <a:stretch/>
        </p:blipFill>
        <p:spPr>
          <a:xfrm>
            <a:off x="3124080" y="3200400"/>
            <a:ext cx="2970360" cy="3352680"/>
          </a:xfrm>
          <a:prstGeom prst="rect">
            <a:avLst/>
          </a:prstGeom>
          <a:ln w="0">
            <a:noFill/>
          </a:ln>
        </p:spPr>
      </p:pic>
      <p:pic>
        <p:nvPicPr>
          <p:cNvPr id="198" name="ruc_18" descr=""/>
          <p:cNvPicPr/>
          <p:nvPr/>
        </p:nvPicPr>
        <p:blipFill>
          <a:blip r:embed="rId2"/>
          <a:srcRect l="3169" t="0" r="4950" b="1228"/>
          <a:stretch/>
        </p:blipFill>
        <p:spPr>
          <a:xfrm>
            <a:off x="0" y="1523880"/>
            <a:ext cx="3500280" cy="4343400"/>
          </a:xfrm>
          <a:prstGeom prst="rect">
            <a:avLst/>
          </a:prstGeom>
          <a:ln w="0">
            <a:noFill/>
          </a:ln>
        </p:spPr>
      </p:pic>
      <p:pic>
        <p:nvPicPr>
          <p:cNvPr id="199" name="wrfruc_temp_tl_18" descr=""/>
          <p:cNvPicPr/>
          <p:nvPr/>
        </p:nvPicPr>
        <p:blipFill>
          <a:blip r:embed="rId3"/>
          <a:srcRect l="2927" t="0" r="6313" b="1136"/>
          <a:stretch/>
        </p:blipFill>
        <p:spPr>
          <a:xfrm>
            <a:off x="5486400" y="1523880"/>
            <a:ext cx="3513240" cy="4419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546600" y="2971800"/>
            <a:ext cx="16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F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560" y="289548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C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216720" y="0"/>
            <a:ext cx="959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-h forecast of surface temperature from RUC and W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RUC-20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00 UTC 29 January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87200" y="373392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C-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48E-75FB-47C8-A703-64D5A8C35BC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320" y="635796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http://www.etl.noaa.gov/programs/2002/taq/ver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15480" y="2133720"/>
            <a:ext cx="2318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tford, 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79600" y="133200"/>
            <a:ext cx="33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tion ve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TAQ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bdl0316000_met" descr=""/>
          <p:cNvPicPr/>
          <p:nvPr/>
        </p:nvPicPr>
        <p:blipFill>
          <a:blip r:embed="rId1"/>
          <a:srcRect l="2192" t="0" r="7502" b="0"/>
          <a:stretch/>
        </p:blipFill>
        <p:spPr>
          <a:xfrm>
            <a:off x="228600" y="152280"/>
            <a:ext cx="56437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6E0-DFD9-454D-ADED-711C7E77622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239760" y="640080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http://www.etl.noaa.gov/programs/2002/taq/ver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5480" y="2666880"/>
            <a:ext cx="2318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ston,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43600" y="30492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tion ve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TAQ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bos0316000_met" descr=""/>
          <p:cNvPicPr/>
          <p:nvPr/>
        </p:nvPicPr>
        <p:blipFill>
          <a:blip r:embed="rId1"/>
          <a:srcRect l="2192" t="0" r="7502" b="0"/>
          <a:stretch/>
        </p:blipFill>
        <p:spPr>
          <a:xfrm>
            <a:off x="152280" y="152280"/>
            <a:ext cx="5715000" cy="632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0A7-8889-48A6-A2C0-2BEA1214DEB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447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Goal for use of WRF in the Rapid Update Cycl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057400"/>
            <a:ext cx="8001000" cy="4899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6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WRF model in Rapid Update Cycle (or Rapid Refresh) application at NC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step – test WRF model against current RUC hydrostatic model using common RUC initial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RFRUC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WRF initialized with RUC-20 initial conditions, full-resolution nativ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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e data, including 3-d hydrometeor, land-sfc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903-7781-4FD5-B83A-332C0228391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87480" y="640080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http://www.etl.noaa.gov/programs/2002/taq/ver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5800" y="2514600"/>
            <a:ext cx="2623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cester,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0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60948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tion ve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TAQ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orh0316000_met" descr=""/>
          <p:cNvPicPr/>
          <p:nvPr/>
        </p:nvPicPr>
        <p:blipFill>
          <a:blip r:embed="rId1"/>
          <a:srcRect l="2192" t="0" r="7502" b="0"/>
          <a:stretch/>
        </p:blipFill>
        <p:spPr>
          <a:xfrm>
            <a:off x="152280" y="152280"/>
            <a:ext cx="56419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4CD-0B23-4984-AA93-C06B6E13658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523880" y="2362320"/>
          <a:ext cx="6019920" cy="3622680"/>
        </p:xfrm>
        <a:graphic>
          <a:graphicData uri="http://schemas.openxmlformats.org/drawingml/2006/table">
            <a:tbl>
              <a:tblPr/>
              <a:tblGrid>
                <a:gridCol w="2895840"/>
                <a:gridCol w="1218960"/>
                <a:gridCol w="1905120"/>
              </a:tblGrid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U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RFRU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nd spd – s.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nd spd bi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 –s.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 – bias-00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wpoint – s.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wpoint – bi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43200" y="228600"/>
            <a:ext cx="9073440" cy="1556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-h surface forecasts verified vs. METAR o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 April – 11 June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UC-20 vs. WRFRUC-20 – all METARs in do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37A-E58F-4661-902B-A04BCD68C61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781680" y="768240"/>
            <a:ext cx="2210040" cy="4483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-h winds aloft foreca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ified against rawinso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UC-20 vs. WRFRUC-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wind-ruc-wrf-17apr-12jun03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6464520" cy="557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03D-5255-44FC-B6B5-54E16CCC298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uc_10jun03" descr=""/>
          <p:cNvPicPr/>
          <p:nvPr/>
        </p:nvPicPr>
        <p:blipFill>
          <a:blip r:embed="rId1"/>
          <a:srcRect l="43684" t="23591" r="20334" b="31278"/>
          <a:stretch/>
        </p:blipFill>
        <p:spPr>
          <a:xfrm>
            <a:off x="152280" y="152280"/>
            <a:ext cx="3322800" cy="3962520"/>
          </a:xfrm>
          <a:prstGeom prst="rect">
            <a:avLst/>
          </a:prstGeom>
          <a:ln w="0">
            <a:noFill/>
          </a:ln>
        </p:spPr>
      </p:pic>
      <p:pic>
        <p:nvPicPr>
          <p:cNvPr id="221" name="wrf_10june2003" descr=""/>
          <p:cNvPicPr/>
          <p:nvPr/>
        </p:nvPicPr>
        <p:blipFill>
          <a:blip r:embed="rId2"/>
          <a:srcRect l="43154" t="21768" r="18882" b="31730"/>
          <a:stretch/>
        </p:blipFill>
        <p:spPr>
          <a:xfrm>
            <a:off x="5808600" y="0"/>
            <a:ext cx="3335400" cy="3886200"/>
          </a:xfrm>
          <a:prstGeom prst="rect">
            <a:avLst/>
          </a:prstGeom>
          <a:ln w="0">
            <a:noFill/>
          </a:ln>
        </p:spPr>
      </p:pic>
      <p:pic>
        <p:nvPicPr>
          <p:cNvPr id="222" name="rad_us_10jun03" descr=""/>
          <p:cNvPicPr/>
          <p:nvPr/>
        </p:nvPicPr>
        <p:blipFill>
          <a:blip r:embed="rId3"/>
          <a:srcRect l="39193" t="13949" r="18918" b="14839"/>
          <a:stretch/>
        </p:blipFill>
        <p:spPr>
          <a:xfrm>
            <a:off x="2819520" y="2971800"/>
            <a:ext cx="3163680" cy="3886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57200" y="4800600"/>
            <a:ext cx="18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-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rell-Devenyi cumul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30600" y="2286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FRUC-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KF cumul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426708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1-h forec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  2100 U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Jun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1219320"/>
            <a:ext cx="129528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62120" y="3886200"/>
            <a:ext cx="4572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F2B-3067-40FB-9C52-1FFC1AF1360D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914400"/>
            <a:ext cx="861084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CAR mass-coordinate dynamic core - v.1.2.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 vertical sigma-p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 conditions including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land states for WRFRU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ve coordinate data from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SL RUC2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yc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ding assimilation of observations  not yet used 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CEP operational RUC20 –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upled Data Assimilation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ystem (CDAS)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– available for outside users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the FSL ftp site in GRIB form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teral boundary conditions from the same FS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20 48h foreca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 post-processing adapted to WRF output 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 RUC look-alike GRIB outpu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1320" y="152280"/>
            <a:ext cx="65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WRFRUC model configu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124-250A-4841-BCD3-46122B5461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3280" y="22860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UC CDAS -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ur-dimensional system (funded by GAPP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52280"/>
            <a:ext cx="8686800" cy="762120"/>
          </a:xfrm>
          <a:prstGeom prst="rect">
            <a:avLst/>
          </a:prstGeom>
          <a:noFill/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762120"/>
            <a:ext cx="862632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Uses a forward full-physics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Cycles surface/soil fields depending on the RUC atmospheric forc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Cycles 5 hydrometor species : cloud, ice, rain, snow and graupel. Cloud clearing/building based on GOES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compared to RUC operational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Forecast length (48-hour forecasts with hourly outputs)</a:t>
            </a: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ssimilat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RAD Radar reflectivity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PS precipitable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undary-layer prof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net observations collected at 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in Goal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mprove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1-h precipit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cing and the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land surface model cli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7CE-FFA0-4B23-BB84-294E52DDE35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UC20_oper_7may03" descr=""/>
          <p:cNvPicPr/>
          <p:nvPr/>
        </p:nvPicPr>
        <p:blipFill>
          <a:blip r:embed="rId1"/>
          <a:srcRect l="0" t="9719" r="0" b="7689"/>
          <a:stretch/>
        </p:blipFill>
        <p:spPr>
          <a:xfrm>
            <a:off x="152280" y="152280"/>
            <a:ext cx="3886200" cy="3210120"/>
          </a:xfrm>
          <a:prstGeom prst="rect">
            <a:avLst/>
          </a:prstGeom>
          <a:ln w="0">
            <a:noFill/>
          </a:ln>
        </p:spPr>
      </p:pic>
      <p:pic>
        <p:nvPicPr>
          <p:cNvPr id="102" name="RUC20_cdas_7may03" descr=""/>
          <p:cNvPicPr/>
          <p:nvPr/>
        </p:nvPicPr>
        <p:blipFill>
          <a:blip r:embed="rId2"/>
          <a:srcRect l="0" t="9719" r="0" b="7689"/>
          <a:stretch/>
        </p:blipFill>
        <p:spPr>
          <a:xfrm>
            <a:off x="152280" y="3495600"/>
            <a:ext cx="3886200" cy="3210120"/>
          </a:xfrm>
          <a:prstGeom prst="rect">
            <a:avLst/>
          </a:prstGeom>
          <a:ln w="0">
            <a:noFill/>
          </a:ln>
        </p:spPr>
      </p:pic>
      <p:pic>
        <p:nvPicPr>
          <p:cNvPr id="103" name="ST4_obs_7may03" descr=""/>
          <p:cNvPicPr/>
          <p:nvPr/>
        </p:nvPicPr>
        <p:blipFill>
          <a:blip r:embed="rId3"/>
          <a:srcRect l="0" t="9719" r="0" b="10119"/>
          <a:stretch/>
        </p:blipFill>
        <p:spPr>
          <a:xfrm>
            <a:off x="4191120" y="152280"/>
            <a:ext cx="4813200" cy="3857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30480" y="4572000"/>
            <a:ext cx="52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4-hour precipitation accu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ing at 1200 UTC 6 May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9800" y="2209680"/>
            <a:ext cx="16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C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240" y="563868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C C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6760" y="320040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ge IV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9B9-841A-4DFF-B236-848ACC4333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Xcorr_oper_7may03" descr=""/>
          <p:cNvPicPr/>
          <p:nvPr/>
        </p:nvPicPr>
        <p:blipFill>
          <a:blip r:embed="rId1"/>
          <a:srcRect l="12149" t="7289" r="12549" b="10119"/>
          <a:stretch/>
        </p:blipFill>
        <p:spPr>
          <a:xfrm>
            <a:off x="685800" y="152280"/>
            <a:ext cx="2987640" cy="3276720"/>
          </a:xfrm>
          <a:prstGeom prst="rect">
            <a:avLst/>
          </a:prstGeom>
          <a:ln w="0">
            <a:noFill/>
          </a:ln>
        </p:spPr>
      </p:pic>
      <p:pic>
        <p:nvPicPr>
          <p:cNvPr id="109" name="Xcorr_cdas_7may03" descr=""/>
          <p:cNvPicPr/>
          <p:nvPr/>
        </p:nvPicPr>
        <p:blipFill>
          <a:blip r:embed="rId2"/>
          <a:srcRect l="12149" t="7289" r="12549" b="10119"/>
          <a:stretch/>
        </p:blipFill>
        <p:spPr>
          <a:xfrm>
            <a:off x="685800" y="3429000"/>
            <a:ext cx="298764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Acorr_7may03" descr=""/>
          <p:cNvPicPr/>
          <p:nvPr/>
        </p:nvPicPr>
        <p:blipFill>
          <a:blip r:embed="rId3"/>
          <a:srcRect l="12149" t="7289" r="12549" b="10119"/>
          <a:stretch/>
        </p:blipFill>
        <p:spPr>
          <a:xfrm>
            <a:off x="5410080" y="228600"/>
            <a:ext cx="3264120" cy="358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038480" y="4572000"/>
            <a:ext cx="4889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tial Correlation fields of 24-h Accumulated Precipitation ending at 1200 UTC 6 May 200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Dongsoo Ki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3960" y="59436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C C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" y="26668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C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27A-C7E0-4F01-9E9D-5A4ADE28C3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hfcst_sfctdm_west_dec-feb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5159520" cy="2441520"/>
          </a:xfrm>
          <a:prstGeom prst="rect">
            <a:avLst/>
          </a:prstGeom>
          <a:ln w="0">
            <a:noFill/>
          </a:ln>
        </p:spPr>
      </p:pic>
      <p:pic>
        <p:nvPicPr>
          <p:cNvPr id="115" name="3hfcst_sfctem_west_dec-feb" descr=""/>
          <p:cNvPicPr/>
          <p:nvPr/>
        </p:nvPicPr>
        <p:blipFill>
          <a:blip r:embed="rId2"/>
          <a:stretch/>
        </p:blipFill>
        <p:spPr>
          <a:xfrm>
            <a:off x="3581280" y="4114800"/>
            <a:ext cx="5329440" cy="2587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19160" y="297180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ern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5360" y="152280"/>
            <a:ext cx="7482240" cy="8254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urnal cycle of biases fro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C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C C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aged for the period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 December – 1 March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560" y="108108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-m dew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5480" y="365760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-m temper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360" y="601992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ern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AAF-92E8-45EA-908E-677981D24C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380880"/>
            <a:ext cx="80773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wo WRFRUC systems run at FSL in real tim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FRUC with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10-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rizontal resolution for the TAQ (Temperature and Air Quality)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48-hour forecasts twice a day (00 and 12     UTC, runs on JET since June 200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WRFRUC with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20-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rizontal resolution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US 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24-hour forecasts twice a day (00 and 12  UTC, runs on JET since February 200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3120" y="6076800"/>
            <a:ext cx="6672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ahoma"/>
                <a:hlinkClick r:id="rId1"/>
              </a:rPr>
              <a:t>http://ruc.fsl.noaa.gov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- real-time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FBA-DF6F-4AED-8793-41CC29744A2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14:02:38Z</dcterms:created>
  <dc:creator>Stan Benjamin</dc:creator>
  <dc:description/>
  <dc:language>en-US</dc:language>
  <cp:lastModifiedBy>smirnova</cp:lastModifiedBy>
  <cp:lastPrinted>1999-08-30T20:10:40Z</cp:lastPrinted>
  <dcterms:modified xsi:type="dcterms:W3CDTF">2003-06-17T22:19:02Z</dcterms:modified>
  <cp:revision>246</cp:revision>
  <dc:subject/>
  <dc:title>Operational Use of the  Rapid Update Cycle</dc:title>
</cp:coreProperties>
</file>