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A0F-9835-47EF-A427-FB5ADCE5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7C7-979D-42AD-B805-8B432F2F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282-CD1F-499B-ABE4-F12F9102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25C-ADE4-497F-9ABC-0B13AC94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CC4-9058-4A3B-92CA-338DDAA9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6585-E05C-4D54-91E8-73B05327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D20E-9BB4-4B53-A23B-689C094E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B43-DD00-4218-BE27-2FE4ABDC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A772-1469-45EF-A10D-D7EB2C40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3C01-D044-4552-BB65-8582D47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59AF-9380-42A5-A977-F5D948D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DAD-D8B0-47C6-B696-B566759C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E29-D504-4FCA-9896-9478036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945E-66A6-41D2-8FDB-4D4B1AD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5A0A-2414-4991-9310-1749BDB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4B7A-69D0-4272-83CF-9BF61988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4F13-82C0-490C-9967-F72768DD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BF2-528D-4E8F-A37D-68F58035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BDE-0D60-4841-A3E5-3410272E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1FC-945B-4A56-9143-D2740C7D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3F7-C5A2-4362-9B06-C91620FC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402-D3B5-4B58-B2F8-B7B98B4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5DD-0BBC-40AD-A5EA-0373A26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07F-205B-4071-BB95-BE00A700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4C34-1339-4FCE-A7A9-15D6B8107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B752-4A68-4A24-A648-EC3470F6A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68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igh resolution land data assimilation system (HRLDAS)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r MM5 and WRF 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4290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i Chen, Kevin Manning, and David Gochis (NC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2286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pact of soil moisture on Q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-h rainfall ending 00Z 19 June 1998 (dryline c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2578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5 using soil mois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RL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1600" y="5334120"/>
            <a:ext cx="36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5 using soil moisture from NCEP EDAS coarse resolution and too w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1066680"/>
          <a:ext cx="54579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54579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flipV="1">
            <a:off x="2057400" y="4800240"/>
            <a:ext cx="685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3600" y="48002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02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F. Chen, and K. M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mportant B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convection initiation and intens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the 20 June 1998 drylin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029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si-stationary convective rolls formed at the dryline seem 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33880" y="4952880"/>
            <a:ext cx="39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oscale circulation formed as result of differential heating in the morning may be responsible for CI in OK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800600" y="1676520"/>
          <a:ext cx="3772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772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30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K. Manning, and F. C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1447920"/>
          <a:ext cx="329076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329076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CAR WRF and HRLDAS plan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F 22-km CONUS realtime forecast using EDAS and AGR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 HRLDAS for WRF I/O frame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output in GRIB format for WR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realtime run for 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the interactive overland river routing scheme and re-infiltration of standing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 initialization for NWP model applica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ization of soil moisture and temperature is a challe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ltimate approach is to combine observation (including satellite), modeling, and data 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ing observed rainfall, derived/analyzed downward solar radiation, and atm analysis to drive LSMs in uncoupled m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CEP NLDAS: north America, 1/8 deg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WA ARGMET: global, 47-k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rom EDAS and AGRME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t 12Z 31 May 200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0" name="smois-ag-adas-12-1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235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5295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Latent and Sensible heat Flux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WRF/Noah Initialized by AGRMET and EDAS soil conditions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t 1800Z , May 31 200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2" name="ltfx-18" descr=""/>
          <p:cNvPicPr/>
          <p:nvPr/>
        </p:nvPicPr>
        <p:blipFill>
          <a:blip r:embed="rId1"/>
          <a:stretch/>
        </p:blipFill>
        <p:spPr>
          <a:xfrm>
            <a:off x="152280" y="1733400"/>
            <a:ext cx="4419720" cy="3389400"/>
          </a:xfrm>
          <a:prstGeom prst="rect">
            <a:avLst/>
          </a:prstGeom>
          <a:ln w="0">
            <a:noFill/>
          </a:ln>
        </p:spPr>
      </p:pic>
      <p:pic>
        <p:nvPicPr>
          <p:cNvPr id="153" name="senfx18" descr=""/>
          <p:cNvPicPr/>
          <p:nvPr/>
        </p:nvPicPr>
        <p:blipFill>
          <a:blip r:embed="rId2"/>
          <a:stretch/>
        </p:blipFill>
        <p:spPr>
          <a:xfrm>
            <a:off x="4572000" y="1735200"/>
            <a:ext cx="4419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oil moisture initialization for NWP model applica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160" y="15238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s in using LDAS products in MM5 and WRF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-match of terrain, landuse, soil texture, physical parameters used in LSM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justing soil moisture may mitigate this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initialize high-resolution MM5/WRF LSM coupling system, we develop  High-Resolution Land Data Assimilation System (HRLDA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RLDAS runs at the same grid as MM5/W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nterpolation and soil moisture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HRLDAS for IH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77724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resolution (4, 12 km) for the IHOP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tiliz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km hourly NCEP Stage-II; 1-km landuse type and soil texture maps;  0.5 degree hourly  satellite derived downward solar radiation;  monthly green vegetation fraction; T,q, u, v, from model based analysi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urly product (Jan-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hrldas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702240" cy="329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7720" y="55785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-km surface soil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 at 12 Z May 29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267080" y="556236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adiation_forcing_stats" descr=""/>
          <p:cNvPicPr/>
          <p:nvPr/>
        </p:nvPicPr>
        <p:blipFill>
          <a:blip r:embed="rId1"/>
          <a:stretch/>
        </p:blipFill>
        <p:spPr>
          <a:xfrm>
            <a:off x="1779480" y="1174680"/>
            <a:ext cx="5840640" cy="5607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veraged diurnal cycle of Radiation forcing verified with IHOP dat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-month (1998) HRLDAS soil moisture vs Oklahoma Mesonet observ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bbow_1" descr=""/>
          <p:cNvPicPr/>
          <p:nvPr/>
        </p:nvPicPr>
        <p:blipFill>
          <a:blip r:embed="rId1"/>
          <a:stretch/>
        </p:blipFill>
        <p:spPr>
          <a:xfrm>
            <a:off x="1192320" y="1981080"/>
            <a:ext cx="3836880" cy="2116080"/>
          </a:xfrm>
          <a:prstGeom prst="rect">
            <a:avLst/>
          </a:prstGeom>
          <a:ln w="0">
            <a:noFill/>
          </a:ln>
        </p:spPr>
      </p:pic>
      <p:pic>
        <p:nvPicPr>
          <p:cNvPr id="165" name="bbow_2" descr=""/>
          <p:cNvPicPr/>
          <p:nvPr/>
        </p:nvPicPr>
        <p:blipFill>
          <a:blip r:embed="rId2"/>
          <a:stretch/>
        </p:blipFill>
        <p:spPr>
          <a:xfrm>
            <a:off x="1219320" y="4249800"/>
            <a:ext cx="3809880" cy="2151000"/>
          </a:xfrm>
          <a:prstGeom prst="rect">
            <a:avLst/>
          </a:prstGeom>
          <a:ln w="0">
            <a:noFill/>
          </a:ln>
        </p:spPr>
      </p:pic>
      <p:pic>
        <p:nvPicPr>
          <p:cNvPr id="166" name="king_2" descr=""/>
          <p:cNvPicPr/>
          <p:nvPr/>
        </p:nvPicPr>
        <p:blipFill>
          <a:blip r:embed="rId3"/>
          <a:stretch/>
        </p:blipFill>
        <p:spPr>
          <a:xfrm>
            <a:off x="5199120" y="4267080"/>
            <a:ext cx="3792600" cy="2170080"/>
          </a:xfrm>
          <a:prstGeom prst="rect">
            <a:avLst/>
          </a:prstGeom>
          <a:ln w="0">
            <a:noFill/>
          </a:ln>
        </p:spPr>
      </p:pic>
      <p:pic>
        <p:nvPicPr>
          <p:cNvPr id="167" name="king_1" descr=""/>
          <p:cNvPicPr/>
          <p:nvPr/>
        </p:nvPicPr>
        <p:blipFill>
          <a:blip r:embed="rId4"/>
          <a:stretch/>
        </p:blipFill>
        <p:spPr>
          <a:xfrm>
            <a:off x="5191200" y="1981080"/>
            <a:ext cx="3800520" cy="2143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4560" y="28098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-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60" y="4662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-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380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M5 4-h forecasted soil moisture on 3.3km gr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alid at 16Z 19 June 1998 (dryline c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2578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mois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RL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1600" y="5334120"/>
            <a:ext cx="36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moisture from NCEP E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057400" y="4800240"/>
            <a:ext cx="685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943600" y="480024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0280" y="624852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Trier, F. Chen, and K. M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5238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1305000"/>
          <a:ext cx="545796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05000"/>
                    <a:ext cx="545796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08:27:12Z</dcterms:created>
  <dc:creator>feichen</dc:creator>
  <dc:description/>
  <dc:language>en-US</dc:language>
  <cp:lastModifiedBy>rappcshare</cp:lastModifiedBy>
  <dcterms:modified xsi:type="dcterms:W3CDTF">2003-07-03T17:51:30Z</dcterms:modified>
  <cp:revision>149</cp:revision>
  <dc:subject/>
  <dc:title>PowerPoint Presentation</dc:title>
</cp:coreProperties>
</file>