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1.png" ContentType="image/png"/>
  <Override PartName="/ppt/media/image4.jpeg" ContentType="image/jpeg"/>
  <Override PartName="/ppt/media/image50.png" ContentType="image/png"/>
  <Override PartName="/ppt/media/image48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1.png" ContentType="image/png"/>
  <Override PartName="/ppt/media/image3.jpeg" ContentType="image/jpeg"/>
  <Override PartName="/ppt/media/image34.png" ContentType="image/png"/>
  <Override PartName="/ppt/media/image33.png" ContentType="image/png"/>
  <Override PartName="/ppt/media/image31.jpeg" ContentType="image/jpeg"/>
  <Override PartName="/ppt/media/image30.jpeg" ContentType="image/jpe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1.jpeg" ContentType="image/jpeg"/>
  <Override PartName="/ppt/media/image28.jpeg" ContentType="image/jpe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65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3.png" ContentType="image/png"/>
  <Override PartName="/ppt/media/image60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89.png" ContentType="image/png"/>
  <Override PartName="/ppt/media/image52.png" ContentType="image/png"/>
  <Override PartName="/ppt/media/image42.png" ContentType="image/png"/>
  <Override PartName="/ppt/media/image26.jpeg" ContentType="image/jpeg"/>
  <Override PartName="/ppt/media/image27.jpeg" ContentType="image/jpeg"/>
  <Override PartName="/ppt/media/image82.wmf" ContentType="image/x-wmf"/>
  <Override PartName="/ppt/media/image77.png" ContentType="image/png"/>
  <Override PartName="/ppt/media/image58.png" ContentType="image/png"/>
  <Override PartName="/ppt/media/image80.wmf" ContentType="image/x-wmf"/>
  <Override PartName="/ppt/media/image40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75.png" ContentType="image/png"/>
  <Override PartName="/ppt/media/image59.png" ContentType="image/png"/>
  <Override PartName="/ppt/media/image66.jpeg" ContentType="image/jpeg"/>
  <Override PartName="/ppt/media/image81.wmf" ContentType="image/x-wmf"/>
  <Override PartName="/ppt/media/image78.png" ContentType="image/png"/>
  <Override PartName="/ppt/media/image61.png" ContentType="image/png"/>
  <Override PartName="/ppt/media/image79.wmf" ContentType="image/x-wmf"/>
  <Override PartName="/ppt/media/image74.png" ContentType="image/png"/>
  <Override PartName="/ppt/media/image73.png" ContentType="image/png"/>
  <Override PartName="/ppt/media/image72.png" ContentType="image/png"/>
  <Override PartName="/ppt/media/image29.jpeg" ContentType="image/jpeg"/>
  <Override PartName="/ppt/media/image67.jpeg" ContentType="image/jpeg"/>
  <Override PartName="/ppt/media/image69.png" ContentType="image/png"/>
  <Override PartName="/ppt/media/image25.jpeg" ContentType="image/jpeg"/>
  <Override PartName="/ppt/media/image32.png" ContentType="image/png"/>
  <Override PartName="/ppt/media/image71.png" ContentType="image/png"/>
  <Override PartName="/ppt/media/image68.png" ContentType="image/png"/>
  <Override PartName="/ppt/media/image70.png" ContentType="image/png"/>
  <Override PartName="/ppt/media/image20.png" ContentType="image/png"/>
  <Override PartName="/ppt/media/image2.jpeg" ContentType="image/jpeg"/>
  <Override PartName="/ppt/media/image57.png" ContentType="image/png"/>
  <Override PartName="/ppt/media/image16.png" ContentType="image/png"/>
  <Override PartName="/ppt/media/image1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15.png" ContentType="image/png"/>
  <Override PartName="/ppt/media/image18.png" ContentType="image/png"/>
  <Override PartName="/ppt/media/image83.png" ContentType="image/png"/>
  <Override PartName="/ppt/media/image6.png" ContentType="image/png"/>
  <Override PartName="/ppt/media/image36.png" ContentType="image/png"/>
  <Override PartName="/ppt/media/image19.png" ContentType="image/png"/>
  <Override PartName="/ppt/media/image84.png" ContentType="image/png"/>
  <Override PartName="/ppt/media/image7.png" ContentType="image/png"/>
  <Override PartName="/ppt/media/image37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F330-5D19-4B6A-AE00-068CBA1C1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C93E-5518-4F2F-AEA9-EB1B754B5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EAD2-2C59-4D24-B5AB-1076E8C16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DF94-9ED4-4D72-8EFC-F9122FB19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BF7E-016F-4787-9005-2C24DC4E4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8579-CA21-4C96-A53F-1AD28D72A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9EE2-A62F-4F53-A576-EA8D83567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7FAD-DC50-42E2-8F89-FE439494D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0F7A-4132-4A58-A03C-1809BC8E3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2787-D52D-4DFC-B899-A22B130C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D507-3539-4D62-9207-A8664BCC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258F-FF2A-4372-8DA5-7CBB2B46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F0E22-962D-43F3-BD74-88AB19CAB2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4.png"/><Relationship Id="rId4" Type="http://schemas.openxmlformats.org/officeDocument/2006/relationships/image" Target="../media/image44.png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image" Target="../media/image50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image" Target="../media/image56.png"/><Relationship Id="rId7" Type="http://schemas.openxmlformats.org/officeDocument/2006/relationships/image" Target="../media/image54.png"/><Relationship Id="rId8" Type="http://schemas.openxmlformats.org/officeDocument/2006/relationships/image" Target="../media/image57.png"/><Relationship Id="rId9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image" Target="../media/image19.png"/><Relationship Id="rId17" Type="http://schemas.openxmlformats.org/officeDocument/2006/relationships/image" Target="../media/image20.png"/><Relationship Id="rId18" Type="http://schemas.openxmlformats.org/officeDocument/2006/relationships/image" Target="../media/image21.png"/><Relationship Id="rId19" Type="http://schemas.openxmlformats.org/officeDocument/2006/relationships/image" Target="../media/image22.png"/><Relationship Id="rId2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8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image" Target="../media/image74.png"/><Relationship Id="rId5" Type="http://schemas.openxmlformats.org/officeDocument/2006/relationships/slideLayout" Target="../slideLayouts/slideLayout1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7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0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81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82.wmf"/><Relationship Id="rId9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image" Target="../media/image85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image" Target="../media/image87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image" Target="../media/image8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image" Target="../media/image31.jpeg"/><Relationship Id="rId9" Type="http://schemas.openxmlformats.org/officeDocument/2006/relationships/image" Target="../media/image32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1905120"/>
            <a:ext cx="8610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37d05"/>
                </a:solidFill>
                <a:latin typeface="Arial"/>
              </a:rPr>
              <a:t>Land-Surface Modeling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37d05"/>
                </a:solidFill>
                <a:latin typeface="Arial"/>
              </a:rPr>
              <a:t>At NC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4495680"/>
            <a:ext cx="5867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3429000"/>
            <a:ext cx="807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233280" y="210960"/>
            <a:ext cx="8616960" cy="987480"/>
            <a:chOff x="233280" y="210960"/>
            <a:chExt cx="8616960" cy="987480"/>
          </a:xfrm>
        </p:grpSpPr>
        <p:pic>
          <p:nvPicPr>
            <p:cNvPr id="45" name="" descr=""/>
            <p:cNvPicPr/>
            <p:nvPr/>
          </p:nvPicPr>
          <p:blipFill>
            <a:blip r:embed="rId1"/>
            <a:stretch/>
          </p:blipFill>
          <p:spPr>
            <a:xfrm>
              <a:off x="7850160" y="210960"/>
              <a:ext cx="1000080" cy="98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233280" y="241200"/>
              <a:ext cx="938160" cy="92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3687840" y="222120"/>
              <a:ext cx="1644480" cy="96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Arial"/>
              </a:rPr>
              <a:t>NCEP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Where America's Climate and Weather Services Beg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371600" y="510552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522288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71600" y="5562720"/>
            <a:ext cx="7010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WRF Land Working Group Workshop: 18 June 0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95680" y="320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05680" y="3352680"/>
            <a:ext cx="2129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Ken Mitchel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3809880"/>
            <a:ext cx="7620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CEP Environmental Modeling Cent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012" descr=""/>
          <p:cNvPicPr/>
          <p:nvPr/>
        </p:nvPicPr>
        <p:blipFill>
          <a:blip r:embed="rId1"/>
          <a:stretch/>
        </p:blipFill>
        <p:spPr>
          <a:xfrm>
            <a:off x="0" y="0"/>
            <a:ext cx="4267080" cy="329724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6765840" y="1641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008" descr=""/>
          <p:cNvPicPr/>
          <p:nvPr/>
        </p:nvPicPr>
        <p:blipFill>
          <a:blip r:embed="rId2"/>
          <a:stretch/>
        </p:blipFill>
        <p:spPr>
          <a:xfrm>
            <a:off x="4724280" y="0"/>
            <a:ext cx="4419720" cy="34146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2193840" y="4765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010" descr=""/>
          <p:cNvPicPr/>
          <p:nvPr/>
        </p:nvPicPr>
        <p:blipFill>
          <a:blip r:embed="rId3"/>
          <a:stretch/>
        </p:blipFill>
        <p:spPr>
          <a:xfrm>
            <a:off x="0" y="3500280"/>
            <a:ext cx="4343400" cy="33577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7375680" y="4842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005" descr=""/>
          <p:cNvPicPr/>
          <p:nvPr/>
        </p:nvPicPr>
        <p:blipFill>
          <a:blip r:embed="rId4"/>
          <a:stretch/>
        </p:blipFill>
        <p:spPr>
          <a:xfrm>
            <a:off x="4800600" y="3502080"/>
            <a:ext cx="434340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0" y="380880"/>
            <a:ext cx="9144000" cy="58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Helvetica-Narrow"/>
                <a:ea typeface="Times New Roman"/>
              </a:rPr>
              <a:t>July 2001 NOAH LSM improvements in coupled Eta mode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Helvetica-Narrow"/>
                <a:ea typeface="Times New Roman"/>
              </a:rPr>
              <a:t>Successfully Targeted Impacts</a:t>
            </a:r>
            <a:r>
              <a:rPr b="1" lang="en-US" sz="2800" spc="-1" strike="noStrike">
                <a:solidFill>
                  <a:srgbClr val="000000"/>
                </a:solidFill>
                <a:latin typeface="Helvetica-Narrow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Helvetica-Narrow"/>
                <a:ea typeface="Times New Roman"/>
              </a:rPr>
              <a:t>1 - Cold season processes (snow melt, frozen soil)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Helvetica-Narrow"/>
                <a:ea typeface="Times New Roman"/>
              </a:rPr>
              <a:t>*** reduce near-surface cool bias over snow co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Helvetica-Narrow"/>
                <a:ea typeface="Times New Roman"/>
              </a:rPr>
              <a:t>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Helvetica-Narrow"/>
                <a:ea typeface="Times New Roman"/>
              </a:rPr>
              <a:t>2 - Early spring wet soils (soil heat flux, bare soil evapor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Helvetica-Narrow"/>
                <a:ea typeface="Times New Roman"/>
              </a:rPr>
              <a:t>*** reduce near-surface moist b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Helvetica-Narrow"/>
                <a:ea typeface="Times New Roman"/>
              </a:rPr>
              <a:t>3 - Summer over non-sparse green veg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Helvetica-Narrow"/>
                <a:ea typeface="MS Mincho"/>
              </a:rPr>
              <a:t>*** reduce near-surface warm b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etav_725315.sfc_2001042712_legend" descr=""/>
          <p:cNvPicPr/>
          <p:nvPr/>
        </p:nvPicPr>
        <p:blipFill>
          <a:blip r:embed="rId1"/>
          <a:stretch/>
        </p:blipFill>
        <p:spPr>
          <a:xfrm>
            <a:off x="1604880" y="4802040"/>
            <a:ext cx="7234200" cy="435240"/>
          </a:xfrm>
          <a:prstGeom prst="rect">
            <a:avLst/>
          </a:prstGeom>
          <a:ln w="0">
            <a:noFill/>
          </a:ln>
        </p:spPr>
      </p:pic>
      <p:pic>
        <p:nvPicPr>
          <p:cNvPr id="255" name="etav_725315.sfc_2001042712_T_Td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7467480" cy="1546200"/>
          </a:xfrm>
          <a:prstGeom prst="rect">
            <a:avLst/>
          </a:prstGeom>
          <a:ln w="0">
            <a:noFill/>
          </a:ln>
        </p:spPr>
      </p:pic>
      <p:pic>
        <p:nvPicPr>
          <p:cNvPr id="256" name="etay_725315.sfc_2001042712_T_Td" descr=""/>
          <p:cNvPicPr/>
          <p:nvPr/>
        </p:nvPicPr>
        <p:blipFill>
          <a:blip r:embed="rId3"/>
          <a:stretch/>
        </p:blipFill>
        <p:spPr>
          <a:xfrm>
            <a:off x="1371600" y="3308400"/>
            <a:ext cx="7467480" cy="156060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990720" y="5334120"/>
            <a:ext cx="7696080" cy="23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-Narrow"/>
                <a:ea typeface="MS Mincho"/>
              </a:rPr>
              <a:t>Old model formulation -  cool, moist bias in 2-m T, T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-Narrow"/>
                <a:ea typeface="MS Mincho"/>
              </a:rPr>
              <a:t>New model formulation –  reduced cool, moist b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-Narrow"/>
                <a:ea typeface="MS Mincho"/>
              </a:rPr>
              <a:t>Physics change: new soil thermal conductivity, nonlinear vs linear dependence of direct evap on top layer soil mois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168920" y="219240"/>
            <a:ext cx="7970040" cy="1245240"/>
            <a:chOff x="1168920" y="219240"/>
            <a:chExt cx="7970040" cy="1245240"/>
          </a:xfrm>
        </p:grpSpPr>
        <p:sp>
          <p:nvSpPr>
            <p:cNvPr id="259" name=""/>
            <p:cNvSpPr/>
            <p:nvPr/>
          </p:nvSpPr>
          <p:spPr>
            <a:xfrm>
              <a:off x="1168920" y="219240"/>
              <a:ext cx="7970040" cy="124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8000"/>
                  </a:solidFill>
                  <a:latin typeface="Helvetica-Narrow"/>
                  <a:ea typeface="MS Mincho"/>
                </a:rPr>
                <a:t>REDUCING SURFACE MOIST-COOL BIA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8000"/>
                  </a:solidFill>
                  <a:latin typeface="Helvetica-Narrow"/>
                  <a:ea typeface="MS Mincho"/>
                </a:rPr>
                <a:t>OVER WET-BARE GROUN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Helvetica-Narrow"/>
                  <a:ea typeface="MS Mincho"/>
                </a:rPr>
                <a:t>12Z, 27 APR 2001, 60-hr model ru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867200" y="718920"/>
              <a:ext cx="18324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5656320" y="304812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Helvetica-Narrow"/>
                <a:ea typeface="Times New Roman"/>
              </a:rPr>
              <a:t>36-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5943600" y="1523880"/>
            <a:ext cx="0" cy="3353040"/>
          </a:xfrm>
          <a:prstGeom prst="line">
            <a:avLst/>
          </a:prstGeom>
          <a:ln w="9360">
            <a:solidFill>
              <a:srgbClr val="cc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 flipV="1">
            <a:off x="2371320" y="1942920"/>
            <a:ext cx="1825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24560" y="958680"/>
            <a:ext cx="1381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-Narrow"/>
                <a:ea typeface="Times New Roman"/>
              </a:rPr>
              <a:t>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-Narrow"/>
                <a:ea typeface="Times New Roman"/>
              </a:rPr>
              <a:t>2-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-Narrow"/>
                <a:ea typeface="Times New Roman"/>
              </a:rPr>
              <a:t>T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-Narrow"/>
                <a:ea typeface="Times New Roman"/>
              </a:rPr>
              <a:t>Td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 flipV="1">
            <a:off x="2292120" y="3692160"/>
            <a:ext cx="1825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2052720" y="4331880"/>
            <a:ext cx="1825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2127240" y="2552400"/>
            <a:ext cx="1810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24560" y="2970360"/>
            <a:ext cx="1381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-Narrow"/>
                <a:ea typeface="Times New Roman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-Narrow"/>
                <a:ea typeface="Times New Roman"/>
              </a:rPr>
              <a:t>2-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-Narrow"/>
                <a:ea typeface="Times New Roman"/>
              </a:rPr>
              <a:t>T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-Narrow"/>
                <a:ea typeface="Times New Roman"/>
              </a:rPr>
              <a:t>Td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666880" y="29718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mpaign, Illino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eta48km_ctl.2mtd60" descr=""/>
          <p:cNvPicPr/>
          <p:nvPr/>
        </p:nvPicPr>
        <p:blipFill>
          <a:blip r:embed="rId1"/>
          <a:stretch/>
        </p:blipFill>
        <p:spPr>
          <a:xfrm>
            <a:off x="669960" y="1168560"/>
            <a:ext cx="3897360" cy="3284280"/>
          </a:xfrm>
          <a:prstGeom prst="rect">
            <a:avLst/>
          </a:prstGeom>
          <a:ln w="0">
            <a:noFill/>
          </a:ln>
        </p:spPr>
      </p:pic>
      <p:pic>
        <p:nvPicPr>
          <p:cNvPr id="271" name="eta48km_lsm.2mtd60" descr=""/>
          <p:cNvPicPr/>
          <p:nvPr/>
        </p:nvPicPr>
        <p:blipFill>
          <a:blip r:embed="rId2"/>
          <a:stretch/>
        </p:blipFill>
        <p:spPr>
          <a:xfrm>
            <a:off x="4734000" y="1168560"/>
            <a:ext cx="3897360" cy="328428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990720" y="228600"/>
            <a:ext cx="7086600" cy="13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Helvetica-Narrow"/>
                <a:ea typeface="MS Mincho"/>
              </a:rPr>
              <a:t>REDUCING SURFACE MOIST-COOL B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Helvetica-Narrow"/>
                <a:ea typeface="MS Mincho"/>
              </a:rPr>
              <a:t>OVER WET-BARE 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38080" y="4572000"/>
            <a:ext cx="33498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-Narrow"/>
                <a:ea typeface="Times New Roman"/>
              </a:rPr>
              <a:t>00Z lowest boundary-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-Narrow"/>
                <a:ea typeface="Times New Roman"/>
              </a:rPr>
              <a:t>level (~ 100-150 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-Narro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Helvetica-Narrow"/>
                <a:ea typeface="Times New Roman"/>
              </a:rPr>
              <a:t>dew point temp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-Narrow"/>
                <a:ea typeface="Times New Roman"/>
              </a:rPr>
              <a:t>48-km parall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Helvetica-Narrow"/>
                <a:ea typeface="Times New Roman"/>
              </a:rPr>
              <a:t>old form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140360" y="4524480"/>
            <a:ext cx="509112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-Narrow"/>
                <a:ea typeface="Times New Roman"/>
              </a:rPr>
              <a:t>00Z lowest boundary-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-Narrow"/>
                <a:ea typeface="Times New Roman"/>
              </a:rPr>
              <a:t>level (~ 100-150 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-Narro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Helvetica-Narrow"/>
                <a:ea typeface="Times New Roman"/>
              </a:rPr>
              <a:t>dew point temp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-Narrow"/>
                <a:ea typeface="Times New Roman"/>
              </a:rPr>
              <a:t>48-km parall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Helvetica-Narrow"/>
                <a:ea typeface="Times New Roman"/>
              </a:rPr>
              <a:t>new formulation (NOAH LS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0" y="304920"/>
            <a:ext cx="91440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Helvetica-Narrow"/>
                <a:ea typeface="MS Mincho"/>
              </a:rPr>
              <a:t>REDUCING NEAR-SURFACE MOIST-COOL B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Helvetica-Narrow"/>
                <a:ea typeface="MS Mincho"/>
              </a:rPr>
              <a:t>OVER WET-BARE GROUND IN SP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28600" y="60958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-Narrow"/>
                <a:ea typeface="MS Mincho"/>
              </a:rPr>
              <a:t>Improved 2-m RH in 48-hour diurnal forecast cycle during Apr-M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RH2M_12_diurnal_APR2001_NMW_SOIL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4419720" cy="353556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4191120" y="1981080"/>
            <a:ext cx="53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562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Helvetica-Narrow"/>
              </a:rPr>
              <a:t>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62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Helvetica-Narrow"/>
              </a:rPr>
              <a:t>NOA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62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Helvetica-Narrow"/>
              </a:rPr>
              <a:t>L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475080" y="4505400"/>
            <a:ext cx="276120" cy="1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562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Helvetica-Narrow"/>
              </a:rPr>
              <a:t>o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3733560" y="4267080"/>
            <a:ext cx="276120" cy="24948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3962520" y="2666880"/>
            <a:ext cx="277560" cy="24768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895480" y="5334120"/>
            <a:ext cx="17542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998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Helvetica-Narrow"/>
              </a:rPr>
              <a:t>Eta forecast h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1676520" y="5029200"/>
            <a:ext cx="4190400" cy="166680"/>
            <a:chOff x="1676520" y="5029200"/>
            <a:chExt cx="4190400" cy="166680"/>
          </a:xfrm>
        </p:grpSpPr>
        <p:sp>
          <p:nvSpPr>
            <p:cNvPr id="284" name=""/>
            <p:cNvSpPr/>
            <p:nvPr/>
          </p:nvSpPr>
          <p:spPr>
            <a:xfrm>
              <a:off x="1676520" y="5029200"/>
              <a:ext cx="40176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555000" y="5029200"/>
              <a:ext cx="40644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2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623680" y="5029200"/>
              <a:ext cx="38304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507200" y="5029200"/>
              <a:ext cx="40392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3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459760" y="5029200"/>
              <a:ext cx="40716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4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1003320" y="4495680"/>
            <a:ext cx="29196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998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Helvetica-Narrow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1981080"/>
            <a:ext cx="30456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998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Helvetica-Narrow"/>
              </a:rPr>
              <a:t>8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993600" y="2824200"/>
            <a:ext cx="3016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998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Helvetica-Narrow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209680" y="2743200"/>
            <a:ext cx="533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562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Helvetica-Narrow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62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Helvetica-Narrow"/>
              </a:rPr>
              <a:t>NOA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62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Helvetica-Narrow"/>
              </a:rPr>
              <a:t>L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2590920" y="3352680"/>
            <a:ext cx="247680" cy="277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-118080" y="3242520"/>
            <a:ext cx="1849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elvetica-Narrow"/>
              </a:rPr>
              <a:t>2-m relative humidity (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993600" y="3659040"/>
            <a:ext cx="30168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998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Helvetica-Narrow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6095880" y="3048120"/>
            <a:ext cx="2272680" cy="1377360"/>
            <a:chOff x="6095880" y="3048120"/>
            <a:chExt cx="2272680" cy="1377360"/>
          </a:xfrm>
        </p:grpSpPr>
        <p:sp>
          <p:nvSpPr>
            <p:cNvPr id="297" name=""/>
            <p:cNvSpPr/>
            <p:nvPr/>
          </p:nvSpPr>
          <p:spPr>
            <a:xfrm>
              <a:off x="6095880" y="3447360"/>
              <a:ext cx="977040" cy="799920"/>
            </a:xfrm>
            <a:custGeom>
              <a:avLst/>
              <a:gdLst/>
              <a:ahLst/>
              <a:rect l="l" t="t" r="r" b="b"/>
              <a:pathLst>
                <a:path w="389" h="359">
                  <a:moveTo>
                    <a:pt x="5" y="0"/>
                  </a:moveTo>
                  <a:lnTo>
                    <a:pt x="1" y="40"/>
                  </a:lnTo>
                  <a:lnTo>
                    <a:pt x="1" y="40"/>
                  </a:lnTo>
                  <a:lnTo>
                    <a:pt x="0" y="75"/>
                  </a:lnTo>
                  <a:lnTo>
                    <a:pt x="15" y="159"/>
                  </a:lnTo>
                  <a:lnTo>
                    <a:pt x="55" y="222"/>
                  </a:lnTo>
                  <a:lnTo>
                    <a:pt x="109" y="226"/>
                  </a:lnTo>
                  <a:lnTo>
                    <a:pt x="180" y="276"/>
                  </a:lnTo>
                  <a:lnTo>
                    <a:pt x="237" y="283"/>
                  </a:lnTo>
                  <a:lnTo>
                    <a:pt x="240" y="276"/>
                  </a:lnTo>
                  <a:lnTo>
                    <a:pt x="273" y="283"/>
                  </a:lnTo>
                  <a:lnTo>
                    <a:pt x="340" y="359"/>
                  </a:lnTo>
                  <a:lnTo>
                    <a:pt x="367" y="343"/>
                  </a:lnTo>
                  <a:lnTo>
                    <a:pt x="389" y="96"/>
                  </a:lnTo>
                  <a:lnTo>
                    <a:pt x="305" y="89"/>
                  </a:lnTo>
                  <a:lnTo>
                    <a:pt x="241" y="86"/>
                  </a:lnTo>
                  <a:lnTo>
                    <a:pt x="194" y="77"/>
                  </a:lnTo>
                  <a:lnTo>
                    <a:pt x="188" y="63"/>
                  </a:lnTo>
                  <a:lnTo>
                    <a:pt x="147" y="56"/>
                  </a:lnTo>
                  <a:lnTo>
                    <a:pt x="98" y="49"/>
                  </a:lnTo>
                  <a:lnTo>
                    <a:pt x="90" y="33"/>
                  </a:lnTo>
                  <a:lnTo>
                    <a:pt x="67" y="32"/>
                  </a:lnTo>
                  <a:lnTo>
                    <a:pt x="67" y="17"/>
                  </a:lnTo>
                  <a:lnTo>
                    <a:pt x="60" y="24"/>
                  </a:lnTo>
                  <a:lnTo>
                    <a:pt x="46" y="24"/>
                  </a:lnTo>
                  <a:lnTo>
                    <a:pt x="34" y="25"/>
                  </a:lnTo>
                  <a:lnTo>
                    <a:pt x="29" y="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333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rot="11100000">
              <a:off x="7110000" y="3783240"/>
              <a:ext cx="100080" cy="84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rot="11160000">
              <a:off x="7120440" y="3701160"/>
              <a:ext cx="97920" cy="820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rot="11160000">
              <a:off x="7218360" y="3709800"/>
              <a:ext cx="102240" cy="820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38160">
              <a:solidFill>
                <a:srgbClr val="00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rot="11220000">
              <a:off x="7208280" y="3792240"/>
              <a:ext cx="102960" cy="84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rot="11160000">
              <a:off x="7097400" y="3689280"/>
              <a:ext cx="233280" cy="198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912080" y="3645360"/>
              <a:ext cx="388800" cy="733320"/>
            </a:xfrm>
            <a:custGeom>
              <a:avLst/>
              <a:gdLst/>
              <a:ahLst/>
              <a:rect l="l" t="t" r="r" b="b"/>
              <a:pathLst>
                <a:path w="155" h="329">
                  <a:moveTo>
                    <a:pt x="118" y="329"/>
                  </a:moveTo>
                  <a:lnTo>
                    <a:pt x="143" y="316"/>
                  </a:lnTo>
                  <a:lnTo>
                    <a:pt x="143" y="316"/>
                  </a:lnTo>
                  <a:lnTo>
                    <a:pt x="146" y="268"/>
                  </a:lnTo>
                  <a:lnTo>
                    <a:pt x="79" y="169"/>
                  </a:lnTo>
                  <a:lnTo>
                    <a:pt x="94" y="124"/>
                  </a:lnTo>
                  <a:lnTo>
                    <a:pt x="153" y="30"/>
                  </a:lnTo>
                  <a:lnTo>
                    <a:pt x="155" y="18"/>
                  </a:lnTo>
                  <a:lnTo>
                    <a:pt x="133" y="0"/>
                  </a:lnTo>
                  <a:lnTo>
                    <a:pt x="81" y="14"/>
                  </a:lnTo>
                  <a:lnTo>
                    <a:pt x="81" y="32"/>
                  </a:lnTo>
                  <a:lnTo>
                    <a:pt x="59" y="39"/>
                  </a:lnTo>
                  <a:lnTo>
                    <a:pt x="56" y="124"/>
                  </a:lnTo>
                  <a:lnTo>
                    <a:pt x="30" y="130"/>
                  </a:lnTo>
                  <a:lnTo>
                    <a:pt x="1" y="145"/>
                  </a:lnTo>
                  <a:lnTo>
                    <a:pt x="0" y="175"/>
                  </a:lnTo>
                  <a:lnTo>
                    <a:pt x="17" y="215"/>
                  </a:lnTo>
                  <a:lnTo>
                    <a:pt x="36" y="206"/>
                  </a:lnTo>
                  <a:lnTo>
                    <a:pt x="121" y="303"/>
                  </a:lnTo>
                  <a:lnTo>
                    <a:pt x="118" y="329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110640" y="3058920"/>
              <a:ext cx="942120" cy="595440"/>
            </a:xfrm>
            <a:custGeom>
              <a:avLst/>
              <a:gdLst/>
              <a:ahLst/>
              <a:rect l="l" t="t" r="r" b="b"/>
              <a:pathLst>
                <a:path w="375" h="267">
                  <a:moveTo>
                    <a:pt x="0" y="179"/>
                  </a:moveTo>
                  <a:lnTo>
                    <a:pt x="24" y="180"/>
                  </a:lnTo>
                  <a:lnTo>
                    <a:pt x="24" y="180"/>
                  </a:lnTo>
                  <a:lnTo>
                    <a:pt x="29" y="196"/>
                  </a:lnTo>
                  <a:lnTo>
                    <a:pt x="62" y="199"/>
                  </a:lnTo>
                  <a:lnTo>
                    <a:pt x="65" y="204"/>
                  </a:lnTo>
                  <a:lnTo>
                    <a:pt x="86" y="211"/>
                  </a:lnTo>
                  <a:lnTo>
                    <a:pt x="94" y="225"/>
                  </a:lnTo>
                  <a:lnTo>
                    <a:pt x="186" y="238"/>
                  </a:lnTo>
                  <a:lnTo>
                    <a:pt x="188" y="253"/>
                  </a:lnTo>
                  <a:lnTo>
                    <a:pt x="267" y="261"/>
                  </a:lnTo>
                  <a:lnTo>
                    <a:pt x="369" y="267"/>
                  </a:lnTo>
                  <a:lnTo>
                    <a:pt x="375" y="190"/>
                  </a:lnTo>
                  <a:lnTo>
                    <a:pt x="346" y="187"/>
                  </a:lnTo>
                  <a:lnTo>
                    <a:pt x="347" y="169"/>
                  </a:lnTo>
                  <a:lnTo>
                    <a:pt x="327" y="166"/>
                  </a:lnTo>
                  <a:lnTo>
                    <a:pt x="329" y="149"/>
                  </a:lnTo>
                  <a:lnTo>
                    <a:pt x="298" y="145"/>
                  </a:lnTo>
                  <a:lnTo>
                    <a:pt x="302" y="98"/>
                  </a:lnTo>
                  <a:lnTo>
                    <a:pt x="289" y="94"/>
                  </a:lnTo>
                  <a:lnTo>
                    <a:pt x="293" y="58"/>
                  </a:lnTo>
                  <a:lnTo>
                    <a:pt x="225" y="47"/>
                  </a:lnTo>
                  <a:lnTo>
                    <a:pt x="152" y="24"/>
                  </a:lnTo>
                  <a:lnTo>
                    <a:pt x="100" y="0"/>
                  </a:lnTo>
                  <a:lnTo>
                    <a:pt x="90" y="18"/>
                  </a:lnTo>
                  <a:lnTo>
                    <a:pt x="66" y="9"/>
                  </a:lnTo>
                  <a:lnTo>
                    <a:pt x="48" y="70"/>
                  </a:lnTo>
                  <a:lnTo>
                    <a:pt x="24" y="107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cc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833880" y="3193200"/>
              <a:ext cx="1238400" cy="653040"/>
            </a:xfrm>
            <a:custGeom>
              <a:avLst/>
              <a:gdLst/>
              <a:ahLst/>
              <a:rect l="l" t="t" r="r" b="b"/>
              <a:pathLst>
                <a:path w="493" h="293">
                  <a:moveTo>
                    <a:pt x="5" y="0"/>
                  </a:moveTo>
                  <a:lnTo>
                    <a:pt x="0" y="36"/>
                  </a:lnTo>
                  <a:lnTo>
                    <a:pt x="0" y="36"/>
                  </a:lnTo>
                  <a:lnTo>
                    <a:pt x="14" y="39"/>
                  </a:lnTo>
                  <a:lnTo>
                    <a:pt x="8" y="85"/>
                  </a:lnTo>
                  <a:lnTo>
                    <a:pt x="39" y="89"/>
                  </a:lnTo>
                  <a:lnTo>
                    <a:pt x="40" y="108"/>
                  </a:lnTo>
                  <a:lnTo>
                    <a:pt x="58" y="108"/>
                  </a:lnTo>
                  <a:lnTo>
                    <a:pt x="58" y="127"/>
                  </a:lnTo>
                  <a:lnTo>
                    <a:pt x="86" y="129"/>
                  </a:lnTo>
                  <a:lnTo>
                    <a:pt x="80" y="207"/>
                  </a:lnTo>
                  <a:lnTo>
                    <a:pt x="177" y="217"/>
                  </a:lnTo>
                  <a:lnTo>
                    <a:pt x="179" y="206"/>
                  </a:lnTo>
                  <a:lnTo>
                    <a:pt x="223" y="204"/>
                  </a:lnTo>
                  <a:lnTo>
                    <a:pt x="219" y="293"/>
                  </a:lnTo>
                  <a:lnTo>
                    <a:pt x="301" y="283"/>
                  </a:lnTo>
                  <a:lnTo>
                    <a:pt x="422" y="249"/>
                  </a:lnTo>
                  <a:lnTo>
                    <a:pt x="431" y="221"/>
                  </a:lnTo>
                  <a:lnTo>
                    <a:pt x="450" y="198"/>
                  </a:lnTo>
                  <a:lnTo>
                    <a:pt x="458" y="127"/>
                  </a:lnTo>
                  <a:lnTo>
                    <a:pt x="473" y="108"/>
                  </a:lnTo>
                  <a:lnTo>
                    <a:pt x="476" y="83"/>
                  </a:lnTo>
                  <a:lnTo>
                    <a:pt x="493" y="59"/>
                  </a:lnTo>
                  <a:lnTo>
                    <a:pt x="492" y="39"/>
                  </a:lnTo>
                  <a:lnTo>
                    <a:pt x="464" y="80"/>
                  </a:lnTo>
                  <a:lnTo>
                    <a:pt x="431" y="102"/>
                  </a:lnTo>
                  <a:lnTo>
                    <a:pt x="429" y="116"/>
                  </a:lnTo>
                  <a:lnTo>
                    <a:pt x="401" y="114"/>
                  </a:lnTo>
                  <a:lnTo>
                    <a:pt x="417" y="93"/>
                  </a:lnTo>
                  <a:lnTo>
                    <a:pt x="392" y="51"/>
                  </a:lnTo>
                  <a:lnTo>
                    <a:pt x="350" y="26"/>
                  </a:lnTo>
                  <a:lnTo>
                    <a:pt x="308" y="3"/>
                  </a:lnTo>
                  <a:lnTo>
                    <a:pt x="291" y="2"/>
                  </a:lnTo>
                  <a:lnTo>
                    <a:pt x="278" y="16"/>
                  </a:lnTo>
                  <a:lnTo>
                    <a:pt x="232" y="18"/>
                  </a:lnTo>
                  <a:lnTo>
                    <a:pt x="191" y="3"/>
                  </a:lnTo>
                  <a:lnTo>
                    <a:pt x="180" y="12"/>
                  </a:lnTo>
                  <a:lnTo>
                    <a:pt x="132" y="12"/>
                  </a:lnTo>
                  <a:lnTo>
                    <a:pt x="72" y="8"/>
                  </a:lnTo>
                  <a:lnTo>
                    <a:pt x="27" y="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a020f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851600" y="3048120"/>
              <a:ext cx="507600" cy="918360"/>
            </a:xfrm>
            <a:custGeom>
              <a:avLst/>
              <a:gdLst/>
              <a:ahLst/>
              <a:rect l="l" t="t" r="r" b="b"/>
              <a:pathLst>
                <a:path w="202" h="412">
                  <a:moveTo>
                    <a:pt x="88" y="105"/>
                  </a:moveTo>
                  <a:lnTo>
                    <a:pt x="86" y="128"/>
                  </a:lnTo>
                  <a:lnTo>
                    <a:pt x="86" y="128"/>
                  </a:lnTo>
                  <a:lnTo>
                    <a:pt x="72" y="150"/>
                  </a:lnTo>
                  <a:lnTo>
                    <a:pt x="67" y="172"/>
                  </a:lnTo>
                  <a:lnTo>
                    <a:pt x="51" y="193"/>
                  </a:lnTo>
                  <a:lnTo>
                    <a:pt x="44" y="265"/>
                  </a:lnTo>
                  <a:lnTo>
                    <a:pt x="25" y="285"/>
                  </a:lnTo>
                  <a:lnTo>
                    <a:pt x="22" y="311"/>
                  </a:lnTo>
                  <a:lnTo>
                    <a:pt x="1" y="336"/>
                  </a:lnTo>
                  <a:lnTo>
                    <a:pt x="0" y="357"/>
                  </a:lnTo>
                  <a:lnTo>
                    <a:pt x="12" y="372"/>
                  </a:lnTo>
                  <a:lnTo>
                    <a:pt x="12" y="398"/>
                  </a:lnTo>
                  <a:lnTo>
                    <a:pt x="26" y="412"/>
                  </a:lnTo>
                  <a:lnTo>
                    <a:pt x="51" y="399"/>
                  </a:lnTo>
                  <a:lnTo>
                    <a:pt x="79" y="395"/>
                  </a:lnTo>
                  <a:lnTo>
                    <a:pt x="86" y="306"/>
                  </a:lnTo>
                  <a:lnTo>
                    <a:pt x="104" y="300"/>
                  </a:lnTo>
                  <a:lnTo>
                    <a:pt x="103" y="285"/>
                  </a:lnTo>
                  <a:lnTo>
                    <a:pt x="158" y="267"/>
                  </a:lnTo>
                  <a:lnTo>
                    <a:pt x="157" y="172"/>
                  </a:lnTo>
                  <a:lnTo>
                    <a:pt x="202" y="122"/>
                  </a:lnTo>
                  <a:lnTo>
                    <a:pt x="175" y="96"/>
                  </a:lnTo>
                  <a:lnTo>
                    <a:pt x="202" y="31"/>
                  </a:lnTo>
                  <a:lnTo>
                    <a:pt x="173" y="0"/>
                  </a:lnTo>
                  <a:lnTo>
                    <a:pt x="151" y="10"/>
                  </a:lnTo>
                  <a:lnTo>
                    <a:pt x="146" y="62"/>
                  </a:lnTo>
                  <a:lnTo>
                    <a:pt x="101" y="85"/>
                  </a:lnTo>
                  <a:lnTo>
                    <a:pt x="88" y="105"/>
                  </a:lnTo>
                  <a:close/>
                </a:path>
              </a:pathLst>
            </a:custGeom>
            <a:solidFill>
              <a:srgbClr val="ff7b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017480" y="3647520"/>
              <a:ext cx="934200" cy="769320"/>
            </a:xfrm>
            <a:custGeom>
              <a:avLst/>
              <a:gdLst/>
              <a:ahLst/>
              <a:rect l="l" t="t" r="r" b="b"/>
              <a:pathLst>
                <a:path w="372" h="346">
                  <a:moveTo>
                    <a:pt x="0" y="252"/>
                  </a:moveTo>
                  <a:lnTo>
                    <a:pt x="23" y="4"/>
                  </a:lnTo>
                  <a:lnTo>
                    <a:pt x="104" y="14"/>
                  </a:lnTo>
                  <a:lnTo>
                    <a:pt x="110" y="0"/>
                  </a:lnTo>
                  <a:lnTo>
                    <a:pt x="154" y="2"/>
                  </a:lnTo>
                  <a:lnTo>
                    <a:pt x="148" y="89"/>
                  </a:lnTo>
                  <a:lnTo>
                    <a:pt x="213" y="82"/>
                  </a:lnTo>
                  <a:lnTo>
                    <a:pt x="283" y="64"/>
                  </a:lnTo>
                  <a:lnTo>
                    <a:pt x="345" y="44"/>
                  </a:lnTo>
                  <a:lnTo>
                    <a:pt x="335" y="69"/>
                  </a:lnTo>
                  <a:lnTo>
                    <a:pt x="335" y="93"/>
                  </a:lnTo>
                  <a:lnTo>
                    <a:pt x="344" y="103"/>
                  </a:lnTo>
                  <a:lnTo>
                    <a:pt x="343" y="132"/>
                  </a:lnTo>
                  <a:lnTo>
                    <a:pt x="356" y="145"/>
                  </a:lnTo>
                  <a:lnTo>
                    <a:pt x="356" y="177"/>
                  </a:lnTo>
                  <a:lnTo>
                    <a:pt x="372" y="215"/>
                  </a:lnTo>
                  <a:lnTo>
                    <a:pt x="366" y="219"/>
                  </a:lnTo>
                  <a:lnTo>
                    <a:pt x="340" y="206"/>
                  </a:lnTo>
                  <a:lnTo>
                    <a:pt x="277" y="223"/>
                  </a:lnTo>
                  <a:lnTo>
                    <a:pt x="274" y="249"/>
                  </a:lnTo>
                  <a:lnTo>
                    <a:pt x="243" y="257"/>
                  </a:lnTo>
                  <a:lnTo>
                    <a:pt x="181" y="248"/>
                  </a:lnTo>
                  <a:lnTo>
                    <a:pt x="122" y="284"/>
                  </a:lnTo>
                  <a:lnTo>
                    <a:pt x="108" y="321"/>
                  </a:lnTo>
                  <a:lnTo>
                    <a:pt x="106" y="346"/>
                  </a:lnTo>
                  <a:lnTo>
                    <a:pt x="82" y="344"/>
                  </a:lnTo>
                  <a:lnTo>
                    <a:pt x="49" y="308"/>
                  </a:lnTo>
                  <a:lnTo>
                    <a:pt x="26" y="265"/>
                  </a:lnTo>
                  <a:lnTo>
                    <a:pt x="0" y="252"/>
                  </a:lnTo>
                  <a:close/>
                </a:path>
              </a:pathLst>
            </a:custGeom>
            <a:solidFill>
              <a:srgbClr val="ba55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780960" y="3641040"/>
              <a:ext cx="263520" cy="20160"/>
            </a:xfrm>
            <a:custGeom>
              <a:avLst/>
              <a:gdLst/>
              <a:ahLst/>
              <a:rect l="l" t="t" r="r" b="b"/>
              <a:pathLst>
                <a:path w="104" h="8">
                  <a:moveTo>
                    <a:pt x="0" y="0"/>
                  </a:moveTo>
                  <a:lnTo>
                    <a:pt x="104" y="8"/>
                  </a:lnTo>
                  <a:lnTo>
                    <a:pt x="104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117640" y="3645360"/>
              <a:ext cx="128160" cy="42120"/>
            </a:xfrm>
            <a:custGeom>
              <a:avLst/>
              <a:gdLst/>
              <a:ahLst/>
              <a:rect l="l" t="t" r="r" b="b"/>
              <a:pathLst>
                <a:path w="51" h="20">
                  <a:moveTo>
                    <a:pt x="0" y="20"/>
                  </a:moveTo>
                  <a:lnTo>
                    <a:pt x="51" y="0"/>
                  </a:lnTo>
                  <a:lnTo>
                    <a:pt x="51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110640" y="3099600"/>
              <a:ext cx="331560" cy="403200"/>
            </a:xfrm>
            <a:custGeom>
              <a:avLst/>
              <a:gdLst/>
              <a:ahLst/>
              <a:rect l="l" t="t" r="r" b="b"/>
              <a:pathLst>
                <a:path w="131" h="181">
                  <a:moveTo>
                    <a:pt x="131" y="0"/>
                  </a:moveTo>
                  <a:lnTo>
                    <a:pt x="120" y="43"/>
                  </a:lnTo>
                  <a:lnTo>
                    <a:pt x="120" y="43"/>
                  </a:lnTo>
                  <a:lnTo>
                    <a:pt x="109" y="43"/>
                  </a:lnTo>
                  <a:lnTo>
                    <a:pt x="100" y="103"/>
                  </a:lnTo>
                  <a:lnTo>
                    <a:pt x="83" y="108"/>
                  </a:lnTo>
                  <a:lnTo>
                    <a:pt x="79" y="167"/>
                  </a:lnTo>
                  <a:lnTo>
                    <a:pt x="59" y="181"/>
                  </a:lnTo>
                  <a:lnTo>
                    <a:pt x="28" y="181"/>
                  </a:lnTo>
                  <a:lnTo>
                    <a:pt x="24" y="166"/>
                  </a:lnTo>
                  <a:lnTo>
                    <a:pt x="0" y="16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261480" y="3487320"/>
              <a:ext cx="165600" cy="459000"/>
            </a:xfrm>
            <a:custGeom>
              <a:avLst/>
              <a:gdLst/>
              <a:ahLst/>
              <a:rect l="l" t="t" r="r" b="b"/>
              <a:pathLst>
                <a:path w="67" h="206">
                  <a:moveTo>
                    <a:pt x="5" y="0"/>
                  </a:moveTo>
                  <a:lnTo>
                    <a:pt x="0" y="44"/>
                  </a:lnTo>
                  <a:lnTo>
                    <a:pt x="61" y="143"/>
                  </a:lnTo>
                  <a:lnTo>
                    <a:pt x="67" y="175"/>
                  </a:lnTo>
                  <a:lnTo>
                    <a:pt x="48" y="20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269040" y="3520440"/>
              <a:ext cx="516960" cy="532800"/>
            </a:xfrm>
            <a:custGeom>
              <a:avLst/>
              <a:gdLst/>
              <a:ahLst/>
              <a:rect l="l" t="t" r="r" b="b"/>
              <a:pathLst>
                <a:path w="206" h="239">
                  <a:moveTo>
                    <a:pt x="0" y="0"/>
                  </a:moveTo>
                  <a:lnTo>
                    <a:pt x="26" y="6"/>
                  </a:lnTo>
                  <a:lnTo>
                    <a:pt x="26" y="6"/>
                  </a:lnTo>
                  <a:lnTo>
                    <a:pt x="30" y="19"/>
                  </a:lnTo>
                  <a:lnTo>
                    <a:pt x="124" y="30"/>
                  </a:lnTo>
                  <a:lnTo>
                    <a:pt x="124" y="47"/>
                  </a:lnTo>
                  <a:lnTo>
                    <a:pt x="206" y="57"/>
                  </a:lnTo>
                  <a:lnTo>
                    <a:pt x="191" y="218"/>
                  </a:lnTo>
                  <a:lnTo>
                    <a:pt x="176" y="220"/>
                  </a:lnTo>
                  <a:lnTo>
                    <a:pt x="170" y="239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580440" y="3146040"/>
              <a:ext cx="218160" cy="501480"/>
            </a:xfrm>
            <a:custGeom>
              <a:avLst/>
              <a:gdLst/>
              <a:ahLst/>
              <a:rect l="l" t="t" r="r" b="b"/>
              <a:pathLst>
                <a:path w="86" h="225">
                  <a:moveTo>
                    <a:pt x="79" y="225"/>
                  </a:moveTo>
                  <a:lnTo>
                    <a:pt x="86" y="204"/>
                  </a:lnTo>
                  <a:lnTo>
                    <a:pt x="86" y="204"/>
                  </a:lnTo>
                  <a:lnTo>
                    <a:pt x="69" y="200"/>
                  </a:lnTo>
                  <a:lnTo>
                    <a:pt x="67" y="185"/>
                  </a:lnTo>
                  <a:lnTo>
                    <a:pt x="52" y="184"/>
                  </a:lnTo>
                  <a:lnTo>
                    <a:pt x="55" y="154"/>
                  </a:lnTo>
                  <a:lnTo>
                    <a:pt x="41" y="149"/>
                  </a:lnTo>
                  <a:lnTo>
                    <a:pt x="41" y="135"/>
                  </a:lnTo>
                  <a:lnTo>
                    <a:pt x="25" y="132"/>
                  </a:lnTo>
                  <a:lnTo>
                    <a:pt x="29" y="101"/>
                  </a:lnTo>
                  <a:lnTo>
                    <a:pt x="11" y="93"/>
                  </a:lnTo>
                  <a:lnTo>
                    <a:pt x="14" y="56"/>
                  </a:lnTo>
                  <a:lnTo>
                    <a:pt x="0" y="31"/>
                  </a:ln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833880" y="3197520"/>
              <a:ext cx="562680" cy="480960"/>
            </a:xfrm>
            <a:custGeom>
              <a:avLst/>
              <a:gdLst/>
              <a:ahLst/>
              <a:rect l="l" t="t" r="r" b="b"/>
              <a:pathLst>
                <a:path w="224" h="216">
                  <a:moveTo>
                    <a:pt x="3" y="0"/>
                  </a:moveTo>
                  <a:lnTo>
                    <a:pt x="0" y="34"/>
                  </a:lnTo>
                  <a:lnTo>
                    <a:pt x="0" y="34"/>
                  </a:lnTo>
                  <a:lnTo>
                    <a:pt x="14" y="35"/>
                  </a:lnTo>
                  <a:lnTo>
                    <a:pt x="12" y="54"/>
                  </a:lnTo>
                  <a:lnTo>
                    <a:pt x="10" y="84"/>
                  </a:lnTo>
                  <a:lnTo>
                    <a:pt x="42" y="88"/>
                  </a:lnTo>
                  <a:lnTo>
                    <a:pt x="40" y="105"/>
                  </a:lnTo>
                  <a:lnTo>
                    <a:pt x="57" y="105"/>
                  </a:lnTo>
                  <a:lnTo>
                    <a:pt x="56" y="126"/>
                  </a:lnTo>
                  <a:lnTo>
                    <a:pt x="86" y="127"/>
                  </a:lnTo>
                  <a:lnTo>
                    <a:pt x="80" y="205"/>
                  </a:lnTo>
                  <a:lnTo>
                    <a:pt x="178" y="216"/>
                  </a:lnTo>
                  <a:lnTo>
                    <a:pt x="181" y="202"/>
                  </a:lnTo>
                  <a:lnTo>
                    <a:pt x="224" y="20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014600" y="3661200"/>
              <a:ext cx="65160" cy="548280"/>
            </a:xfrm>
            <a:custGeom>
              <a:avLst/>
              <a:gdLst/>
              <a:ahLst/>
              <a:rect l="l" t="t" r="r" b="b"/>
              <a:pathLst>
                <a:path w="26" h="245">
                  <a:moveTo>
                    <a:pt x="0" y="245"/>
                  </a:move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389360" y="3284640"/>
              <a:ext cx="685080" cy="561600"/>
            </a:xfrm>
            <a:custGeom>
              <a:avLst/>
              <a:gdLst/>
              <a:ahLst/>
              <a:rect l="l" t="t" r="r" b="b"/>
              <a:pathLst>
                <a:path w="273" h="252">
                  <a:moveTo>
                    <a:pt x="0" y="252"/>
                  </a:moveTo>
                  <a:lnTo>
                    <a:pt x="95" y="242"/>
                  </a:lnTo>
                  <a:lnTo>
                    <a:pt x="204" y="205"/>
                  </a:lnTo>
                  <a:lnTo>
                    <a:pt x="210" y="179"/>
                  </a:lnTo>
                  <a:lnTo>
                    <a:pt x="226" y="158"/>
                  </a:lnTo>
                  <a:lnTo>
                    <a:pt x="236" y="85"/>
                  </a:lnTo>
                  <a:lnTo>
                    <a:pt x="248" y="72"/>
                  </a:lnTo>
                  <a:lnTo>
                    <a:pt x="255" y="41"/>
                  </a:lnTo>
                  <a:lnTo>
                    <a:pt x="268" y="23"/>
                  </a:lnTo>
                  <a:lnTo>
                    <a:pt x="273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856640" y="3747960"/>
              <a:ext cx="97920" cy="378360"/>
            </a:xfrm>
            <a:custGeom>
              <a:avLst/>
              <a:gdLst/>
              <a:ahLst/>
              <a:rect l="l" t="t" r="r" b="b"/>
              <a:pathLst>
                <a:path w="39" h="170">
                  <a:moveTo>
                    <a:pt x="39" y="170"/>
                  </a:moveTo>
                  <a:lnTo>
                    <a:pt x="22" y="141"/>
                  </a:lnTo>
                  <a:lnTo>
                    <a:pt x="22" y="141"/>
                  </a:lnTo>
                  <a:lnTo>
                    <a:pt x="23" y="102"/>
                  </a:lnTo>
                  <a:lnTo>
                    <a:pt x="8" y="86"/>
                  </a:lnTo>
                  <a:lnTo>
                    <a:pt x="11" y="57"/>
                  </a:lnTo>
                  <a:lnTo>
                    <a:pt x="1" y="43"/>
                  </a:lnTo>
                  <a:lnTo>
                    <a:pt x="0" y="20"/>
                  </a:lnTo>
                  <a:lnTo>
                    <a:pt x="13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919280" y="3224520"/>
              <a:ext cx="248760" cy="748440"/>
            </a:xfrm>
            <a:custGeom>
              <a:avLst/>
              <a:gdLst/>
              <a:ahLst/>
              <a:rect l="l" t="t" r="r" b="b"/>
              <a:pathLst>
                <a:path w="98" h="336">
                  <a:moveTo>
                    <a:pt x="0" y="336"/>
                  </a:moveTo>
                  <a:lnTo>
                    <a:pt x="22" y="321"/>
                  </a:lnTo>
                  <a:lnTo>
                    <a:pt x="22" y="321"/>
                  </a:lnTo>
                  <a:lnTo>
                    <a:pt x="51" y="318"/>
                  </a:lnTo>
                  <a:lnTo>
                    <a:pt x="60" y="226"/>
                  </a:lnTo>
                  <a:lnTo>
                    <a:pt x="75" y="225"/>
                  </a:lnTo>
                  <a:lnTo>
                    <a:pt x="9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095880" y="3063600"/>
              <a:ext cx="1310760" cy="1361880"/>
            </a:xfrm>
            <a:custGeom>
              <a:avLst/>
              <a:gdLst/>
              <a:ahLst/>
              <a:rect l="l" t="t" r="r" b="b"/>
              <a:pathLst>
                <a:path w="521" h="611">
                  <a:moveTo>
                    <a:pt x="521" y="75"/>
                  </a:moveTo>
                  <a:lnTo>
                    <a:pt x="484" y="64"/>
                  </a:lnTo>
                  <a:lnTo>
                    <a:pt x="484" y="64"/>
                  </a:lnTo>
                  <a:lnTo>
                    <a:pt x="478" y="71"/>
                  </a:lnTo>
                  <a:lnTo>
                    <a:pt x="361" y="69"/>
                  </a:lnTo>
                  <a:lnTo>
                    <a:pt x="251" y="50"/>
                  </a:lnTo>
                  <a:lnTo>
                    <a:pt x="160" y="24"/>
                  </a:lnTo>
                  <a:lnTo>
                    <a:pt x="104" y="0"/>
                  </a:lnTo>
                  <a:lnTo>
                    <a:pt x="96" y="17"/>
                  </a:lnTo>
                  <a:lnTo>
                    <a:pt x="72" y="8"/>
                  </a:lnTo>
                  <a:lnTo>
                    <a:pt x="52" y="74"/>
                  </a:lnTo>
                  <a:lnTo>
                    <a:pt x="28" y="107"/>
                  </a:lnTo>
                  <a:lnTo>
                    <a:pt x="6" y="169"/>
                  </a:lnTo>
                  <a:lnTo>
                    <a:pt x="0" y="247"/>
                  </a:lnTo>
                  <a:lnTo>
                    <a:pt x="3" y="274"/>
                  </a:lnTo>
                  <a:lnTo>
                    <a:pt x="18" y="332"/>
                  </a:lnTo>
                  <a:lnTo>
                    <a:pt x="55" y="395"/>
                  </a:lnTo>
                  <a:lnTo>
                    <a:pt x="111" y="397"/>
                  </a:lnTo>
                  <a:lnTo>
                    <a:pt x="180" y="450"/>
                  </a:lnTo>
                  <a:lnTo>
                    <a:pt x="239" y="458"/>
                  </a:lnTo>
                  <a:lnTo>
                    <a:pt x="239" y="446"/>
                  </a:lnTo>
                  <a:lnTo>
                    <a:pt x="275" y="454"/>
                  </a:lnTo>
                  <a:lnTo>
                    <a:pt x="338" y="532"/>
                  </a:lnTo>
                  <a:lnTo>
                    <a:pt x="368" y="513"/>
                  </a:lnTo>
                  <a:lnTo>
                    <a:pt x="394" y="530"/>
                  </a:lnTo>
                  <a:lnTo>
                    <a:pt x="415" y="569"/>
                  </a:lnTo>
                  <a:lnTo>
                    <a:pt x="450" y="605"/>
                  </a:lnTo>
                  <a:lnTo>
                    <a:pt x="473" y="611"/>
                  </a:lnTo>
                </a:path>
              </a:pathLst>
            </a:custGeom>
            <a:noFill/>
            <a:ln w="3816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283520" y="3050640"/>
              <a:ext cx="1085040" cy="1374840"/>
            </a:xfrm>
            <a:custGeom>
              <a:avLst/>
              <a:gdLst/>
              <a:ahLst/>
              <a:rect l="l" t="t" r="r" b="b"/>
              <a:pathLst>
                <a:path w="432" h="617">
                  <a:moveTo>
                    <a:pt x="0" y="617"/>
                  </a:moveTo>
                  <a:lnTo>
                    <a:pt x="24" y="370"/>
                  </a:lnTo>
                  <a:lnTo>
                    <a:pt x="24" y="370"/>
                  </a:lnTo>
                  <a:lnTo>
                    <a:pt x="39" y="371"/>
                  </a:lnTo>
                  <a:lnTo>
                    <a:pt x="47" y="272"/>
                  </a:lnTo>
                  <a:lnTo>
                    <a:pt x="51" y="224"/>
                  </a:lnTo>
                  <a:lnTo>
                    <a:pt x="39" y="223"/>
                  </a:lnTo>
                  <a:lnTo>
                    <a:pt x="52" y="84"/>
                  </a:lnTo>
                  <a:lnTo>
                    <a:pt x="98" y="82"/>
                  </a:lnTo>
                  <a:lnTo>
                    <a:pt x="116" y="67"/>
                  </a:lnTo>
                  <a:lnTo>
                    <a:pt x="145" y="74"/>
                  </a:lnTo>
                  <a:lnTo>
                    <a:pt x="209" y="109"/>
                  </a:lnTo>
                  <a:lnTo>
                    <a:pt x="230" y="139"/>
                  </a:lnTo>
                  <a:lnTo>
                    <a:pt x="234" y="161"/>
                  </a:lnTo>
                  <a:lnTo>
                    <a:pt x="225" y="181"/>
                  </a:lnTo>
                  <a:lnTo>
                    <a:pt x="251" y="182"/>
                  </a:lnTo>
                  <a:lnTo>
                    <a:pt x="254" y="169"/>
                  </a:lnTo>
                  <a:lnTo>
                    <a:pt x="274" y="155"/>
                  </a:lnTo>
                  <a:lnTo>
                    <a:pt x="310" y="111"/>
                  </a:lnTo>
                  <a:lnTo>
                    <a:pt x="325" y="86"/>
                  </a:lnTo>
                  <a:lnTo>
                    <a:pt x="372" y="63"/>
                  </a:lnTo>
                  <a:lnTo>
                    <a:pt x="380" y="7"/>
                  </a:lnTo>
                  <a:lnTo>
                    <a:pt x="401" y="0"/>
                  </a:lnTo>
                  <a:lnTo>
                    <a:pt x="432" y="31"/>
                  </a:lnTo>
                  <a:lnTo>
                    <a:pt x="403" y="95"/>
                  </a:lnTo>
                  <a:lnTo>
                    <a:pt x="419" y="113"/>
                  </a:lnTo>
                  <a:lnTo>
                    <a:pt x="427" y="127"/>
                  </a:lnTo>
                  <a:lnTo>
                    <a:pt x="385" y="175"/>
                  </a:lnTo>
                  <a:lnTo>
                    <a:pt x="384" y="267"/>
                  </a:lnTo>
                  <a:lnTo>
                    <a:pt x="405" y="289"/>
                  </a:lnTo>
                  <a:lnTo>
                    <a:pt x="402" y="299"/>
                  </a:lnTo>
                  <a:lnTo>
                    <a:pt x="343" y="393"/>
                  </a:lnTo>
                  <a:lnTo>
                    <a:pt x="329" y="435"/>
                  </a:lnTo>
                  <a:lnTo>
                    <a:pt x="393" y="533"/>
                  </a:lnTo>
                  <a:lnTo>
                    <a:pt x="392" y="585"/>
                  </a:lnTo>
                  <a:lnTo>
                    <a:pt x="369" y="598"/>
                  </a:lnTo>
                  <a:lnTo>
                    <a:pt x="370" y="570"/>
                  </a:lnTo>
                  <a:lnTo>
                    <a:pt x="287" y="472"/>
                  </a:lnTo>
                  <a:lnTo>
                    <a:pt x="263" y="487"/>
                  </a:lnTo>
                  <a:lnTo>
                    <a:pt x="234" y="471"/>
                  </a:lnTo>
                  <a:lnTo>
                    <a:pt x="171" y="493"/>
                  </a:lnTo>
                  <a:lnTo>
                    <a:pt x="168" y="518"/>
                  </a:lnTo>
                  <a:lnTo>
                    <a:pt x="137" y="525"/>
                  </a:lnTo>
                  <a:lnTo>
                    <a:pt x="75" y="516"/>
                  </a:lnTo>
                  <a:lnTo>
                    <a:pt x="14" y="554"/>
                  </a:lnTo>
                  <a:lnTo>
                    <a:pt x="1" y="594"/>
                  </a:lnTo>
                </a:path>
              </a:pathLst>
            </a:custGeom>
            <a:noFill/>
            <a:ln w="3816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112520" y="3409560"/>
              <a:ext cx="519840" cy="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2673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095600" y="3872880"/>
              <a:ext cx="549720" cy="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2673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223320" y="3364560"/>
              <a:ext cx="429480" cy="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ts val="2673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rot="18002400">
              <a:off x="7890840" y="3369240"/>
              <a:ext cx="34092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vert="eaVert">
              <a:noAutofit/>
            </a:bodyPr>
            <a:p>
              <a:pPr>
                <a:lnSpc>
                  <a:spcPts val="2673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904520" y="3953520"/>
              <a:ext cx="127440" cy="4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786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rot="17343000">
              <a:off x="6166080" y="3202560"/>
              <a:ext cx="12924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vert="eaVert">
              <a:noAutofit/>
            </a:bodyPr>
            <a:p>
              <a:pPr>
                <a:lnSpc>
                  <a:spcPts val="1786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047720" y="3417840"/>
              <a:ext cx="117720" cy="4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786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515000" y="3217320"/>
              <a:ext cx="147960" cy="4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786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138160" y="3259800"/>
              <a:ext cx="128160" cy="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786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070040" y="4026600"/>
              <a:ext cx="118440" cy="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786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372000" y="3382560"/>
              <a:ext cx="130320" cy="3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786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633000" y="3382560"/>
              <a:ext cx="117720" cy="3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786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494840" y="3977640"/>
              <a:ext cx="147960" cy="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786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rot="18295200">
              <a:off x="7984080" y="3453840"/>
              <a:ext cx="109080" cy="10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vert="eaVert">
              <a:noAutofit/>
            </a:bodyPr>
            <a:p>
              <a:pPr>
                <a:lnSpc>
                  <a:spcPts val="1786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607800" y="3547440"/>
              <a:ext cx="406440" cy="1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5349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532640" y="3759120"/>
              <a:ext cx="361440" cy="11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5349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331680" y="3768480"/>
              <a:ext cx="447120" cy="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2673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464880" y="3933000"/>
              <a:ext cx="128160" cy="3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786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130440" y="3817440"/>
              <a:ext cx="140400" cy="3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786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771240" y="3917520"/>
              <a:ext cx="117720" cy="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786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" name=""/>
          <p:cNvSpPr/>
          <p:nvPr/>
        </p:nvSpPr>
        <p:spPr>
          <a:xfrm flipV="1">
            <a:off x="7607160" y="2876400"/>
            <a:ext cx="203400" cy="534960"/>
          </a:xfrm>
          <a:prstGeom prst="line">
            <a:avLst/>
          </a:prstGeom>
          <a:ln w="38160">
            <a:solidFill>
              <a:srgbClr val="8237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758920" y="2419200"/>
            <a:ext cx="314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-Narrow"/>
                <a:ea typeface="MS Mincho"/>
              </a:rPr>
              <a:t>USA northern mid-w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510120" y="5796000"/>
            <a:ext cx="812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Mincho"/>
              </a:rPr>
              <a:t>Shallow/retreating snow cover in USA northern plain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380880" y="304920"/>
            <a:ext cx="8382240" cy="5442480"/>
            <a:chOff x="380880" y="304920"/>
            <a:chExt cx="8382240" cy="5442480"/>
          </a:xfrm>
        </p:grpSpPr>
        <p:pic>
          <p:nvPicPr>
            <p:cNvPr id="345" name="ims2001037_usa" descr=""/>
            <p:cNvPicPr/>
            <p:nvPr/>
          </p:nvPicPr>
          <p:blipFill>
            <a:blip r:embed="rId1"/>
            <a:stretch/>
          </p:blipFill>
          <p:spPr>
            <a:xfrm>
              <a:off x="6095880" y="3048120"/>
              <a:ext cx="2667240" cy="24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ims2001035_usa" descr=""/>
            <p:cNvPicPr/>
            <p:nvPr/>
          </p:nvPicPr>
          <p:blipFill>
            <a:blip r:embed="rId2"/>
            <a:stretch/>
          </p:blipFill>
          <p:spPr>
            <a:xfrm>
              <a:off x="380880" y="3048120"/>
              <a:ext cx="2667240" cy="24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ims2001036_usa" descr=""/>
            <p:cNvPicPr/>
            <p:nvPr/>
          </p:nvPicPr>
          <p:blipFill>
            <a:blip r:embed="rId3"/>
            <a:stretch/>
          </p:blipFill>
          <p:spPr>
            <a:xfrm>
              <a:off x="3238560" y="3048120"/>
              <a:ext cx="266688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7086600" y="1143000"/>
              <a:ext cx="144792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Helvetica-Narrow"/>
                  <a:ea typeface="Times New Roman"/>
                </a:rPr>
                <a:t>Nor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Helvetica-Narrow"/>
                  <a:ea typeface="Times New Roman"/>
                </a:rPr>
                <a:t>snowco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9" name="ims2001032_usa" descr=""/>
            <p:cNvPicPr/>
            <p:nvPr/>
          </p:nvPicPr>
          <p:blipFill>
            <a:blip r:embed="rId4"/>
            <a:stretch/>
          </p:blipFill>
          <p:spPr>
            <a:xfrm>
              <a:off x="380880" y="304920"/>
              <a:ext cx="2667240" cy="24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ims2001034_usa" descr=""/>
            <p:cNvPicPr/>
            <p:nvPr/>
          </p:nvPicPr>
          <p:blipFill>
            <a:blip r:embed="rId5"/>
            <a:stretch/>
          </p:blipFill>
          <p:spPr>
            <a:xfrm>
              <a:off x="6095880" y="304920"/>
              <a:ext cx="2667240" cy="24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ims2001033_usa" descr=""/>
            <p:cNvPicPr/>
            <p:nvPr/>
          </p:nvPicPr>
          <p:blipFill>
            <a:blip r:embed="rId6"/>
            <a:stretch/>
          </p:blipFill>
          <p:spPr>
            <a:xfrm>
              <a:off x="3238560" y="304920"/>
              <a:ext cx="266688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1050120" y="2666880"/>
              <a:ext cx="132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MS Mincho"/>
                </a:rPr>
                <a:t>01 Feb 20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906360" y="2666880"/>
              <a:ext cx="132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MS Mincho"/>
                </a:rPr>
                <a:t>02 Feb 20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763680" y="2666880"/>
              <a:ext cx="132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MS Mincho"/>
                </a:rPr>
                <a:t>03 Feb 20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048680" y="5410080"/>
              <a:ext cx="132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MS Mincho"/>
                </a:rPr>
                <a:t>04 Feb 20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907800" y="5410080"/>
              <a:ext cx="132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MS Mincho"/>
                </a:rPr>
                <a:t>05 Feb 20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765120" y="5410080"/>
              <a:ext cx="132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MS Mincho"/>
                </a:rPr>
                <a:t>06 Feb 20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228600" y="4267080"/>
            <a:ext cx="8751960" cy="311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0000"/>
                </a:solidFill>
                <a:uFillTx/>
                <a:latin typeface="Helvetica-Narrow"/>
                <a:ea typeface="MS Mincho"/>
              </a:rPr>
              <a:t>old model formulation</a:t>
            </a:r>
            <a:r>
              <a:rPr b="0" lang="en-US" sz="2000" spc="-1" strike="noStrike">
                <a:solidFill>
                  <a:srgbClr val="000000"/>
                </a:solidFill>
                <a:latin typeface="Helvetica-Narrow"/>
                <a:ea typeface="MS Mincho"/>
              </a:rPr>
              <a:t> (upper lef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-Narrow"/>
                <a:ea typeface="MS Mincho"/>
              </a:rPr>
              <a:t>=&gt; bulk of incoming energy melts/sublimates snow =&gt; skin temp held at freez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-Narrow"/>
                <a:ea typeface="MS Mincho"/>
              </a:rPr>
              <a:t>=&gt; 2-m air temp held near freez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0000"/>
                </a:solidFill>
                <a:uFillTx/>
                <a:latin typeface="Helvetica-Narrow"/>
                <a:ea typeface="MS Mincho"/>
              </a:rPr>
              <a:t>new model formulation</a:t>
            </a:r>
            <a:r>
              <a:rPr b="0" lang="en-US" sz="2000" spc="-1" strike="noStrike">
                <a:solidFill>
                  <a:srgbClr val="cc0000"/>
                </a:solidFill>
                <a:latin typeface="Helvetica-Narrow"/>
                <a:ea typeface="MS Mincho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-Narrow"/>
                <a:ea typeface="MS Mincho"/>
              </a:rPr>
              <a:t>(upper righ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-Narrow"/>
                <a:ea typeface="MS Mincho"/>
              </a:rPr>
              <a:t>=&gt; patchy snow cover for snow depth less than threshold depth (veg-type dependent) =&gt; reduces surface albedo =&gt; more available energy at sf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-Narrow"/>
                <a:ea typeface="MS Mincho"/>
              </a:rPr>
              <a:t>=&gt; skin temp can exceed 0 C =&gt; 2-m air temp rises further above freez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761240" y="0"/>
            <a:ext cx="138276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130680" y="0"/>
            <a:ext cx="8318880" cy="958320"/>
            <a:chOff x="130680" y="0"/>
            <a:chExt cx="8318880" cy="958320"/>
          </a:xfrm>
        </p:grpSpPr>
        <p:sp>
          <p:nvSpPr>
            <p:cNvPr id="361" name=""/>
            <p:cNvSpPr/>
            <p:nvPr/>
          </p:nvSpPr>
          <p:spPr>
            <a:xfrm>
              <a:off x="130680" y="0"/>
              <a:ext cx="831888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Helvetica-Narrow"/>
                  <a:ea typeface="MS Mincho"/>
                </a:rPr>
                <a:t>REDUCING SURFACE COOL BIAS OVER MELTING S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elvetica-Narrow"/>
                  <a:ea typeface="MS Mincho"/>
                </a:rPr>
                <a:t>FEB 2001 ETA MODEL RETROSPECTIVE RU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022280" y="439560"/>
              <a:ext cx="1728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304920" y="914400"/>
            <a:ext cx="88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elvetica-Narrow"/>
                <a:ea typeface="MS Mincho"/>
              </a:rPr>
              <a:t>warm advection/melting snowpack case:  00Z 02 FEB 2001, 60-hr model r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54000" y="1371240"/>
            <a:ext cx="8950680" cy="2564280"/>
            <a:chOff x="54000" y="1371240"/>
            <a:chExt cx="8950680" cy="2564280"/>
          </a:xfrm>
        </p:grpSpPr>
        <p:sp>
          <p:nvSpPr>
            <p:cNvPr id="365" name=""/>
            <p:cNvSpPr/>
            <p:nvPr/>
          </p:nvSpPr>
          <p:spPr>
            <a:xfrm>
              <a:off x="591120" y="3536640"/>
              <a:ext cx="4505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Helvetica-Narrow"/>
                  <a:ea typeface="Times New Roman"/>
                </a:rPr>
                <a:t>2-m air temp, current for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920840" y="3519360"/>
              <a:ext cx="4083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Helvetica-Narrow"/>
                  <a:ea typeface="Times New Roman"/>
                </a:rPr>
                <a:t>2-m air temp, new for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67" name="725620_flux2_2001020200_eta_SWE" descr=""/>
            <p:cNvPicPr/>
            <p:nvPr/>
          </p:nvPicPr>
          <p:blipFill>
            <a:blip r:embed="rId1"/>
            <a:stretch/>
          </p:blipFill>
          <p:spPr>
            <a:xfrm>
              <a:off x="700200" y="1373040"/>
              <a:ext cx="4152960" cy="65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725620_flux1_2001020200_Tsfc" descr=""/>
            <p:cNvPicPr/>
            <p:nvPr/>
          </p:nvPicPr>
          <p:blipFill>
            <a:blip r:embed="rId2"/>
            <a:stretch/>
          </p:blipFill>
          <p:spPr>
            <a:xfrm>
              <a:off x="696960" y="2017440"/>
              <a:ext cx="4129200" cy="64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725620.sfc_2001020200_T2m" descr=""/>
            <p:cNvPicPr/>
            <p:nvPr/>
          </p:nvPicPr>
          <p:blipFill>
            <a:blip r:embed="rId3"/>
            <a:stretch/>
          </p:blipFill>
          <p:spPr>
            <a:xfrm>
              <a:off x="727200" y="2663640"/>
              <a:ext cx="4084560" cy="66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725620_flux2_2001020200_legend" descr=""/>
            <p:cNvPicPr/>
            <p:nvPr/>
          </p:nvPicPr>
          <p:blipFill>
            <a:blip r:embed="rId4"/>
            <a:stretch/>
          </p:blipFill>
          <p:spPr>
            <a:xfrm>
              <a:off x="706320" y="3322440"/>
              <a:ext cx="407376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2895480" y="1485720"/>
              <a:ext cx="1959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elvetica-Narrow"/>
                  <a:ea typeface="MS Mincho"/>
                </a:rPr>
                <a:t>North Platt, Neb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971640" y="2900160"/>
              <a:ext cx="3698640" cy="0"/>
            </a:xfrm>
            <a:prstGeom prst="line">
              <a:avLst/>
            </a:prstGeom>
            <a:ln w="93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2075040" y="1372680"/>
              <a:ext cx="0" cy="2003400"/>
            </a:xfrm>
            <a:prstGeom prst="line">
              <a:avLst/>
            </a:prstGeom>
            <a:ln w="93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124640" y="2736720"/>
              <a:ext cx="47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Helvetica-Narrow"/>
                  <a:ea typeface="Times New Roman"/>
                </a:rPr>
                <a:t>0 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393200" y="1949400"/>
              <a:ext cx="59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Helvetica-Narrow"/>
                  <a:ea typeface="Times New Roman"/>
                </a:rPr>
                <a:t>=0 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971640" y="2292120"/>
              <a:ext cx="3698640" cy="0"/>
            </a:xfrm>
            <a:prstGeom prst="line">
              <a:avLst/>
            </a:prstGeom>
            <a:ln w="93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42200" y="1393560"/>
              <a:ext cx="712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Helvetica-Narrow"/>
                  <a:ea typeface="Times New Roman"/>
                </a:rPr>
                <a:t>sno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Helvetica-Narrow"/>
                  <a:ea typeface="Times New Roman"/>
                </a:rPr>
                <a:t>mel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41480" y="2027160"/>
              <a:ext cx="717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Helvetica-Narrow"/>
                  <a:ea typeface="Times New Roman"/>
                </a:rPr>
                <a:t>sk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Helvetica-Narrow"/>
                  <a:ea typeface="Times New Roman"/>
                </a:rPr>
                <a:t>tem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4000" y="2662200"/>
              <a:ext cx="891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Helvetica-Narrow"/>
                  <a:ea typeface="Times New Roman"/>
                </a:rPr>
                <a:t>2-m ai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Helvetica-Narrow"/>
                  <a:ea typeface="Times New Roman"/>
                </a:rPr>
                <a:t>tem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100960" y="3049560"/>
              <a:ext cx="127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Helvetica-Narrow"/>
                  <a:ea typeface="Times New Roman"/>
                </a:rPr>
                <a:t>model</a:t>
              </a: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r>
                <a:rPr b="1" lang="en-US" sz="1600" spc="-1" strike="noStrike">
                  <a:solidFill>
                    <a:srgbClr val="000000"/>
                  </a:solidFill>
                  <a:latin typeface="Helvetica-Narrow"/>
                  <a:ea typeface="Times New Roman"/>
                </a:rPr>
                <a:t>0 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410200" y="2315880"/>
              <a:ext cx="94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Helvetica-Narrow"/>
                  <a:ea typeface="Times New Roman"/>
                </a:rPr>
                <a:t>obs&gt;0 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2363400" y="2536560"/>
              <a:ext cx="1825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 flipV="1">
              <a:off x="2193840" y="2923560"/>
              <a:ext cx="11448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354480" y="2109600"/>
              <a:ext cx="1825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857240" y="2109600"/>
              <a:ext cx="1810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49960" y="3350880"/>
              <a:ext cx="52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Helvetica-Narrow"/>
                  <a:ea typeface="Times New Roman"/>
                </a:rPr>
                <a:t>18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7" name="725620_flux2_2001020200_etay_SWE" descr=""/>
            <p:cNvPicPr/>
            <p:nvPr/>
          </p:nvPicPr>
          <p:blipFill>
            <a:blip r:embed="rId5"/>
            <a:stretch/>
          </p:blipFill>
          <p:spPr>
            <a:xfrm>
              <a:off x="4799160" y="1371600"/>
              <a:ext cx="4101840" cy="65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725620_flux1_2001020200_etay_Tsfc" descr=""/>
            <p:cNvPicPr/>
            <p:nvPr/>
          </p:nvPicPr>
          <p:blipFill>
            <a:blip r:embed="rId6"/>
            <a:stretch/>
          </p:blipFill>
          <p:spPr>
            <a:xfrm flipH="1" rot="10800000">
              <a:off x="4794120" y="2027880"/>
              <a:ext cx="4152960" cy="6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"/>
            <p:cNvSpPr/>
            <p:nvPr/>
          </p:nvSpPr>
          <p:spPr>
            <a:xfrm>
              <a:off x="6956280" y="1458720"/>
              <a:ext cx="1959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elvetica-Narrow"/>
                  <a:ea typeface="MS Mincho"/>
                </a:rPr>
                <a:t>North Platt, Neb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0" name="725620_flux2_2001020200_legend" descr=""/>
            <p:cNvPicPr/>
            <p:nvPr/>
          </p:nvPicPr>
          <p:blipFill>
            <a:blip r:embed="rId7"/>
            <a:stretch/>
          </p:blipFill>
          <p:spPr>
            <a:xfrm>
              <a:off x="4809960" y="3314520"/>
              <a:ext cx="4073760" cy="18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725620.sfc_2001020200_etay_T2m" descr=""/>
            <p:cNvPicPr/>
            <p:nvPr/>
          </p:nvPicPr>
          <p:blipFill>
            <a:blip r:embed="rId8"/>
            <a:stretch/>
          </p:blipFill>
          <p:spPr>
            <a:xfrm>
              <a:off x="4830840" y="2663640"/>
              <a:ext cx="4083120" cy="6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5091120" y="2893680"/>
              <a:ext cx="3699000" cy="0"/>
            </a:xfrm>
            <a:prstGeom prst="line">
              <a:avLst/>
            </a:prstGeom>
            <a:ln w="93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6181560" y="1371240"/>
              <a:ext cx="0" cy="1987560"/>
            </a:xfrm>
            <a:prstGeom prst="line">
              <a:avLst/>
            </a:prstGeom>
            <a:ln w="93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934600" y="3350880"/>
              <a:ext cx="52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Helvetica-Narrow"/>
                  <a:ea typeface="Times New Roman"/>
                </a:rPr>
                <a:t>18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103000" y="2719080"/>
              <a:ext cx="47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Helvetica-Narrow"/>
                  <a:ea typeface="Times New Roman"/>
                </a:rPr>
                <a:t>0 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072040" y="2384280"/>
              <a:ext cx="3697200" cy="0"/>
            </a:xfrm>
            <a:prstGeom prst="line">
              <a:avLst/>
            </a:prstGeom>
            <a:ln w="93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06560" y="2003400"/>
              <a:ext cx="59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Helvetica-Narrow"/>
                  <a:ea typeface="Times New Roman"/>
                </a:rPr>
                <a:t>&gt;0 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975280" y="2181240"/>
              <a:ext cx="1825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72640" y="2955600"/>
              <a:ext cx="164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Helvetica-Narrow"/>
                  <a:ea typeface="Times New Roman"/>
                </a:rPr>
                <a:t>obs,model&gt;0 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 flipV="1">
              <a:off x="6273360" y="2920680"/>
              <a:ext cx="1825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228600" y="5546880"/>
            <a:ext cx="8915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-Narrow"/>
                <a:ea typeface="Times New Roman"/>
              </a:rPr>
              <a:t>The new formulation has less </a:t>
            </a:r>
            <a:r>
              <a:rPr b="1" lang="en-US" sz="2000" spc="-1" strike="noStrike">
                <a:solidFill>
                  <a:srgbClr val="000000"/>
                </a:solidFill>
                <a:latin typeface="Helvetica-Narrow"/>
                <a:ea typeface="MS Mincho"/>
              </a:rPr>
              <a:t>cold bias </a:t>
            </a:r>
            <a:r>
              <a:rPr b="1" lang="en-US" sz="2000" spc="-1" strike="noStrike">
                <a:solidFill>
                  <a:srgbClr val="000000"/>
                </a:solidFill>
                <a:latin typeface="Helvetica-Narrow"/>
                <a:ea typeface="Times New Roman"/>
              </a:rPr>
              <a:t>in 2-m air temp than old operational formulation over this region of shallow melting snowpa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-Narrow"/>
                <a:ea typeface="Times New Roman"/>
              </a:rPr>
              <a:t>(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elvetica-Narrow"/>
                <a:ea typeface="MS Mincho"/>
              </a:rPr>
              <a:t>obs</a:t>
            </a:r>
            <a:r>
              <a:rPr b="1" lang="en-US" sz="2000" spc="-1" strike="noStrike">
                <a:solidFill>
                  <a:srgbClr val="000000"/>
                </a:solidFill>
                <a:latin typeface="Helvetica-Narrow"/>
                <a:ea typeface="MS Mincho"/>
              </a:rPr>
              <a:t>=plotted numbers,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elvetica-Narrow"/>
                <a:ea typeface="MS Mincho"/>
              </a:rPr>
              <a:t>model</a:t>
            </a:r>
            <a:r>
              <a:rPr b="1" lang="en-US" sz="2000" spc="-1" strike="noStrike">
                <a:solidFill>
                  <a:srgbClr val="000000"/>
                </a:solidFill>
                <a:latin typeface="Helvetica-Narrow"/>
                <a:ea typeface="MS Mincho"/>
              </a:rPr>
              <a:t>=color-shaded contouring; North Platt, Neb. circl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22860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Helvetica-Narrow"/>
                <a:ea typeface="MS Mincho"/>
              </a:rPr>
              <a:t>REDUCING SURFACE COOL BIAS OVER MELTING S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-Narrow"/>
                <a:ea typeface="MS Mincho"/>
              </a:rPr>
              <a:t>02 FEB 2001 warm advection/melting snowpack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02Feb2001_18hr_EtaT2m_obsT2m_NE" descr=""/>
          <p:cNvPicPr/>
          <p:nvPr/>
        </p:nvPicPr>
        <p:blipFill>
          <a:blip r:embed="rId1"/>
          <a:stretch/>
        </p:blipFill>
        <p:spPr>
          <a:xfrm>
            <a:off x="623880" y="1449360"/>
            <a:ext cx="3970440" cy="3416400"/>
          </a:xfrm>
          <a:prstGeom prst="rect">
            <a:avLst/>
          </a:prstGeom>
          <a:ln w="0">
            <a:noFill/>
          </a:ln>
        </p:spPr>
      </p:pic>
      <p:pic>
        <p:nvPicPr>
          <p:cNvPr id="404" name="02Feb2001_18hr_EtayT2m_obsT2m_NE" descr=""/>
          <p:cNvPicPr/>
          <p:nvPr/>
        </p:nvPicPr>
        <p:blipFill>
          <a:blip r:embed="rId2"/>
          <a:stretch/>
        </p:blipFill>
        <p:spPr>
          <a:xfrm>
            <a:off x="4586400" y="1449360"/>
            <a:ext cx="3970080" cy="341640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383760" y="4952880"/>
            <a:ext cx="421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-Narrow"/>
                <a:ea typeface="Times New Roman"/>
              </a:rPr>
              <a:t>18Z 2-m air temp, old form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3800" y="4952880"/>
            <a:ext cx="434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-Narrow"/>
                <a:ea typeface="Times New Roman"/>
              </a:rPr>
              <a:t>18Z 2-m air temp, new form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482920" y="3225960"/>
            <a:ext cx="139680" cy="168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611760" y="3232080"/>
            <a:ext cx="140040" cy="168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west_cold_T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8150400" cy="543384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27040" y="304920"/>
            <a:ext cx="8391960" cy="10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Mean diurnal cycle of 2-m air temperature of observations and Eta model 48-hr forecast from 12Z,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averaged over 30-day WINTER period of 01 Feb –  01 Mar 2001 at all surface stations over East U.S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ation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B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olid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P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Eta/NOAH: </a:t>
            </a: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hort das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TES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Eta/NOAH: </a:t>
            </a: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long das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rot="16200000">
            <a:off x="186480" y="368892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mperature (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041720" y="6308640"/>
            <a:ext cx="155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ecast H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601640" y="61578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868160" y="618336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98920" y="580536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915120" y="1508040"/>
            <a:ext cx="45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soil_725315.sfc_2000083000_key" descr=""/>
          <p:cNvPicPr/>
          <p:nvPr/>
        </p:nvPicPr>
        <p:blipFill>
          <a:blip r:embed="rId1"/>
          <a:stretch/>
        </p:blipFill>
        <p:spPr>
          <a:xfrm>
            <a:off x="1600200" y="5078520"/>
            <a:ext cx="7135920" cy="377640"/>
          </a:xfrm>
          <a:prstGeom prst="rect">
            <a:avLst/>
          </a:prstGeom>
          <a:ln w="0">
            <a:noFill/>
          </a:ln>
        </p:spPr>
      </p:pic>
      <p:pic>
        <p:nvPicPr>
          <p:cNvPr id="418" name="ctl_725315.sfc_2000083000_T_Td" descr=""/>
          <p:cNvPicPr/>
          <p:nvPr/>
        </p:nvPicPr>
        <p:blipFill>
          <a:blip r:embed="rId2"/>
          <a:stretch/>
        </p:blipFill>
        <p:spPr>
          <a:xfrm>
            <a:off x="1371600" y="1447920"/>
            <a:ext cx="7315200" cy="1954080"/>
          </a:xfrm>
          <a:prstGeom prst="rect">
            <a:avLst/>
          </a:prstGeom>
          <a:ln w="0">
            <a:noFill/>
          </a:ln>
        </p:spPr>
      </p:pic>
      <p:pic>
        <p:nvPicPr>
          <p:cNvPr id="419" name="soil_725315.sfc_2000083000_T_Td" descr=""/>
          <p:cNvPicPr/>
          <p:nvPr/>
        </p:nvPicPr>
        <p:blipFill>
          <a:blip r:embed="rId3"/>
          <a:stretch/>
        </p:blipFill>
        <p:spPr>
          <a:xfrm>
            <a:off x="1371600" y="3402000"/>
            <a:ext cx="7377120" cy="170496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457200" y="5410080"/>
            <a:ext cx="8458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-95040" y="392040"/>
            <a:ext cx="9855000" cy="932040"/>
            <a:chOff x="-95040" y="392040"/>
            <a:chExt cx="9855000" cy="932040"/>
          </a:xfrm>
        </p:grpSpPr>
        <p:sp>
          <p:nvSpPr>
            <p:cNvPr id="422" name=""/>
            <p:cNvSpPr/>
            <p:nvPr/>
          </p:nvSpPr>
          <p:spPr>
            <a:xfrm>
              <a:off x="-95040" y="392040"/>
              <a:ext cx="9855000" cy="66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Helvetica-Narrow"/>
                  <a:ea typeface="MS Mincho"/>
                </a:rPr>
                <a:t>Reducing Summer warm bias over non-sparse green vege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elvetica-Narrow"/>
                  <a:ea typeface="MS Mincho"/>
                </a:rPr>
                <a:t>00Z, 30 AUG 2000, 60-hr Eta model ru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546080" y="80496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124560" y="1371600"/>
            <a:ext cx="13816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-Narrow"/>
                <a:ea typeface="Times New Roman"/>
              </a:rPr>
              <a:t>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-Narrow"/>
                <a:ea typeface="Times New Roman"/>
              </a:rPr>
              <a:t>2-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-Narrow"/>
                <a:ea typeface="Times New Roman"/>
              </a:rPr>
              <a:t>T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-Narrow"/>
                <a:ea typeface="Times New Roman"/>
              </a:rPr>
              <a:t>Td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4723920" y="1599480"/>
            <a:ext cx="1810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4560" y="3247920"/>
            <a:ext cx="13816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-Narrow"/>
                <a:ea typeface="Times New Roman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-Narrow"/>
                <a:ea typeface="Times New Roman"/>
              </a:rPr>
              <a:t>2-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-Narrow"/>
                <a:ea typeface="Times New Roman"/>
              </a:rPr>
              <a:t>T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-Narrow"/>
                <a:ea typeface="Times New Roman"/>
              </a:rPr>
              <a:t>Td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828800" y="103968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hampaign, Illino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4648320" y="3581280"/>
            <a:ext cx="1807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066680" y="5715000"/>
            <a:ext cx="769644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elvetica-Narrow"/>
                <a:ea typeface="MS Mincho"/>
              </a:rPr>
              <a:t>Solid Line:         surface station observ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elvetica-Narrow"/>
                <a:ea typeface="MS Mincho"/>
              </a:rPr>
              <a:t>Dashed Line:     coupled Eta / NOAH model foreca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elvetica-Narrow"/>
                <a:ea typeface="MS Mincho"/>
              </a:rPr>
              <a:t>Physics change: ground heat flux under vegetation, canopy resistance parame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366000" y="378000"/>
            <a:ext cx="249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MS Mincho"/>
              </a:rPr>
              <a:t>Collabor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304920" y="395280"/>
            <a:ext cx="2286000" cy="581400"/>
            <a:chOff x="304920" y="395280"/>
            <a:chExt cx="2286000" cy="581400"/>
          </a:xfrm>
        </p:grpSpPr>
        <p:pic>
          <p:nvPicPr>
            <p:cNvPr id="57" name="GAPP_logo" descr=""/>
            <p:cNvPicPr/>
            <p:nvPr/>
          </p:nvPicPr>
          <p:blipFill>
            <a:blip r:embed="rId1"/>
            <a:stretch/>
          </p:blipFill>
          <p:spPr>
            <a:xfrm>
              <a:off x="1504800" y="407880"/>
              <a:ext cx="1086120" cy="55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304920" y="395280"/>
              <a:ext cx="128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  <a:ea typeface="MS Mincho"/>
                </a:rPr>
                <a:t>GAP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6634800" y="328680"/>
            <a:ext cx="2052000" cy="712800"/>
            <a:chOff x="6634800" y="328680"/>
            <a:chExt cx="2052000" cy="712800"/>
          </a:xfrm>
        </p:grpSpPr>
        <p:pic>
          <p:nvPicPr>
            <p:cNvPr id="60" name="GCIP_logo" descr=""/>
            <p:cNvPicPr/>
            <p:nvPr/>
          </p:nvPicPr>
          <p:blipFill>
            <a:blip r:embed="rId2"/>
            <a:stretch/>
          </p:blipFill>
          <p:spPr>
            <a:xfrm>
              <a:off x="7772400" y="328680"/>
              <a:ext cx="91440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6634800" y="395640"/>
              <a:ext cx="119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  <a:ea typeface="MS Mincho"/>
                </a:rPr>
                <a:t>GCI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5410800" y="3360600"/>
            <a:ext cx="2513880" cy="911880"/>
            <a:chOff x="5410800" y="3360600"/>
            <a:chExt cx="2513880" cy="911880"/>
          </a:xfrm>
        </p:grpSpPr>
        <p:sp>
          <p:nvSpPr>
            <p:cNvPr id="63" name=""/>
            <p:cNvSpPr/>
            <p:nvPr/>
          </p:nvSpPr>
          <p:spPr>
            <a:xfrm>
              <a:off x="5639400" y="3740040"/>
              <a:ext cx="161172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Eric Woo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Justin Sheffiel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" name=""/>
            <p:cNvGrpSpPr/>
            <p:nvPr/>
          </p:nvGrpSpPr>
          <p:grpSpPr>
            <a:xfrm>
              <a:off x="5410800" y="3360600"/>
              <a:ext cx="2513880" cy="459720"/>
              <a:chOff x="5410800" y="3360600"/>
              <a:chExt cx="2513880" cy="459720"/>
            </a:xfrm>
          </p:grpSpPr>
          <p:sp>
            <p:nvSpPr>
              <p:cNvPr id="65" name=""/>
              <p:cNvSpPr/>
              <p:nvPr/>
            </p:nvSpPr>
            <p:spPr>
              <a:xfrm>
                <a:off x="5410800" y="3360600"/>
                <a:ext cx="2230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996600"/>
                    </a:solidFill>
                    <a:latin typeface="Times New Roman"/>
                    <a:ea typeface="MS Mincho"/>
                  </a:rPr>
                  <a:t>Princeton Univ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6" name="Princeton_logo" descr=""/>
              <p:cNvPicPr/>
              <p:nvPr/>
            </p:nvPicPr>
            <p:blipFill>
              <a:blip r:embed="rId3"/>
              <a:stretch/>
            </p:blipFill>
            <p:spPr>
              <a:xfrm>
                <a:off x="7603920" y="3458880"/>
                <a:ext cx="320760" cy="314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67" name=""/>
          <p:cNvGrpSpPr/>
          <p:nvPr/>
        </p:nvGrpSpPr>
        <p:grpSpPr>
          <a:xfrm>
            <a:off x="5414400" y="1066680"/>
            <a:ext cx="2510280" cy="1156320"/>
            <a:chOff x="5414400" y="1066680"/>
            <a:chExt cx="2510280" cy="1156320"/>
          </a:xfrm>
        </p:grpSpPr>
        <p:sp>
          <p:nvSpPr>
            <p:cNvPr id="68" name=""/>
            <p:cNvSpPr/>
            <p:nvPr/>
          </p:nvSpPr>
          <p:spPr>
            <a:xfrm>
              <a:off x="5639760" y="1401840"/>
              <a:ext cx="141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Dan Tarpl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5414400" y="1066680"/>
              <a:ext cx="2510280" cy="459720"/>
              <a:chOff x="5414400" y="1066680"/>
              <a:chExt cx="2510280" cy="459720"/>
            </a:xfrm>
          </p:grpSpPr>
          <p:sp>
            <p:nvSpPr>
              <p:cNvPr id="70" name=""/>
              <p:cNvSpPr/>
              <p:nvPr/>
            </p:nvSpPr>
            <p:spPr>
              <a:xfrm>
                <a:off x="5414400" y="1066680"/>
                <a:ext cx="2261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996600"/>
                    </a:solidFill>
                    <a:latin typeface="Times New Roman"/>
                    <a:ea typeface="MS Mincho"/>
                  </a:rPr>
                  <a:t>NOAA/NESDI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71" name="NESDIS_logo" descr=""/>
              <p:cNvPicPr/>
              <p:nvPr/>
            </p:nvPicPr>
            <p:blipFill>
              <a:blip r:embed="rId4"/>
              <a:stretch/>
            </p:blipFill>
            <p:spPr>
              <a:xfrm>
                <a:off x="7619760" y="1143000"/>
                <a:ext cx="304920" cy="304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2" name=""/>
            <p:cNvSpPr/>
            <p:nvPr/>
          </p:nvSpPr>
          <p:spPr>
            <a:xfrm>
              <a:off x="5639040" y="1690560"/>
              <a:ext cx="152352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Bruce Rams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Andy Bail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5411880" y="5372280"/>
            <a:ext cx="2741400" cy="1139760"/>
            <a:chOff x="5411880" y="5372280"/>
            <a:chExt cx="2741400" cy="1139760"/>
          </a:xfrm>
        </p:grpSpPr>
        <p:sp>
          <p:nvSpPr>
            <p:cNvPr id="74" name=""/>
            <p:cNvSpPr/>
            <p:nvPr/>
          </p:nvSpPr>
          <p:spPr>
            <a:xfrm>
              <a:off x="5640480" y="5705280"/>
              <a:ext cx="201564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Soroosh Sorooshi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James Shuttlewor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Luis Bastid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411880" y="537228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6600"/>
                  </a:solidFill>
                  <a:latin typeface="Times New Roman"/>
                  <a:ea typeface="MS Mincho"/>
                </a:rPr>
                <a:t>Univ. Arizo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6" name="UnivAz_logo_a" descr=""/>
            <p:cNvPicPr/>
            <p:nvPr/>
          </p:nvPicPr>
          <p:blipFill>
            <a:blip r:embed="rId5"/>
            <a:stretch/>
          </p:blipFill>
          <p:spPr>
            <a:xfrm>
              <a:off x="7315200" y="5481360"/>
              <a:ext cx="838080" cy="13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UnivAz_logo_b" descr=""/>
            <p:cNvPicPr/>
            <p:nvPr/>
          </p:nvPicPr>
          <p:blipFill>
            <a:blip r:embed="rId6"/>
            <a:stretch/>
          </p:blipFill>
          <p:spPr>
            <a:xfrm>
              <a:off x="7404120" y="5595840"/>
              <a:ext cx="662040" cy="12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8" name=""/>
          <p:cNvGrpSpPr/>
          <p:nvPr/>
        </p:nvGrpSpPr>
        <p:grpSpPr>
          <a:xfrm>
            <a:off x="5412240" y="4365720"/>
            <a:ext cx="3045960" cy="911880"/>
            <a:chOff x="5412240" y="4365720"/>
            <a:chExt cx="3045960" cy="911880"/>
          </a:xfrm>
        </p:grpSpPr>
        <p:sp>
          <p:nvSpPr>
            <p:cNvPr id="79" name=""/>
            <p:cNvSpPr/>
            <p:nvPr/>
          </p:nvSpPr>
          <p:spPr>
            <a:xfrm>
              <a:off x="5637960" y="4745160"/>
              <a:ext cx="199584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Dennis Lettenma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Laura Bowl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412240" y="4365720"/>
              <a:ext cx="253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6600"/>
                  </a:solidFill>
                  <a:latin typeface="Times New Roman"/>
                  <a:ea typeface="MS Mincho"/>
                </a:rPr>
                <a:t>Univ. Washingt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1" name="UWash_logo" descr=""/>
            <p:cNvPicPr/>
            <p:nvPr/>
          </p:nvPicPr>
          <p:blipFill>
            <a:blip r:embed="rId7"/>
            <a:stretch/>
          </p:blipFill>
          <p:spPr>
            <a:xfrm>
              <a:off x="7920000" y="4430880"/>
              <a:ext cx="538200" cy="297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2" name=""/>
          <p:cNvGrpSpPr/>
          <p:nvPr/>
        </p:nvGrpSpPr>
        <p:grpSpPr>
          <a:xfrm>
            <a:off x="5412960" y="2316240"/>
            <a:ext cx="1748520" cy="948960"/>
            <a:chOff x="5412960" y="2316240"/>
            <a:chExt cx="1748520" cy="948960"/>
          </a:xfrm>
        </p:grpSpPr>
        <p:sp>
          <p:nvSpPr>
            <p:cNvPr id="83" name=""/>
            <p:cNvSpPr/>
            <p:nvPr/>
          </p:nvSpPr>
          <p:spPr>
            <a:xfrm>
              <a:off x="5639760" y="2651040"/>
              <a:ext cx="152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George Gay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5412960" y="2316240"/>
              <a:ext cx="1368720" cy="459720"/>
              <a:chOff x="5412960" y="2316240"/>
              <a:chExt cx="1368720" cy="459720"/>
            </a:xfrm>
          </p:grpSpPr>
          <p:sp>
            <p:nvSpPr>
              <p:cNvPr id="85" name=""/>
              <p:cNvSpPr/>
              <p:nvPr/>
            </p:nvSpPr>
            <p:spPr>
              <a:xfrm>
                <a:off x="5412960" y="2316240"/>
                <a:ext cx="1110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996600"/>
                    </a:solidFill>
                    <a:latin typeface="Times New Roman"/>
                    <a:ea typeface="MS Mincho"/>
                  </a:rPr>
                  <a:t>AFW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86" name="AFWA_logo" descr=""/>
              <p:cNvPicPr/>
              <p:nvPr/>
            </p:nvPicPr>
            <p:blipFill>
              <a:blip r:embed="rId8"/>
              <a:stretch/>
            </p:blipFill>
            <p:spPr>
              <a:xfrm>
                <a:off x="6476760" y="2436480"/>
                <a:ext cx="304920" cy="303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7" name=""/>
            <p:cNvSpPr/>
            <p:nvPr/>
          </p:nvSpPr>
          <p:spPr>
            <a:xfrm>
              <a:off x="5638680" y="2896920"/>
              <a:ext cx="135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Jerry Wegi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232200" y="2401920"/>
            <a:ext cx="2243520" cy="916560"/>
            <a:chOff x="232200" y="2401920"/>
            <a:chExt cx="2243520" cy="916560"/>
          </a:xfrm>
        </p:grpSpPr>
        <p:sp>
          <p:nvSpPr>
            <p:cNvPr id="89" name=""/>
            <p:cNvSpPr/>
            <p:nvPr/>
          </p:nvSpPr>
          <p:spPr>
            <a:xfrm>
              <a:off x="444960" y="2786040"/>
              <a:ext cx="203076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Wayne Higgi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Huug Van den Do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232200" y="2401920"/>
              <a:ext cx="2030040" cy="459720"/>
              <a:chOff x="232200" y="2401920"/>
              <a:chExt cx="2030040" cy="459720"/>
            </a:xfrm>
          </p:grpSpPr>
          <p:sp>
            <p:nvSpPr>
              <p:cNvPr id="91" name=""/>
              <p:cNvSpPr/>
              <p:nvPr/>
            </p:nvSpPr>
            <p:spPr>
              <a:xfrm>
                <a:off x="232200" y="2401920"/>
                <a:ext cx="1718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996600"/>
                    </a:solidFill>
                    <a:latin typeface="Times New Roman"/>
                    <a:ea typeface="MS Mincho"/>
                  </a:rPr>
                  <a:t>NCEP/CP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92" name="cpc_logo" descr=""/>
              <p:cNvPicPr/>
              <p:nvPr/>
            </p:nvPicPr>
            <p:blipFill>
              <a:blip r:embed="rId9"/>
              <a:stretch/>
            </p:blipFill>
            <p:spPr>
              <a:xfrm>
                <a:off x="1957320" y="2478240"/>
                <a:ext cx="304920" cy="304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93" name=""/>
          <p:cNvGrpSpPr/>
          <p:nvPr/>
        </p:nvGrpSpPr>
        <p:grpSpPr>
          <a:xfrm>
            <a:off x="231480" y="1066680"/>
            <a:ext cx="2283120" cy="1164960"/>
            <a:chOff x="231480" y="1066680"/>
            <a:chExt cx="2283120" cy="1164960"/>
          </a:xfrm>
        </p:grpSpPr>
        <p:sp>
          <p:nvSpPr>
            <p:cNvPr id="94" name=""/>
            <p:cNvSpPr/>
            <p:nvPr/>
          </p:nvSpPr>
          <p:spPr>
            <a:xfrm>
              <a:off x="432000" y="1393920"/>
              <a:ext cx="1497600" cy="75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Ken Mitch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Michael E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Dag Lohman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31640" y="1609920"/>
              <a:ext cx="184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31640" y="1865520"/>
              <a:ext cx="184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31480" y="1066680"/>
              <a:ext cx="180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6600"/>
                  </a:solidFill>
                  <a:latin typeface="Times New Roman"/>
                  <a:ea typeface="MS Mincho"/>
                </a:rPr>
                <a:t>NCEP/EM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NCEP_logo" descr=""/>
            <p:cNvPicPr/>
            <p:nvPr/>
          </p:nvPicPr>
          <p:blipFill>
            <a:blip r:embed="rId10"/>
            <a:stretch/>
          </p:blipFill>
          <p:spPr>
            <a:xfrm>
              <a:off x="2057400" y="1172160"/>
              <a:ext cx="457200" cy="25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9" name=""/>
          <p:cNvGrpSpPr/>
          <p:nvPr/>
        </p:nvGrpSpPr>
        <p:grpSpPr>
          <a:xfrm>
            <a:off x="230040" y="3487680"/>
            <a:ext cx="2540160" cy="915840"/>
            <a:chOff x="230040" y="3487680"/>
            <a:chExt cx="2540160" cy="915840"/>
          </a:xfrm>
        </p:grpSpPr>
        <p:sp>
          <p:nvSpPr>
            <p:cNvPr id="100" name=""/>
            <p:cNvSpPr/>
            <p:nvPr/>
          </p:nvSpPr>
          <p:spPr>
            <a:xfrm>
              <a:off x="419040" y="4035240"/>
              <a:ext cx="147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Rachel Pink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19760" y="3806640"/>
              <a:ext cx="148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Hugo Berbe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30040" y="3487680"/>
              <a:ext cx="226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6600"/>
                  </a:solidFill>
                  <a:latin typeface="Times New Roman"/>
                  <a:ea typeface="MS Mincho"/>
                </a:rPr>
                <a:t>Univ. Maryl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UMd_logo" descr=""/>
            <p:cNvPicPr/>
            <p:nvPr/>
          </p:nvPicPr>
          <p:blipFill>
            <a:blip r:embed="rId11"/>
            <a:stretch/>
          </p:blipFill>
          <p:spPr>
            <a:xfrm>
              <a:off x="2428920" y="3546360"/>
              <a:ext cx="341280" cy="34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4" name=""/>
          <p:cNvGrpSpPr/>
          <p:nvPr/>
        </p:nvGrpSpPr>
        <p:grpSpPr>
          <a:xfrm>
            <a:off x="229680" y="4573440"/>
            <a:ext cx="2589480" cy="896040"/>
            <a:chOff x="229680" y="4573440"/>
            <a:chExt cx="2589480" cy="896040"/>
          </a:xfrm>
        </p:grpSpPr>
        <p:sp>
          <p:nvSpPr>
            <p:cNvPr id="105" name=""/>
            <p:cNvSpPr/>
            <p:nvPr/>
          </p:nvSpPr>
          <p:spPr>
            <a:xfrm>
              <a:off x="445680" y="4937040"/>
              <a:ext cx="149580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Ken Crawfor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Jeff Basar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29680" y="4573440"/>
              <a:ext cx="233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6600"/>
                  </a:solidFill>
                  <a:latin typeface="Times New Roman"/>
                  <a:ea typeface="MS Mincho"/>
                </a:rPr>
                <a:t>Univ. Oklahom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7" name="OU_logo" descr=""/>
            <p:cNvPicPr/>
            <p:nvPr/>
          </p:nvPicPr>
          <p:blipFill>
            <a:blip r:embed="rId12"/>
            <a:stretch/>
          </p:blipFill>
          <p:spPr>
            <a:xfrm>
              <a:off x="2465280" y="4659120"/>
              <a:ext cx="353880" cy="28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" name=""/>
          <p:cNvGrpSpPr/>
          <p:nvPr/>
        </p:nvGrpSpPr>
        <p:grpSpPr>
          <a:xfrm>
            <a:off x="230760" y="5638680"/>
            <a:ext cx="2512440" cy="895680"/>
            <a:chOff x="230760" y="5638680"/>
            <a:chExt cx="2512440" cy="895680"/>
          </a:xfrm>
        </p:grpSpPr>
        <p:sp>
          <p:nvSpPr>
            <p:cNvPr id="109" name=""/>
            <p:cNvSpPr/>
            <p:nvPr/>
          </p:nvSpPr>
          <p:spPr>
            <a:xfrm>
              <a:off x="445320" y="6001920"/>
              <a:ext cx="139536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Alan Robo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Lifeng Lu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30760" y="5638680"/>
              <a:ext cx="199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6600"/>
                  </a:solidFill>
                  <a:latin typeface="Times New Roman"/>
                  <a:ea typeface="MS Mincho"/>
                </a:rPr>
                <a:t>Rutgers Univ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1" name="Rutgers_logo" descr=""/>
            <p:cNvPicPr/>
            <p:nvPr/>
          </p:nvPicPr>
          <p:blipFill>
            <a:blip r:embed="rId13"/>
            <a:stretch/>
          </p:blipFill>
          <p:spPr>
            <a:xfrm>
              <a:off x="2210040" y="5714640"/>
              <a:ext cx="533160" cy="30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2" name=""/>
          <p:cNvGrpSpPr/>
          <p:nvPr/>
        </p:nvGrpSpPr>
        <p:grpSpPr>
          <a:xfrm>
            <a:off x="2973240" y="1066680"/>
            <a:ext cx="1879920" cy="1209600"/>
            <a:chOff x="2973240" y="1066680"/>
            <a:chExt cx="1879920" cy="1209600"/>
          </a:xfrm>
        </p:grpSpPr>
        <p:sp>
          <p:nvSpPr>
            <p:cNvPr id="113" name=""/>
            <p:cNvSpPr/>
            <p:nvPr/>
          </p:nvSpPr>
          <p:spPr>
            <a:xfrm>
              <a:off x="3189600" y="1407960"/>
              <a:ext cx="153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John Schaak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88520" y="1658880"/>
              <a:ext cx="139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Victor Ko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188880" y="1908000"/>
              <a:ext cx="153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Qingyun Du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2973240" y="1066680"/>
              <a:ext cx="1879920" cy="459720"/>
              <a:chOff x="2973240" y="1066680"/>
              <a:chExt cx="1879920" cy="459720"/>
            </a:xfrm>
          </p:grpSpPr>
          <p:sp>
            <p:nvSpPr>
              <p:cNvPr id="117" name=""/>
              <p:cNvSpPr/>
              <p:nvPr/>
            </p:nvSpPr>
            <p:spPr>
              <a:xfrm>
                <a:off x="2973240" y="1066680"/>
                <a:ext cx="165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996600"/>
                    </a:solidFill>
                    <a:latin typeface="Times New Roman"/>
                    <a:ea typeface="MS Mincho"/>
                  </a:rPr>
                  <a:t>NWS/OH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8" name="OHD_logo_3" descr=""/>
              <p:cNvPicPr/>
              <p:nvPr/>
            </p:nvPicPr>
            <p:blipFill>
              <a:blip r:embed="rId14"/>
              <a:stretch/>
            </p:blipFill>
            <p:spPr>
              <a:xfrm>
                <a:off x="4560840" y="1162080"/>
                <a:ext cx="292320" cy="2858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19" name=""/>
          <p:cNvGrpSpPr/>
          <p:nvPr/>
        </p:nvGrpSpPr>
        <p:grpSpPr>
          <a:xfrm>
            <a:off x="2975400" y="4871880"/>
            <a:ext cx="2258640" cy="881640"/>
            <a:chOff x="2975400" y="4871880"/>
            <a:chExt cx="2258640" cy="881640"/>
          </a:xfrm>
        </p:grpSpPr>
        <p:sp>
          <p:nvSpPr>
            <p:cNvPr id="120" name=""/>
            <p:cNvSpPr/>
            <p:nvPr/>
          </p:nvSpPr>
          <p:spPr>
            <a:xfrm>
              <a:off x="3200400" y="5221080"/>
              <a:ext cx="152352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Tilden Mey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Jon Pli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2975400" y="4871880"/>
              <a:ext cx="2258640" cy="459720"/>
              <a:chOff x="2975400" y="4871880"/>
              <a:chExt cx="2258640" cy="459720"/>
            </a:xfrm>
          </p:grpSpPr>
          <p:sp>
            <p:nvSpPr>
              <p:cNvPr id="122" name=""/>
              <p:cNvSpPr/>
              <p:nvPr/>
            </p:nvSpPr>
            <p:spPr>
              <a:xfrm>
                <a:off x="2975400" y="4871880"/>
                <a:ext cx="1803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996600"/>
                    </a:solidFill>
                    <a:latin typeface="Times New Roman"/>
                    <a:ea typeface="MS Mincho"/>
                  </a:rPr>
                  <a:t>NOAA/AR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3" name="ATDDlogo" descr=""/>
              <p:cNvPicPr/>
              <p:nvPr/>
            </p:nvPicPr>
            <p:blipFill>
              <a:blip r:embed="rId15"/>
              <a:stretch/>
            </p:blipFill>
            <p:spPr>
              <a:xfrm>
                <a:off x="4776840" y="4951080"/>
                <a:ext cx="457200" cy="297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24" name=""/>
          <p:cNvGrpSpPr/>
          <p:nvPr/>
        </p:nvGrpSpPr>
        <p:grpSpPr>
          <a:xfrm>
            <a:off x="2972520" y="5715000"/>
            <a:ext cx="2135880" cy="796680"/>
            <a:chOff x="2972520" y="5715000"/>
            <a:chExt cx="2135880" cy="796680"/>
          </a:xfrm>
        </p:grpSpPr>
        <p:sp>
          <p:nvSpPr>
            <p:cNvPr id="125" name=""/>
            <p:cNvSpPr/>
            <p:nvPr/>
          </p:nvSpPr>
          <p:spPr>
            <a:xfrm>
              <a:off x="2972520" y="5715000"/>
              <a:ext cx="185868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6600"/>
                  </a:solidFill>
                  <a:latin typeface="Times New Roman"/>
                  <a:ea typeface="MS Mincho"/>
                </a:rPr>
                <a:t>Atmospher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6600"/>
                  </a:solidFill>
                  <a:latin typeface="Times New Roman"/>
                  <a:ea typeface="MS Mincho"/>
                </a:rPr>
                <a:t>Resear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186360" y="6143400"/>
              <a:ext cx="115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Alan Bet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7" name="vtcoat2" descr=""/>
            <p:cNvPicPr/>
            <p:nvPr/>
          </p:nvPicPr>
          <p:blipFill>
            <a:blip r:embed="rId16"/>
            <a:stretch/>
          </p:blipFill>
          <p:spPr>
            <a:xfrm>
              <a:off x="4800600" y="5821200"/>
              <a:ext cx="307800" cy="356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8" name=""/>
          <p:cNvGrpSpPr/>
          <p:nvPr/>
        </p:nvGrpSpPr>
        <p:grpSpPr>
          <a:xfrm>
            <a:off x="2975400" y="2239920"/>
            <a:ext cx="2282400" cy="908640"/>
            <a:chOff x="2975400" y="2239920"/>
            <a:chExt cx="2282400" cy="908640"/>
          </a:xfrm>
        </p:grpSpPr>
        <p:sp>
          <p:nvSpPr>
            <p:cNvPr id="129" name=""/>
            <p:cNvSpPr/>
            <p:nvPr/>
          </p:nvSpPr>
          <p:spPr>
            <a:xfrm>
              <a:off x="3188520" y="2616120"/>
              <a:ext cx="162396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Paul Hous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Brian Cosgro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975400" y="2239920"/>
              <a:ext cx="190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6600"/>
                  </a:solidFill>
                  <a:latin typeface="Times New Roman"/>
                  <a:ea typeface="MS Mincho"/>
                </a:rPr>
                <a:t>NASA/GSF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1" name="NASA_GSFC_logo" descr=""/>
            <p:cNvPicPr/>
            <p:nvPr/>
          </p:nvPicPr>
          <p:blipFill>
            <a:blip r:embed="rId17"/>
            <a:stretch/>
          </p:blipFill>
          <p:spPr>
            <a:xfrm>
              <a:off x="4876920" y="2266920"/>
              <a:ext cx="380880" cy="380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2" name=""/>
          <p:cNvGrpSpPr/>
          <p:nvPr/>
        </p:nvGrpSpPr>
        <p:grpSpPr>
          <a:xfrm>
            <a:off x="2975760" y="3990960"/>
            <a:ext cx="1569960" cy="918000"/>
            <a:chOff x="2975760" y="3990960"/>
            <a:chExt cx="1569960" cy="918000"/>
          </a:xfrm>
        </p:grpSpPr>
        <p:sp>
          <p:nvSpPr>
            <p:cNvPr id="133" name=""/>
            <p:cNvSpPr/>
            <p:nvPr/>
          </p:nvSpPr>
          <p:spPr>
            <a:xfrm>
              <a:off x="3188520" y="4376520"/>
              <a:ext cx="135720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Fei Ch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Jimy Dudh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2975760" y="3990960"/>
              <a:ext cx="1359720" cy="459720"/>
              <a:chOff x="2975760" y="3990960"/>
              <a:chExt cx="1359720" cy="459720"/>
            </a:xfrm>
          </p:grpSpPr>
          <p:sp>
            <p:nvSpPr>
              <p:cNvPr id="135" name=""/>
              <p:cNvSpPr/>
              <p:nvPr/>
            </p:nvSpPr>
            <p:spPr>
              <a:xfrm>
                <a:off x="2975760" y="3990960"/>
                <a:ext cx="1058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996600"/>
                    </a:solidFill>
                    <a:latin typeface="Times New Roman"/>
                    <a:ea typeface="MS Mincho"/>
                  </a:rPr>
                  <a:t>NCA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36" name="UCAR_logo" descr=""/>
              <p:cNvPicPr/>
              <p:nvPr/>
            </p:nvPicPr>
            <p:blipFill>
              <a:blip r:embed="rId18"/>
              <a:stretch/>
            </p:blipFill>
            <p:spPr>
              <a:xfrm>
                <a:off x="4014720" y="4064040"/>
                <a:ext cx="320760" cy="3092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37" name=""/>
          <p:cNvGrpSpPr/>
          <p:nvPr/>
        </p:nvGrpSpPr>
        <p:grpSpPr>
          <a:xfrm>
            <a:off x="2973960" y="3111480"/>
            <a:ext cx="1888560" cy="918000"/>
            <a:chOff x="2973960" y="3111480"/>
            <a:chExt cx="1888560" cy="918000"/>
          </a:xfrm>
        </p:grpSpPr>
        <p:sp>
          <p:nvSpPr>
            <p:cNvPr id="138" name=""/>
            <p:cNvSpPr/>
            <p:nvPr/>
          </p:nvSpPr>
          <p:spPr>
            <a:xfrm>
              <a:off x="3188160" y="3497040"/>
              <a:ext cx="167436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Mike Fenness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Paul Dirmey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973960" y="311148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6600"/>
                  </a:solidFill>
                  <a:latin typeface="Times New Roman"/>
                  <a:ea typeface="MS Mincho"/>
                </a:rPr>
                <a:t>COL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0" name="COLA_logo" descr=""/>
            <p:cNvPicPr/>
            <p:nvPr/>
          </p:nvPicPr>
          <p:blipFill>
            <a:blip r:embed="rId19"/>
            <a:stretch/>
          </p:blipFill>
          <p:spPr>
            <a:xfrm>
              <a:off x="4038480" y="3187440"/>
              <a:ext cx="407520" cy="336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east_warm_T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8150040" cy="543384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/>
          <p:nvPr/>
        </p:nvSpPr>
        <p:spPr>
          <a:xfrm>
            <a:off x="4251240" y="2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965760" y="6308640"/>
            <a:ext cx="155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ecast H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509120" y="618336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909560" y="618336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80880" y="304920"/>
            <a:ext cx="8382240" cy="10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Mean diurnal cycle of 2-m air temperature of observations and Eta model 48-hr forecast from 12Z, averaged over 30-day SUMMER period of 12 Aug –12 Sep 2000 at all surface stations over East U.S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ation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B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olid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P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Eta/NOAH: </a:t>
            </a: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hort das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TES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Eta/NOAH: </a:t>
            </a: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long das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186480" y="368280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mperature (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839880" y="55627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884160" y="1766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T2M_00_JAN2002-DEC2002_Eta_east" descr=""/>
          <p:cNvPicPr/>
          <p:nvPr/>
        </p:nvPicPr>
        <p:blipFill>
          <a:blip r:embed="rId1"/>
          <a:stretch/>
        </p:blipFill>
        <p:spPr>
          <a:xfrm>
            <a:off x="838080" y="1028880"/>
            <a:ext cx="7543800" cy="582912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/>
          <p:nvPr/>
        </p:nvSpPr>
        <p:spPr>
          <a:xfrm>
            <a:off x="914400" y="152280"/>
            <a:ext cx="72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m Air Temp Bias: 48-hr Ops Eta Forecast valid at 00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T2M_12_diurnal_JUL2002_east_Eta" descr=""/>
          <p:cNvPicPr/>
          <p:nvPr/>
        </p:nvPicPr>
        <p:blipFill>
          <a:blip r:embed="rId1"/>
          <a:stretch/>
        </p:blipFill>
        <p:spPr>
          <a:xfrm>
            <a:off x="762120" y="1028880"/>
            <a:ext cx="7543800" cy="582912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282240" y="152280"/>
            <a:ext cx="877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LY 2-m Air Temperature: 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onthly mean diurnal cycle over 48-h fcst: Obs solid, model dash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RH2M_12_diurnal_JUL2002_east_Eta" descr=""/>
          <p:cNvPicPr/>
          <p:nvPr/>
        </p:nvPicPr>
        <p:blipFill>
          <a:blip r:embed="rId1"/>
          <a:stretch/>
        </p:blipFill>
        <p:spPr>
          <a:xfrm>
            <a:off x="914400" y="1028880"/>
            <a:ext cx="7543800" cy="582912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-9720" y="0"/>
            <a:ext cx="877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LY 2-m Relative Humidity (percent): 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onthly mean diurnal cycle over 48-h fcst: Obs solid, model dash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1676520" y="0"/>
            <a:ext cx="5943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-LDAS Design</a:t>
            </a:r>
            <a:br>
              <a:rPr sz="36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The Uncoupled Approac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57200" y="1523880"/>
            <a:ext cx="8381880" cy="52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Force models with 4DDA surface meteorology (Eta/EDAS), except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Times New Roman"/>
              </a:rPr>
              <a:t>use actual observed precipit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gage-only daily precip analysis disaggregated to hourly by radar product)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Times New Roman"/>
              </a:rPr>
              <a:t>and hourly downward solar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insol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derived from GOES satellit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93"/>
                </a:solidFill>
                <a:latin typeface="Times New Roman"/>
              </a:rPr>
              <a:t>2. Use 4 different land surface mode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NOAH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OAA/NWS/NCE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MOSAIC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ASA/GSF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V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Princeton U./ U. Washingt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Sacramen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NOAA/OH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93"/>
                </a:solidFill>
                <a:latin typeface="Times New Roman"/>
              </a:rPr>
              <a:t>3.  Evaluate results with all available observations, including soil moisture, soil temperature, surface fluxes, satellite skin temperature, snow cover and runo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822240" y="117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8" name="LDASnewTRANS" descr=""/>
          <p:cNvPicPr/>
          <p:nvPr/>
        </p:nvPicPr>
        <p:blipFill>
          <a:blip r:embed="rId1"/>
          <a:stretch/>
        </p:blipFill>
        <p:spPr>
          <a:xfrm>
            <a:off x="152280" y="0"/>
            <a:ext cx="1292400" cy="155592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8290080" y="117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213760" y="345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1" name="LDASnewTRANS" descr=""/>
          <p:cNvPicPr/>
          <p:nvPr/>
        </p:nvPicPr>
        <p:blipFill>
          <a:blip r:embed="rId2"/>
          <a:stretch/>
        </p:blipFill>
        <p:spPr>
          <a:xfrm>
            <a:off x="7620120" y="0"/>
            <a:ext cx="1292040" cy="15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304920" y="1295280"/>
            <a:ext cx="8686800" cy="55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901"/>
              </a:spcAft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ALTIM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15 Apr 1999 to 15 Dec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CE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realtime forc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Aft>
                <a:spcPts val="901"/>
              </a:spcAft>
              <a:buClr>
                <a:srgbClr val="3333cc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TROSPECTIV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01 Oct 1996 to 30 Sep 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 Mandated largely by spin-up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S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assembled retrospective for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gins NCEP/CPC reprocessed precipitation forcing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-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gages obs, more Q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nker U.Md reprocessed solar insolation for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-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ter cloud screening, more Q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utgers University</a:t>
            </a:r>
            <a:r>
              <a:rPr b="1" lang="en-US" sz="2400" spc="-1" strike="noStrike">
                <a:solidFill>
                  <a:srgbClr val="0d0d93"/>
                </a:solidFill>
                <a:latin typeface="Times New Roman"/>
              </a:rPr>
              <a:t> compared the soil moisture, soil temperature, surface flux results from the retrospective LDAS runs to observations over Oklahoma/Kansas for last retro ye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838080" y="0"/>
            <a:ext cx="7696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DAS Run Modes: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1) Realtime, 2) Retrosp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lot_modeled_evap" descr=""/>
          <p:cNvPicPr/>
          <p:nvPr/>
        </p:nvPicPr>
        <p:blipFill>
          <a:blip r:embed="rId1"/>
          <a:stretch/>
        </p:blipFill>
        <p:spPr>
          <a:xfrm>
            <a:off x="171360" y="399960"/>
            <a:ext cx="8801280" cy="602928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/>
          <p:nvPr/>
        </p:nvSpPr>
        <p:spPr>
          <a:xfrm>
            <a:off x="1067040" y="0"/>
            <a:ext cx="73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DAS Model Mean Annual Evaporation (mm) over Oct 97 – Sep 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93760" y="64612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lot_modeled_runoff" descr=""/>
          <p:cNvPicPr/>
          <p:nvPr/>
        </p:nvPicPr>
        <p:blipFill>
          <a:blip r:embed="rId1"/>
          <a:stretch/>
        </p:blipFill>
        <p:spPr>
          <a:xfrm>
            <a:off x="343080" y="395280"/>
            <a:ext cx="8800920" cy="604836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/>
          <p:nvPr/>
        </p:nvSpPr>
        <p:spPr>
          <a:xfrm>
            <a:off x="60480" y="117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386000" y="0"/>
            <a:ext cx="673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DAS Model Mean Annual Runoff (mm) over Oct 97 – Sep 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93800" y="64612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36200" y="422280"/>
            <a:ext cx="769788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LDAS Simulated River 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1030320" y="1525680"/>
            <a:ext cx="3301920" cy="245268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4830840" y="1536840"/>
            <a:ext cx="3308400" cy="245736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3"/>
          <a:stretch/>
        </p:blipFill>
        <p:spPr>
          <a:xfrm>
            <a:off x="990720" y="4230720"/>
            <a:ext cx="3316320" cy="246384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4"/>
          <a:stretch/>
        </p:blipFill>
        <p:spPr>
          <a:xfrm>
            <a:off x="4835520" y="4233960"/>
            <a:ext cx="3316320" cy="246384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1436400" y="1252440"/>
            <a:ext cx="263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Upstream area [log10(km^2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383800" y="1278000"/>
            <a:ext cx="245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ravel time to outlet [days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754280" y="4084560"/>
            <a:ext cx="177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Large River bas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419080" y="4070520"/>
            <a:ext cx="23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River flow direction m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288360" y="6211800"/>
            <a:ext cx="46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t Fork of White River at Columbus,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1" name="plot_streamflow_03364000_detail2" descr=""/>
          <p:cNvPicPr/>
          <p:nvPr/>
        </p:nvPicPr>
        <p:blipFill>
          <a:blip r:embed="rId1"/>
          <a:stretch/>
        </p:blipFill>
        <p:spPr>
          <a:xfrm>
            <a:off x="0" y="316080"/>
            <a:ext cx="8801280" cy="55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apers recently submitted to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CIP Special Issue of JGR</a:t>
            </a:r>
            <a:br>
              <a:rPr sz="3200"/>
            </a:b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(Show vugraphs and pass out CD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apers on Coupled Eta/Noah and E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k et 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rbery et 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apers on Uncoupled NL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LDAS: N. American Land Data Assimilation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tchell et al. overview pa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 companion papers by NLDAS collabo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lot_stats_mean3" descr=""/>
          <p:cNvPicPr/>
          <p:nvPr/>
        </p:nvPicPr>
        <p:blipFill>
          <a:blip r:embed="rId1"/>
          <a:stretch/>
        </p:blipFill>
        <p:spPr>
          <a:xfrm>
            <a:off x="343080" y="0"/>
            <a:ext cx="8800920" cy="621972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522360" y="6237360"/>
            <a:ext cx="815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an annual modeled normalized model runoff bias: Oct 97-Sep 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annual-evap-vs-runoff_98-99_4-quads" descr=""/>
          <p:cNvPicPr/>
          <p:nvPr/>
        </p:nvPicPr>
        <p:blipFill>
          <a:blip r:embed="rId1"/>
          <a:stretch/>
        </p:blipFill>
        <p:spPr>
          <a:xfrm>
            <a:off x="0" y="0"/>
            <a:ext cx="4584600" cy="3960720"/>
          </a:xfrm>
          <a:prstGeom prst="rect">
            <a:avLst/>
          </a:prstGeom>
          <a:ln w="0">
            <a:noFill/>
          </a:ln>
        </p:spPr>
      </p:pic>
      <p:pic>
        <p:nvPicPr>
          <p:cNvPr id="475" name="plot_evap_runoff_basins" descr=""/>
          <p:cNvPicPr/>
          <p:nvPr/>
        </p:nvPicPr>
        <p:blipFill>
          <a:blip r:embed="rId2"/>
          <a:stretch/>
        </p:blipFill>
        <p:spPr>
          <a:xfrm>
            <a:off x="4687920" y="0"/>
            <a:ext cx="4456080" cy="391464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6608520" y="82224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178320" y="132876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603760" y="167796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829200" y="227808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4251240" y="2860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0" y="0"/>
            <a:ext cx="9142200" cy="6323040"/>
            <a:chOff x="0" y="0"/>
            <a:chExt cx="9142200" cy="6323040"/>
          </a:xfrm>
        </p:grpSpPr>
        <p:graphicFrame>
          <p:nvGraphicFramePr>
            <p:cNvPr id="482" name=""/>
            <p:cNvGraphicFramePr/>
            <p:nvPr/>
          </p:nvGraphicFramePr>
          <p:xfrm>
            <a:off x="4560840" y="0"/>
            <a:ext cx="4581360" cy="31694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48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60840" y="0"/>
                      <a:ext cx="4581360" cy="316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84" name=""/>
            <p:cNvGraphicFramePr/>
            <p:nvPr/>
          </p:nvGraphicFramePr>
          <p:xfrm>
            <a:off x="0" y="3169440"/>
            <a:ext cx="4574520" cy="315360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48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3169440"/>
                      <a:ext cx="4574520" cy="3153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86" name=""/>
            <p:cNvGraphicFramePr/>
            <p:nvPr/>
          </p:nvGraphicFramePr>
          <p:xfrm>
            <a:off x="0" y="0"/>
            <a:ext cx="4574520" cy="316944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48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0" y="0"/>
                      <a:ext cx="4574520" cy="316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88" name=""/>
            <p:cNvGraphicFramePr/>
            <p:nvPr/>
          </p:nvGraphicFramePr>
          <p:xfrm>
            <a:off x="4574520" y="3169440"/>
            <a:ext cx="4567680" cy="3153600"/>
          </p:xfrm>
          <a:graphic>
            <a:graphicData uri="http://schemas.openxmlformats.org/presentationml/2006/ole">
              <p:oleObj progId="Excel.Sheet.12" r:id="rId7" spid="">
                <p:embed/>
                <p:pic>
                  <p:nvPicPr>
                    <p:cNvPr id="48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574520" y="3169440"/>
                      <a:ext cx="4567680" cy="3153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90" name=""/>
          <p:cNvSpPr/>
          <p:nvPr/>
        </p:nvSpPr>
        <p:spPr>
          <a:xfrm>
            <a:off x="522360" y="6346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fig_soilm" descr=""/>
          <p:cNvPicPr/>
          <p:nvPr/>
        </p:nvPicPr>
        <p:blipFill>
          <a:blip r:embed="rId1"/>
          <a:stretch/>
        </p:blipFill>
        <p:spPr>
          <a:xfrm>
            <a:off x="2486160" y="0"/>
            <a:ext cx="5715000" cy="685800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/>
          <p:nvPr/>
        </p:nvSpPr>
        <p:spPr>
          <a:xfrm>
            <a:off x="218880" y="2766960"/>
            <a:ext cx="21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g. 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Robock et 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fig_diurnalflux_EF-0_APR_99" descr=""/>
          <p:cNvPicPr/>
          <p:nvPr/>
        </p:nvPicPr>
        <p:blipFill>
          <a:blip r:embed="rId1"/>
          <a:stretch/>
        </p:blipFill>
        <p:spPr>
          <a:xfrm>
            <a:off x="4514760" y="882720"/>
            <a:ext cx="4629240" cy="5076720"/>
          </a:xfrm>
          <a:prstGeom prst="rect">
            <a:avLst/>
          </a:prstGeom>
          <a:ln w="0">
            <a:noFill/>
          </a:ln>
        </p:spPr>
      </p:pic>
      <p:sp>
        <p:nvSpPr>
          <p:cNvPr id="494" name=""/>
          <p:cNvSpPr/>
          <p:nvPr/>
        </p:nvSpPr>
        <p:spPr>
          <a:xfrm>
            <a:off x="1620720" y="415800"/>
            <a:ext cx="12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uly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978880" y="374760"/>
            <a:ext cx="133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ril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6" name="fig_diurnalflux_EF-0_JUL_99" descr=""/>
          <p:cNvPicPr/>
          <p:nvPr/>
        </p:nvPicPr>
        <p:blipFill>
          <a:blip r:embed="rId2"/>
          <a:stretch/>
        </p:blipFill>
        <p:spPr>
          <a:xfrm>
            <a:off x="0" y="896760"/>
            <a:ext cx="4610160" cy="5077080"/>
          </a:xfrm>
          <a:prstGeom prst="rect">
            <a:avLst/>
          </a:prstGeom>
          <a:ln w="0">
            <a:noFill/>
          </a:ln>
        </p:spPr>
      </p:pic>
      <p:sp>
        <p:nvSpPr>
          <p:cNvPr id="497" name=""/>
          <p:cNvSpPr/>
          <p:nvPr/>
        </p:nvSpPr>
        <p:spPr>
          <a:xfrm>
            <a:off x="0" y="62308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g. 22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GP ARM/CART Monthly Mean Diurnal Cycle of Surface Energy Flux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skintemp_diurnal_E000_EF-0.APR.99" descr=""/>
          <p:cNvPicPr/>
          <p:nvPr/>
        </p:nvPicPr>
        <p:blipFill>
          <a:blip r:embed="rId1"/>
          <a:stretch/>
        </p:blipFill>
        <p:spPr>
          <a:xfrm>
            <a:off x="4381560" y="1114560"/>
            <a:ext cx="4762440" cy="4560840"/>
          </a:xfrm>
          <a:prstGeom prst="rect">
            <a:avLst/>
          </a:prstGeom>
          <a:ln w="0">
            <a:noFill/>
          </a:ln>
        </p:spPr>
      </p:pic>
      <p:pic>
        <p:nvPicPr>
          <p:cNvPr id="499" name="skintemp_diurnal_E000_EF-0.JUL.99" descr=""/>
          <p:cNvPicPr/>
          <p:nvPr/>
        </p:nvPicPr>
        <p:blipFill>
          <a:blip r:embed="rId2"/>
          <a:stretch/>
        </p:blipFill>
        <p:spPr>
          <a:xfrm>
            <a:off x="0" y="1182600"/>
            <a:ext cx="4762440" cy="4395960"/>
          </a:xfrm>
          <a:prstGeom prst="rect">
            <a:avLst/>
          </a:prstGeom>
          <a:ln w="0">
            <a:noFill/>
          </a:ln>
        </p:spPr>
      </p:pic>
      <p:sp>
        <p:nvSpPr>
          <p:cNvPr id="500" name=""/>
          <p:cNvSpPr/>
          <p:nvPr/>
        </p:nvSpPr>
        <p:spPr>
          <a:xfrm>
            <a:off x="6147720" y="927000"/>
            <a:ext cx="12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pril 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769760" y="928800"/>
            <a:ext cx="11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849600" y="6138720"/>
            <a:ext cx="714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g. 24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thly Mean Diurnal Cycle of Surface Skin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fig_aero_cond" descr=""/>
          <p:cNvPicPr/>
          <p:nvPr/>
        </p:nvPicPr>
        <p:blipFill>
          <a:blip r:embed="rId1"/>
          <a:stretch/>
        </p:blipFill>
        <p:spPr>
          <a:xfrm>
            <a:off x="0" y="765000"/>
            <a:ext cx="4727520" cy="364356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/>
          <p:nvPr/>
        </p:nvSpPr>
        <p:spPr>
          <a:xfrm>
            <a:off x="1176120" y="1300320"/>
            <a:ext cx="10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uly 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5" name="CZIL_ratio" descr=""/>
          <p:cNvPicPr/>
          <p:nvPr/>
        </p:nvPicPr>
        <p:blipFill>
          <a:blip r:embed="rId2"/>
          <a:stretch/>
        </p:blipFill>
        <p:spPr>
          <a:xfrm>
            <a:off x="4944960" y="1014480"/>
            <a:ext cx="397512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1880" y="155520"/>
            <a:ext cx="8217000" cy="654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ystems Using the Noah Land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OPERATIONAL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99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9900"/>
                </a:solidFill>
                <a:uFillTx/>
                <a:latin typeface="Times New Roman"/>
              </a:rPr>
              <a:t>Eta/ED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NCEP Eta Model and Eta Data Assimilation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FS/GD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NCEP Global Forecast System (older version of Noa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GRM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Air Force Agricultural Meteorological Model (US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DEMONSTRATION TESTBED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99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9900"/>
                </a:solidFill>
                <a:uFillTx/>
                <a:latin typeface="Times New Roman"/>
              </a:rPr>
              <a:t>Eta-RC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Eta Regional Climate Model, 2-4 month seasonal 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ta R/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Eta-based Regional Reanalysis (underway, 1979-20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F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NCEP Global Model (most current Noah vers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99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9900"/>
                </a:solidFill>
                <a:uFillTx/>
                <a:latin typeface="Times New Roman"/>
              </a:rPr>
              <a:t>NLDAS Realti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N. American Land Data Assimilation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99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9900"/>
                </a:solidFill>
                <a:uFillTx/>
                <a:latin typeface="Times New Roman"/>
              </a:rPr>
              <a:t>NLDAS Retrospec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50-year by CPC (for drought monitor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LD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NASA/NCEP Global Land Data Assimilation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M5/Noa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at N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RF/Noa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at NCAR and NC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PS/Noa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at Center for Analysis &amp; Prediction of Storms (CAP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roving the NCEP Mesoscal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ta Model via Land-Surface Initia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ta improvement go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2 meter air temperature and humid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10 meter wind v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PBL T and Td pro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convective stability ind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integrated moisture flux converg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precipitation and cloud co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04920" y="0"/>
            <a:ext cx="867384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Helvetica Narrow"/>
              </a:rPr>
              <a:t>Interannual variability of North American Monsoon - </a:t>
            </a:r>
            <a:r>
              <a:rPr b="1" lang="en-US" sz="2200" spc="-1" strike="noStrike">
                <a:solidFill>
                  <a:srgbClr val="cc3300"/>
                </a:solidFill>
                <a:latin typeface="Helvetica Narrow"/>
              </a:rPr>
              <a:t>interior Southwe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3444"/>
          <a:stretch/>
        </p:blipFill>
        <p:spPr>
          <a:xfrm>
            <a:off x="3124080" y="533520"/>
            <a:ext cx="3132360" cy="2133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rcRect l="0" t="0" r="0" b="3794"/>
          <a:stretch/>
        </p:blipFill>
        <p:spPr>
          <a:xfrm>
            <a:off x="0" y="533520"/>
            <a:ext cx="3112920" cy="2133360"/>
          </a:xfrm>
          <a:prstGeom prst="rect">
            <a:avLst/>
          </a:prstGeom>
          <a:ln w="0">
            <a:noFill/>
          </a:ln>
        </p:spPr>
      </p:pic>
      <p:grpSp>
        <p:nvGrpSpPr>
          <p:cNvPr id="151" name=""/>
          <p:cNvGrpSpPr/>
          <p:nvPr/>
        </p:nvGrpSpPr>
        <p:grpSpPr>
          <a:xfrm>
            <a:off x="609480" y="1905120"/>
            <a:ext cx="1663920" cy="787320"/>
            <a:chOff x="609480" y="1905120"/>
            <a:chExt cx="1663920" cy="787320"/>
          </a:xfrm>
        </p:grpSpPr>
        <p:sp>
          <p:nvSpPr>
            <p:cNvPr id="152" name=""/>
            <p:cNvSpPr/>
            <p:nvPr/>
          </p:nvSpPr>
          <p:spPr>
            <a:xfrm>
              <a:off x="1600200" y="2286000"/>
              <a:ext cx="673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700" spc="-1" strike="noStrike">
                  <a:solidFill>
                    <a:srgbClr val="3333cc"/>
                  </a:solidFill>
                  <a:latin typeface="Helvetica Narrow"/>
                </a:rPr>
                <a:t>moist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09480" y="1905120"/>
              <a:ext cx="1067040" cy="6858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838080" y="6029280"/>
            <a:ext cx="80312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8080" y="228600"/>
            <a:ext cx="14036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Helvetica Narrow"/>
              </a:rPr>
              <a:t>July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9880" y="230040"/>
            <a:ext cx="14018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Helvetica Narrow"/>
              </a:rPr>
              <a:t>July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832880" y="2098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20010731_30day" descr=""/>
          <p:cNvPicPr/>
          <p:nvPr/>
        </p:nvPicPr>
        <p:blipFill>
          <a:blip r:embed="rId3"/>
          <a:srcRect l="1295" t="6556" r="59291" b="60538"/>
          <a:stretch/>
        </p:blipFill>
        <p:spPr>
          <a:xfrm>
            <a:off x="6248520" y="533520"/>
            <a:ext cx="2895480" cy="21333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460520" y="4649760"/>
            <a:ext cx="20952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562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Helvetica-Narrow"/>
              </a:rPr>
              <a:t>o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98400" y="5592600"/>
            <a:ext cx="179640" cy="1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562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Helvetica-Narrow"/>
              </a:rPr>
              <a:t>E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888840" y="5288040"/>
            <a:ext cx="208080" cy="249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1244520" y="4876920"/>
            <a:ext cx="208080" cy="249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rcRect l="0" t="6923" r="0" b="0"/>
          <a:stretch/>
        </p:blipFill>
        <p:spPr>
          <a:xfrm>
            <a:off x="0" y="4648320"/>
            <a:ext cx="2948040" cy="2049480"/>
          </a:xfrm>
          <a:prstGeom prst="rect">
            <a:avLst/>
          </a:prstGeom>
          <a:ln w="0">
            <a:noFill/>
          </a:ln>
        </p:spPr>
      </p:pic>
      <p:grpSp>
        <p:nvGrpSpPr>
          <p:cNvPr id="164" name=""/>
          <p:cNvGrpSpPr/>
          <p:nvPr/>
        </p:nvGrpSpPr>
        <p:grpSpPr>
          <a:xfrm>
            <a:off x="284040" y="6629400"/>
            <a:ext cx="2473200" cy="165240"/>
            <a:chOff x="284040" y="6629400"/>
            <a:chExt cx="2473200" cy="165240"/>
          </a:xfrm>
        </p:grpSpPr>
        <p:sp>
          <p:nvSpPr>
            <p:cNvPr id="165" name=""/>
            <p:cNvSpPr/>
            <p:nvPr/>
          </p:nvSpPr>
          <p:spPr>
            <a:xfrm>
              <a:off x="284040" y="6629400"/>
              <a:ext cx="20052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416960" y="6629400"/>
              <a:ext cx="20304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2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55720" y="6629400"/>
              <a:ext cx="19116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987560" y="6629400"/>
              <a:ext cx="20196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3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53840" y="6629400"/>
              <a:ext cx="20340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4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361800" y="4732200"/>
            <a:ext cx="2403360" cy="135000"/>
            <a:chOff x="361800" y="4732200"/>
            <a:chExt cx="2403360" cy="135000"/>
          </a:xfrm>
        </p:grpSpPr>
        <p:sp>
          <p:nvSpPr>
            <p:cNvPr id="171" name=""/>
            <p:cNvSpPr/>
            <p:nvPr/>
          </p:nvSpPr>
          <p:spPr>
            <a:xfrm>
              <a:off x="2458080" y="4732200"/>
              <a:ext cx="30708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562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Helvetica-Narrow"/>
                </a:rPr>
                <a:t>29 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361800" y="4830840"/>
              <a:ext cx="2091960" cy="0"/>
              <a:chOff x="361800" y="4830840"/>
              <a:chExt cx="2091960" cy="0"/>
            </a:xfrm>
          </p:grpSpPr>
          <p:sp>
            <p:nvSpPr>
              <p:cNvPr id="173" name=""/>
              <p:cNvSpPr/>
              <p:nvPr/>
            </p:nvSpPr>
            <p:spPr>
              <a:xfrm>
                <a:off x="2211840" y="4830840"/>
                <a:ext cx="24192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082880" y="4830840"/>
                <a:ext cx="82692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61800" y="4830840"/>
                <a:ext cx="45504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6" name=""/>
          <p:cNvSpPr/>
          <p:nvPr/>
        </p:nvSpPr>
        <p:spPr>
          <a:xfrm rot="10800000">
            <a:off x="29880" y="5002200"/>
            <a:ext cx="106200" cy="43992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0" y="4648320"/>
            <a:ext cx="201600" cy="1915560"/>
            <a:chOff x="0" y="4648320"/>
            <a:chExt cx="201600" cy="1915560"/>
          </a:xfrm>
        </p:grpSpPr>
        <p:sp>
          <p:nvSpPr>
            <p:cNvPr id="178" name=""/>
            <p:cNvSpPr/>
            <p:nvPr/>
          </p:nvSpPr>
          <p:spPr>
            <a:xfrm>
              <a:off x="7560" y="6397560"/>
              <a:ext cx="19368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1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0" y="5521320"/>
              <a:ext cx="20016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2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0" y="4648320"/>
              <a:ext cx="2016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 rot="10800000">
            <a:off x="2900520" y="5013000"/>
            <a:ext cx="110880" cy="43956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429000" y="4191120"/>
            <a:ext cx="161280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998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5"/>
          <a:srcRect l="0" t="6923" r="0" b="0"/>
          <a:stretch/>
        </p:blipFill>
        <p:spPr>
          <a:xfrm>
            <a:off x="2895480" y="4656240"/>
            <a:ext cx="3049560" cy="2049480"/>
          </a:xfrm>
          <a:prstGeom prst="rect">
            <a:avLst/>
          </a:prstGeom>
          <a:ln w="0">
            <a:noFill/>
          </a:ln>
        </p:spPr>
      </p:pic>
      <p:grpSp>
        <p:nvGrpSpPr>
          <p:cNvPr id="184" name=""/>
          <p:cNvGrpSpPr/>
          <p:nvPr/>
        </p:nvGrpSpPr>
        <p:grpSpPr>
          <a:xfrm>
            <a:off x="2971800" y="4800600"/>
            <a:ext cx="208080" cy="1736640"/>
            <a:chOff x="2971800" y="4800600"/>
            <a:chExt cx="208080" cy="1736640"/>
          </a:xfrm>
        </p:grpSpPr>
        <p:sp>
          <p:nvSpPr>
            <p:cNvPr id="185" name=""/>
            <p:cNvSpPr/>
            <p:nvPr/>
          </p:nvSpPr>
          <p:spPr>
            <a:xfrm>
              <a:off x="2971800" y="6370560"/>
              <a:ext cx="19836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1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971800" y="5587920"/>
              <a:ext cx="20808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2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971800" y="4800600"/>
              <a:ext cx="20520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3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3200400" y="6629400"/>
            <a:ext cx="2558520" cy="165240"/>
            <a:chOff x="3200400" y="6629400"/>
            <a:chExt cx="2558520" cy="165240"/>
          </a:xfrm>
        </p:grpSpPr>
        <p:sp>
          <p:nvSpPr>
            <p:cNvPr id="189" name=""/>
            <p:cNvSpPr/>
            <p:nvPr/>
          </p:nvSpPr>
          <p:spPr>
            <a:xfrm>
              <a:off x="3200400" y="6629400"/>
              <a:ext cx="20772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375080" y="6629400"/>
              <a:ext cx="20880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2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791880" y="6629400"/>
              <a:ext cx="19800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61520" y="6629400"/>
              <a:ext cx="20880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3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550120" y="6629400"/>
              <a:ext cx="20880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4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343400" y="4898880"/>
            <a:ext cx="21420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562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Helvetica-Narrow"/>
              </a:rPr>
              <a:t>o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581280" y="5661000"/>
            <a:ext cx="18252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562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Helvetica-Narrow"/>
              </a:rPr>
              <a:t>E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3809880" y="5389560"/>
            <a:ext cx="217440" cy="249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4121280" y="5084280"/>
            <a:ext cx="217440" cy="24948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191440" y="4267080"/>
            <a:ext cx="31428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562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T2M_12_diurnal_JUL2001_SMT_Eta" descr=""/>
          <p:cNvPicPr/>
          <p:nvPr/>
        </p:nvPicPr>
        <p:blipFill>
          <a:blip r:embed="rId6"/>
          <a:srcRect l="0" t="6812" r="0" b="0"/>
          <a:stretch/>
        </p:blipFill>
        <p:spPr>
          <a:xfrm>
            <a:off x="6095880" y="4648320"/>
            <a:ext cx="2895840" cy="2084400"/>
          </a:xfrm>
          <a:prstGeom prst="rect">
            <a:avLst/>
          </a:prstGeom>
          <a:ln w="0">
            <a:noFill/>
          </a:ln>
        </p:spPr>
      </p:pic>
      <p:grpSp>
        <p:nvGrpSpPr>
          <p:cNvPr id="200" name=""/>
          <p:cNvGrpSpPr/>
          <p:nvPr/>
        </p:nvGrpSpPr>
        <p:grpSpPr>
          <a:xfrm>
            <a:off x="6400800" y="4822920"/>
            <a:ext cx="2165040" cy="0"/>
            <a:chOff x="6400800" y="4822920"/>
            <a:chExt cx="2165040" cy="0"/>
          </a:xfrm>
        </p:grpSpPr>
        <p:sp>
          <p:nvSpPr>
            <p:cNvPr id="201" name=""/>
            <p:cNvSpPr/>
            <p:nvPr/>
          </p:nvSpPr>
          <p:spPr>
            <a:xfrm>
              <a:off x="8315640" y="4822920"/>
              <a:ext cx="250200" cy="0"/>
            </a:xfrm>
            <a:prstGeom prst="line">
              <a:avLst/>
            </a:prstGeom>
            <a:ln w="25560">
              <a:solidFill>
                <a:srgbClr val="3333cc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146360" y="4822920"/>
              <a:ext cx="856800" cy="0"/>
            </a:xfrm>
            <a:prstGeom prst="line">
              <a:avLst/>
            </a:prstGeom>
            <a:ln w="25560">
              <a:solidFill>
                <a:srgbClr val="3333cc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00800" y="4822920"/>
              <a:ext cx="471960" cy="0"/>
            </a:xfrm>
            <a:prstGeom prst="line">
              <a:avLst/>
            </a:prstGeom>
            <a:ln w="25560">
              <a:solidFill>
                <a:srgbClr val="3333cc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7023600" y="152280"/>
            <a:ext cx="13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f00"/>
                </a:solidFill>
                <a:latin typeface="Helvetica Narrow"/>
              </a:rPr>
              <a:t>July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3733920" y="1828800"/>
            <a:ext cx="1384200" cy="969840"/>
            <a:chOff x="3733920" y="1828800"/>
            <a:chExt cx="1384200" cy="969840"/>
          </a:xfrm>
        </p:grpSpPr>
        <p:sp>
          <p:nvSpPr>
            <p:cNvPr id="206" name=""/>
            <p:cNvSpPr/>
            <p:nvPr/>
          </p:nvSpPr>
          <p:spPr>
            <a:xfrm>
              <a:off x="4724280" y="2286000"/>
              <a:ext cx="39384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700" spc="-1" strike="noStrike">
                  <a:solidFill>
                    <a:srgbClr val="cc3300"/>
                  </a:solidFill>
                  <a:latin typeface="Helvetica Narrow"/>
                </a:rPr>
                <a:t>dry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733920" y="1828800"/>
              <a:ext cx="1066680" cy="609480"/>
            </a:xfrm>
            <a:prstGeom prst="line">
              <a:avLst/>
            </a:prstGeom>
            <a:ln w="25560">
              <a:solidFill>
                <a:srgbClr val="cc33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7737480" y="2230560"/>
            <a:ext cx="38088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Helvetica Narrow"/>
              </a:rPr>
              <a:t>semi-d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740640" y="1828800"/>
            <a:ext cx="1031760" cy="60948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3276720" y="4724280"/>
            <a:ext cx="2485440" cy="133200"/>
            <a:chOff x="3276720" y="4724280"/>
            <a:chExt cx="2485440" cy="133200"/>
          </a:xfrm>
        </p:grpSpPr>
        <p:sp>
          <p:nvSpPr>
            <p:cNvPr id="211" name=""/>
            <p:cNvSpPr/>
            <p:nvPr/>
          </p:nvSpPr>
          <p:spPr>
            <a:xfrm>
              <a:off x="5447520" y="4724280"/>
              <a:ext cx="31464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562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Helvetica-Narrow"/>
                </a:rPr>
                <a:t>33 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2" name=""/>
            <p:cNvGrpSpPr/>
            <p:nvPr/>
          </p:nvGrpSpPr>
          <p:grpSpPr>
            <a:xfrm>
              <a:off x="3276720" y="4822560"/>
              <a:ext cx="2165040" cy="0"/>
              <a:chOff x="3276720" y="4822560"/>
              <a:chExt cx="2165040" cy="0"/>
            </a:xfrm>
          </p:grpSpPr>
          <p:sp>
            <p:nvSpPr>
              <p:cNvPr id="213" name=""/>
              <p:cNvSpPr/>
              <p:nvPr/>
            </p:nvSpPr>
            <p:spPr>
              <a:xfrm>
                <a:off x="5191560" y="4822560"/>
                <a:ext cx="25020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022280" y="4822560"/>
                <a:ext cx="85680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276720" y="4822560"/>
                <a:ext cx="4719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6" name=""/>
          <p:cNvSpPr/>
          <p:nvPr/>
        </p:nvSpPr>
        <p:spPr>
          <a:xfrm>
            <a:off x="3400200" y="6172200"/>
            <a:ext cx="225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Helvetica-Narrow"/>
              </a:rPr>
              <a:t>Eta forecast h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503560" y="4648320"/>
            <a:ext cx="59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Helvetica-Narrow"/>
              </a:rPr>
              <a:t>32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6477120" y="6629400"/>
            <a:ext cx="2472840" cy="165240"/>
            <a:chOff x="6477120" y="6629400"/>
            <a:chExt cx="2472840" cy="165240"/>
          </a:xfrm>
        </p:grpSpPr>
        <p:sp>
          <p:nvSpPr>
            <p:cNvPr id="219" name=""/>
            <p:cNvSpPr/>
            <p:nvPr/>
          </p:nvSpPr>
          <p:spPr>
            <a:xfrm>
              <a:off x="6477120" y="6629400"/>
              <a:ext cx="20052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609680" y="6629400"/>
              <a:ext cx="20304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2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048800" y="6629400"/>
              <a:ext cx="19116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180280" y="6629400"/>
              <a:ext cx="20196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3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746560" y="6629400"/>
              <a:ext cx="20340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4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6116760" y="4816440"/>
            <a:ext cx="207720" cy="1736640"/>
            <a:chOff x="6116760" y="4816440"/>
            <a:chExt cx="207720" cy="1736640"/>
          </a:xfrm>
        </p:grpSpPr>
        <p:sp>
          <p:nvSpPr>
            <p:cNvPr id="225" name=""/>
            <p:cNvSpPr/>
            <p:nvPr/>
          </p:nvSpPr>
          <p:spPr>
            <a:xfrm>
              <a:off x="6116760" y="6386400"/>
              <a:ext cx="19800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1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116760" y="5603760"/>
              <a:ext cx="20772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2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116760" y="4816440"/>
              <a:ext cx="20484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3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8" name="" descr=""/>
          <p:cNvPicPr/>
          <p:nvPr/>
        </p:nvPicPr>
        <p:blipFill>
          <a:blip r:embed="rId7"/>
          <a:stretch/>
        </p:blipFill>
        <p:spPr>
          <a:xfrm>
            <a:off x="152280" y="2666880"/>
            <a:ext cx="2551320" cy="193356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181080" y="3989520"/>
            <a:ext cx="939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998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Helvetica-Narrow"/>
              </a:rPr>
              <a:t>Moist so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Helvetica-Narrow"/>
              </a:rPr>
              <a:t>in 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455400" y="3798720"/>
            <a:ext cx="284040" cy="190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561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8"/>
          <a:stretch/>
        </p:blipFill>
        <p:spPr>
          <a:xfrm>
            <a:off x="3352680" y="2666880"/>
            <a:ext cx="2551320" cy="19814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3352680" y="3992400"/>
            <a:ext cx="9399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998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Helvetica-Narrow"/>
              </a:rPr>
              <a:t>Dry so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Helvetica-Narrow"/>
              </a:rPr>
              <a:t>in 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3601800" y="3809880"/>
            <a:ext cx="284040" cy="19548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vsm2.2001073112" descr=""/>
          <p:cNvPicPr/>
          <p:nvPr/>
        </p:nvPicPr>
        <p:blipFill>
          <a:blip r:embed="rId9"/>
          <a:stretch/>
        </p:blipFill>
        <p:spPr>
          <a:xfrm>
            <a:off x="6248520" y="2590920"/>
            <a:ext cx="2666880" cy="20602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6613560" y="3851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400800" y="3948120"/>
            <a:ext cx="9399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998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Helvetica-Narrow"/>
              </a:rPr>
              <a:t>Semi-d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Helvetica-Narrow"/>
              </a:rPr>
              <a:t>soil in 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6537240" y="3809880"/>
            <a:ext cx="284400" cy="19548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0" y="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Helvetica-Narrow"/>
                <a:ea typeface="MS Mincho"/>
              </a:rPr>
              <a:t>ETA MODEL LAND-SURFACE MODELING MILESTON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" y="816120"/>
            <a:ext cx="86104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Since 1996, a series of GCIP/GAPP-sponsored land-surface model related advances have been made to the NCEP mesoscale Eta model and its Eta-based 4-D data assimilation system (EDA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MS Mincho"/>
              </a:rPr>
              <a:t>31 Jan 1996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MS Mincho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MS Mincho"/>
              </a:rPr>
              <a:t>multi-layer soil/vegetation/snow model introdu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MS Mincho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MS Mincho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MS Mincho"/>
              </a:rPr>
              <a:t>initial soil moisture/temperature from G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18 Feb 199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new vegetation greenness database from NESD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refined adjustment of initial GDAS soil moisture ref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evaporation over snow and bare so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MS Mincho"/>
              </a:rPr>
              <a:t>09 Feb 1998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MS Mincho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MS Mincho"/>
              </a:rPr>
              <a:t>increase from 2 to 4 soil layers (10, 30, 60, 100 cm lay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  <a:ea typeface="MS Mincho"/>
              </a:rPr>
              <a:t>03 Jun 1998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  <a:ea typeface="MS Mincho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  <a:ea typeface="MS Mincho"/>
              </a:rPr>
              <a:t>full self-cycling of EDAS/Eta soil moisture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  <a:ea typeface="MS Mincho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  <a:ea typeface="MS Mincho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  <a:ea typeface="MS Mincho"/>
              </a:rPr>
              <a:t>new NESDIS daily 23-km snow cover and sea 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15 Mar 1999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"NOAH" name designated for Eta land-surface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01 Apr 199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GOES vs Eta skin temperature ver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24 Mar 20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Eta near-surface regional Forecast Verification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15 Mar 200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retrospective NOAH LSM Eta/EDAS testing initi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24 Apr 200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realtime NOAH LSM Eta/EDAS testing initi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02 July 200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pre-implementation NOAH LSM testing in parall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Eta/E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MS Mincho"/>
              </a:rPr>
              <a:t>24 July 2001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MS Mincho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MS Mincho"/>
              </a:rPr>
              <a:t>frozen soil physics, patchy snowcover (OHD, V. Koren)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MS Mincho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12 Feb 200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improved sub-surface heat flux with snowp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Fig1_NOAH_LSM_community.mdp" descr=""/>
          <p:cNvPicPr/>
          <p:nvPr/>
        </p:nvPicPr>
        <p:blipFill>
          <a:blip r:embed="rId1"/>
          <a:stretch/>
        </p:blipFill>
        <p:spPr>
          <a:xfrm>
            <a:off x="4098960" y="1120680"/>
            <a:ext cx="4633920" cy="44928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0" y="22860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Helvetica-Narrow"/>
                <a:ea typeface="MS Mincho"/>
              </a:rPr>
              <a:t>ETA/NOAH LAND-SURFACE MODEL UPGRADES</a:t>
            </a:r>
            <a:r>
              <a:rPr b="1" lang="en-US" sz="2400" spc="-1" strike="noStrike">
                <a:solidFill>
                  <a:srgbClr val="000000"/>
                </a:solidFill>
                <a:latin typeface="Helvetica-Narrow"/>
                <a:ea typeface="MS Mincho"/>
              </a:rPr>
              <a:t>: </a:t>
            </a:r>
            <a:r>
              <a:rPr b="1" lang="en-US" sz="2400" spc="-1" strike="noStrike">
                <a:solidFill>
                  <a:srgbClr val="3333cc"/>
                </a:solidFill>
                <a:latin typeface="Helvetica-Narrow"/>
                <a:ea typeface="MS Mincho"/>
              </a:rPr>
              <a:t>24 Jul 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1036800"/>
            <a:ext cx="4343400" cy="61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elvetica-Narrow"/>
                <a:ea typeface="MS Mincho"/>
              </a:rPr>
              <a:t>- assimilation of hourly precipi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elvetica-Narrow"/>
                <a:ea typeface="MS Minch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elvetica-Narrow"/>
                <a:ea typeface="MS Mincho"/>
              </a:rPr>
              <a:t>-- hourly 4-km radar/gage analysis (Stage 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Helvetica-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elvetica-Narrow"/>
                <a:ea typeface="MS Mincho"/>
              </a:rPr>
              <a:t>cold season processes</a:t>
            </a:r>
            <a:r>
              <a:rPr b="0" lang="en-US" sz="1600" spc="-1" strike="noStrike">
                <a:solidFill>
                  <a:srgbClr val="000000"/>
                </a:solidFill>
                <a:latin typeface="Helvetica-Narrow"/>
                <a:ea typeface="MS Mincho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Helvetica-Narrow"/>
                <a:ea typeface="MS Mincho"/>
              </a:rPr>
              <a:t>Koren et al 1999</a:t>
            </a:r>
            <a:r>
              <a:rPr b="0" lang="en-US" sz="1600" spc="-1" strike="noStrike">
                <a:solidFill>
                  <a:srgbClr val="000000"/>
                </a:solidFill>
                <a:latin typeface="Helvetica-Narrow"/>
                <a:ea typeface="MS Mincho"/>
              </a:rPr>
              <a:t>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Helvetica-Narrow"/>
                <a:ea typeface="MS Mincho"/>
              </a:rPr>
              <a:t>  -- patchy snow cov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Helvetica-Narrow"/>
                <a:ea typeface="MS Mincho"/>
              </a:rPr>
              <a:t>  -- frozen soil (new state variable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Helvetica-Narrow"/>
                <a:ea typeface="MS Mincho"/>
              </a:rPr>
              <a:t>  -- snow density (new state variable)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Helvetica-Narro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Helvetica-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elvetica-Narrow"/>
                <a:ea typeface="MS Mincho"/>
              </a:rPr>
              <a:t>- bare soil evaporation refin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elvetica-Narrow"/>
                <a:ea typeface="MS Minch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elvetica-Narrow"/>
                <a:ea typeface="MS Mincho"/>
              </a:rPr>
              <a:t>-- parameterize upper sfc crust cap on ev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elvetica-Narrow"/>
                <a:ea typeface="MS Mincho"/>
              </a:rPr>
              <a:t>- soil heat flux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Helvetica-Narrow"/>
                <a:ea typeface="MS Mincho"/>
              </a:rPr>
              <a:t>  -- new soil thermal condu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elvetica-Narrow"/>
                <a:ea typeface="MS Minch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Helvetica-Narrow"/>
                <a:ea typeface="MS Mincho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Helvetica-Narrow"/>
                <a:ea typeface="MS Mincho"/>
              </a:rPr>
              <a:t>Peters-Lidard et al 1998</a:t>
            </a:r>
            <a:r>
              <a:rPr b="0" lang="en-US" sz="1600" spc="-1" strike="noStrike">
                <a:solidFill>
                  <a:srgbClr val="000000"/>
                </a:solidFill>
                <a:latin typeface="Helvetica-Narrow"/>
                <a:ea typeface="MS Mincho"/>
              </a:rPr>
              <a:t>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Helvetica-Narrow"/>
                <a:ea typeface="MS Mincho"/>
              </a:rPr>
              <a:t>  -- under snowpack (</a:t>
            </a:r>
            <a:r>
              <a:rPr b="0" i="1" lang="en-US" sz="1600" spc="-1" strike="noStrike">
                <a:solidFill>
                  <a:srgbClr val="000000"/>
                </a:solidFill>
                <a:latin typeface="Helvetica-Narrow"/>
                <a:ea typeface="MS Mincho"/>
              </a:rPr>
              <a:t>Lunardini, 1981</a:t>
            </a:r>
            <a:r>
              <a:rPr b="0" lang="en-US" sz="1600" spc="-1" strike="noStrike">
                <a:solidFill>
                  <a:srgbClr val="000000"/>
                </a:solidFill>
                <a:latin typeface="Helvetica-Narrow"/>
                <a:ea typeface="MS Mincho"/>
              </a:rPr>
              <a:t>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Helvetica-Narrow"/>
                <a:ea typeface="MS Mincho"/>
              </a:rPr>
              <a:t>  -- vegetation reduction of thermal cond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Helvetica-Narrow"/>
                <a:ea typeface="MS Mincho"/>
              </a:rPr>
              <a:t>    (</a:t>
            </a:r>
            <a:r>
              <a:rPr b="0" i="1" lang="en-US" sz="1600" spc="-1" strike="noStrike">
                <a:solidFill>
                  <a:srgbClr val="000000"/>
                </a:solidFill>
                <a:latin typeface="Helvetica-Narrow"/>
                <a:ea typeface="MS Mincho"/>
              </a:rPr>
              <a:t>Peters-Lidard et al 1997</a:t>
            </a:r>
            <a:r>
              <a:rPr b="0" lang="en-US" sz="1600" spc="-1" strike="noStrike">
                <a:solidFill>
                  <a:srgbClr val="000000"/>
                </a:solidFill>
                <a:latin typeface="Helvetica-Narrow"/>
                <a:ea typeface="MS Mincho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elvetica-Narrow"/>
                <a:ea typeface="MS Mincho"/>
              </a:rPr>
              <a:t>- surface characteriza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Helvetica-Narrow"/>
                <a:ea typeface="MS Minch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elvetica-Narrow"/>
                <a:ea typeface="MS Mincho"/>
              </a:rPr>
              <a:t>-- maximum snow albedo data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elvetica-Narrow"/>
                <a:ea typeface="MS Minch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Helvetica-Narrow"/>
                <a:ea typeface="MS Mincho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Helvetica-Narrow"/>
                <a:ea typeface="MS Mincho"/>
              </a:rPr>
              <a:t>Robinson &amp; Kukla 1985</a:t>
            </a:r>
            <a:r>
              <a:rPr b="0" lang="en-US" sz="1600" spc="-1" strike="noStrike">
                <a:solidFill>
                  <a:srgbClr val="000000"/>
                </a:solidFill>
                <a:latin typeface="Helvetica-Narrow"/>
                <a:ea typeface="MS Mincho"/>
              </a:rPr>
              <a:t>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Helvetica-Narrow"/>
                <a:ea typeface="MS Mincho"/>
              </a:rPr>
              <a:t>  -- dynamic thermal roughness leng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elvetica-Narrow"/>
                <a:ea typeface="MS Minch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Helvetica-Narrow"/>
                <a:ea typeface="MS Mincho"/>
              </a:rPr>
              <a:t>refinem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elvetica-Narrow"/>
                <a:ea typeface="MS Mincho"/>
              </a:rPr>
              <a:t>- vege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elvetica-Narrow"/>
                <a:ea typeface="MS Minch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elvetica-Narrow"/>
                <a:ea typeface="MS Mincho"/>
              </a:rPr>
              <a:t>-- deeper rooting depth in fore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elvetica-Narrow"/>
                <a:ea typeface="MS Minch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elvetica-Narrow"/>
                <a:ea typeface="MS Mincho"/>
              </a:rPr>
              <a:t>-- canopy resistance refin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965400" y="5791320"/>
            <a:ext cx="496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AH LSM tested in various land-mod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comparison projects, e.g., GSWP, PIL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a, 2c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d, 2e, Rho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(near-future) DMI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00800" y="56386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9:48:33Z</dcterms:created>
  <dc:creator>Ken Mitchell</dc:creator>
  <dc:description/>
  <dc:language>en-US</dc:language>
  <cp:lastModifiedBy>kemitchell</cp:lastModifiedBy>
  <dcterms:modified xsi:type="dcterms:W3CDTF">2003-07-02T16:56:11Z</dcterms:modified>
  <cp:revision>82</cp:revision>
  <dc:subject/>
  <dc:title>PowerPoint Presentation</dc:title>
</cp:coreProperties>
</file>