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6F4-558E-49F9-AC63-4D165DD4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864-9616-4706-932A-C8FB76A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1BC-06B9-40AA-A5C5-36E70E24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17F-DEB3-4ABB-9F5D-34CE6658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438-3F42-480A-9109-A579EF4E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D3C-39D0-48D8-8BCC-54AD865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DAE-7A52-423F-859A-DDD9B1C3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2D1-276E-4977-9B50-CE17026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DB3-AD71-4955-9245-47544F96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70C-9D7A-4462-BC8B-09E348A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E0B-EF66-4FA1-A992-8FE3FCB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1BB-0BD0-4F08-9F32-02091E5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AFD-8BEF-4866-99AD-CBF171B4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of WRFSI Upgrades and Enhancement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une 2002-June 20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Smart, Brent Shaw, Paula McCaslin and Brian Jam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AA/F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ment of Work  - FY0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remaining land state fields to WRFSI includ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Max snow albedo: fractional discontinuous 1deg global (Feb/March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Terrain slope categories: 1 deg global (March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Max/min greenness fraction: computed from existing global .144 deg 12 month greenness fraction (April 2003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000" y="1371600"/>
            <a:ext cx="802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Coordinate with NCEP/NCAR/AFWA to add model background  land states for consistent soil moisture, ground temp, frozen soil, etc. (Spring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Further develop GUI for initial software rele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une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Enhance "ease of use" capabilities (Oct 2002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Develop nesting capability (in progres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Evaluate MODIS data as optional global land use data set (Summer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Prepare software tarfile for June 2003 tutoria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WA (100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AA  ( 75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A     ( 25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600" y="571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beta-release software tarfile for initial Noah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2360" y="21715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Prepare remaining land states data for ingest by gridgen model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Develop gridgen model software to ingest remaining land state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new land states to hinterp (pass through to WRF-L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Develop GUI; installation procedure; platform porting; graphics; and so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New tarfile is now released with all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www.wrf-model.org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other land states (SST clima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Make localization software more efficient (parall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Enhancements to GU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 wrf.nl 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itional graphics: display SI meteor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 analysis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art</cp:lastModifiedBy>
  <dcterms:modified xsi:type="dcterms:W3CDTF">2003-06-18T13:35:49Z</dcterms:modified>
  <cp:revision>4</cp:revision>
  <dc:subject/>
  <dc:title>PowerPoint Presentation</dc:title>
</cp:coreProperties>
</file>