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C42-32AC-4536-99AB-19CDC6C4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20F-3CDA-435D-A479-8F2BA59C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AB4-4CEC-439B-B478-47A3EEF5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071-5A48-4272-83CE-5598F29E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3D4-32A2-4784-91CC-210C6265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0DB-FB64-43C6-870E-1F21B85F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20B-557A-436D-A484-7817AF60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DF3-8129-4C6A-8B7C-A3A5B8AA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86C-A916-4D7A-A5ED-23366CEF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CEA-FA19-45D4-B79B-8B01A859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675-2EA9-422B-A3E7-B44E4B04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368-ECD4-4287-BFB6-AD73798D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2418-6277-408C-A31C-A506F53BC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838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urrent and Future Initializ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RF Land States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73720" y="2286000"/>
            <a:ext cx="19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 Mitc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EP/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40720" y="5640480"/>
            <a:ext cx="1066680" cy="105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95840" y="5630760"/>
            <a:ext cx="130464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7120" y="5695920"/>
            <a:ext cx="924120" cy="9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9520" y="3767040"/>
            <a:ext cx="89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RF Land Working Group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18 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Expanding LSM-related content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 NCEP Eta/EDAS/NLDAS GRIB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and states at all soil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and liquid soil moi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and physical snow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 use class and soi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vegetation and soil parameter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est neighbor interpolation from native grid to chosen output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LSM Issues for WRF 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wo land-use fields to W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ame source as input la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wo soil-class fields to W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ame external source as input la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flag for source of WRF land-use and soil class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=Default, False=Ex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label indicating source of input la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EDAS, AGRMET, NLDAS, RUC, HRL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TABLE: Multiple GRIB tables employed in GRIB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EP GRIB Tables 2, 129 (cloud micro), 130 (land-re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TABLE: How handle new GRIB grid numb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EP Eta output grid #’s 110, 218, 221 (drop 212 as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itialization Requirements for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nified Noah LSM in NCEP Eta and WRF r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gnostic St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l moisture (liquid and frozen): 10, 30, 60, 10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l temperature: 10, 30, 60, 10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owpack: actual and water-equivalent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py water content: intercepted precip, d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nd Surfac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-use class (e.g vegetation, urb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getation phenology (seasonal cycle of green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getation and soil physica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LSM Initialization Philosophy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WRF or Eta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a or WRF model has its ow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ly cycled data assimilation system with 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SM physics, soil layers, grid, terrain, land mask, fixed fields of land use and soil class, physica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pled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DA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/GDA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 land surface forcing from parent atmosphere model (may include precipitation assimi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coupled (NLDAS/GLDAS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cipitation and solar insolation forcing are from non-model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LSM Initialization Philosophy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st alternative when continuous cycling no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F or Eta executed on a domain different from cycled WRF or Eta data assimil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mble runs as coarser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ra high resolution: dispersion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meso model runs: field offices, labs,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land states, land-use map, soil map, parameters from most-similar fully cycled land data assimilation syst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LSM, same soil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arest neighbor interpolation to obtain land states, land-use map, soil class map and apply same paramet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ptchart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56272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4343400"/>
            <a:ext cx="70102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recast period between the analysis steps of the 12h pre-forecast data assimilation period, at each time step and at each point where observed precipitation is available, we comp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modify the model’s temperature, moisture, cloud and rain field to be more consistent with observed precipi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AS: Eta/Noah, 12-k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precip assimi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1676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-forecast data assimilation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e forecast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ta_rean_3245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0"/>
            <a:ext cx="8673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elvetica Narrow"/>
              </a:rPr>
              <a:t>Interannual variability of North American Monsoon - </a:t>
            </a:r>
            <a:r>
              <a:rPr b="1" lang="en-US" sz="2200" spc="-1" strike="noStrike">
                <a:solidFill>
                  <a:srgbClr val="cc3300"/>
                </a:solidFill>
                <a:latin typeface="Helvetica Narrow"/>
              </a:rPr>
              <a:t>interior Southw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3444"/>
          <a:stretch/>
        </p:blipFill>
        <p:spPr>
          <a:xfrm>
            <a:off x="3124080" y="533520"/>
            <a:ext cx="313236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3794"/>
          <a:stretch/>
        </p:blipFill>
        <p:spPr>
          <a:xfrm>
            <a:off x="0" y="533520"/>
            <a:ext cx="31129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609480" y="1905120"/>
            <a:ext cx="1663920" cy="787320"/>
            <a:chOff x="609480" y="1905120"/>
            <a:chExt cx="1663920" cy="787320"/>
          </a:xfrm>
        </p:grpSpPr>
        <p:sp>
          <p:nvSpPr>
            <p:cNvPr id="67" name=""/>
            <p:cNvSpPr/>
            <p:nvPr/>
          </p:nvSpPr>
          <p:spPr>
            <a:xfrm>
              <a:off x="1600200" y="2286000"/>
              <a:ext cx="67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3333cc"/>
                  </a:solidFill>
                  <a:latin typeface="Helvetica Narrow"/>
                </a:rPr>
                <a:t>moist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9480" y="1905120"/>
              <a:ext cx="10670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838080" y="6029280"/>
            <a:ext cx="8031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28600"/>
            <a:ext cx="1403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30040"/>
            <a:ext cx="1401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328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20010731_30day" descr=""/>
          <p:cNvPicPr/>
          <p:nvPr/>
        </p:nvPicPr>
        <p:blipFill>
          <a:blip r:embed="rId3"/>
          <a:srcRect l="1295" t="6556" r="59291" b="60538"/>
          <a:stretch/>
        </p:blipFill>
        <p:spPr>
          <a:xfrm>
            <a:off x="6248520" y="533520"/>
            <a:ext cx="289548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60520" y="4649760"/>
            <a:ext cx="209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8400" y="5592600"/>
            <a:ext cx="17964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88840" y="528804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244520" y="487692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rcRect l="0" t="6923" r="0" b="0"/>
          <a:stretch/>
        </p:blipFill>
        <p:spPr>
          <a:xfrm>
            <a:off x="0" y="4648320"/>
            <a:ext cx="2948040" cy="204948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84040" y="6629400"/>
            <a:ext cx="2473200" cy="165240"/>
            <a:chOff x="284040" y="6629400"/>
            <a:chExt cx="2473200" cy="165240"/>
          </a:xfrm>
        </p:grpSpPr>
        <p:sp>
          <p:nvSpPr>
            <p:cNvPr id="80" name=""/>
            <p:cNvSpPr/>
            <p:nvPr/>
          </p:nvSpPr>
          <p:spPr>
            <a:xfrm>
              <a:off x="28404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696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5572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756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5384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61800" y="4732200"/>
            <a:ext cx="2403360" cy="135000"/>
            <a:chOff x="361800" y="4732200"/>
            <a:chExt cx="2403360" cy="135000"/>
          </a:xfrm>
        </p:grpSpPr>
        <p:sp>
          <p:nvSpPr>
            <p:cNvPr id="86" name=""/>
            <p:cNvSpPr/>
            <p:nvPr/>
          </p:nvSpPr>
          <p:spPr>
            <a:xfrm>
              <a:off x="2458080" y="4732200"/>
              <a:ext cx="307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29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61800" y="4830840"/>
              <a:ext cx="2091960" cy="0"/>
              <a:chOff x="361800" y="4830840"/>
              <a:chExt cx="2091960" cy="0"/>
            </a:xfrm>
          </p:grpSpPr>
          <p:sp>
            <p:nvSpPr>
              <p:cNvPr id="88" name=""/>
              <p:cNvSpPr/>
              <p:nvPr/>
            </p:nvSpPr>
            <p:spPr>
              <a:xfrm>
                <a:off x="2211840" y="4830840"/>
                <a:ext cx="241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082880" y="4830840"/>
                <a:ext cx="826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1800" y="4830840"/>
                <a:ext cx="4550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 rot="10800000">
            <a:off x="29880" y="5002200"/>
            <a:ext cx="106200" cy="439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4648320"/>
            <a:ext cx="201600" cy="1915560"/>
            <a:chOff x="0" y="4648320"/>
            <a:chExt cx="201600" cy="1915560"/>
          </a:xfrm>
        </p:grpSpPr>
        <p:sp>
          <p:nvSpPr>
            <p:cNvPr id="93" name=""/>
            <p:cNvSpPr/>
            <p:nvPr/>
          </p:nvSpPr>
          <p:spPr>
            <a:xfrm>
              <a:off x="7560" y="6397560"/>
              <a:ext cx="1936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521320"/>
              <a:ext cx="2001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648320"/>
              <a:ext cx="2016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rot="10800000">
            <a:off x="2900520" y="5013000"/>
            <a:ext cx="110880" cy="4395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191120"/>
            <a:ext cx="1612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rcRect l="0" t="6923" r="0" b="0"/>
          <a:stretch/>
        </p:blipFill>
        <p:spPr>
          <a:xfrm>
            <a:off x="2895480" y="4656240"/>
            <a:ext cx="3049560" cy="20494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971800" y="4800600"/>
            <a:ext cx="208080" cy="1736640"/>
            <a:chOff x="2971800" y="4800600"/>
            <a:chExt cx="208080" cy="1736640"/>
          </a:xfrm>
        </p:grpSpPr>
        <p:sp>
          <p:nvSpPr>
            <p:cNvPr id="100" name=""/>
            <p:cNvSpPr/>
            <p:nvPr/>
          </p:nvSpPr>
          <p:spPr>
            <a:xfrm>
              <a:off x="2971800" y="6370560"/>
              <a:ext cx="198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5587920"/>
              <a:ext cx="2080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71800" y="4800600"/>
              <a:ext cx="205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200400" y="6629400"/>
            <a:ext cx="2558520" cy="165240"/>
            <a:chOff x="3200400" y="6629400"/>
            <a:chExt cx="2558520" cy="165240"/>
          </a:xfrm>
        </p:grpSpPr>
        <p:sp>
          <p:nvSpPr>
            <p:cNvPr id="104" name=""/>
            <p:cNvSpPr/>
            <p:nvPr/>
          </p:nvSpPr>
          <p:spPr>
            <a:xfrm>
              <a:off x="3200400" y="6629400"/>
              <a:ext cx="2077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75080" y="6629400"/>
              <a:ext cx="2088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1880" y="6629400"/>
              <a:ext cx="198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615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501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343400" y="4898880"/>
            <a:ext cx="214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5661000"/>
            <a:ext cx="182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809880" y="5389560"/>
            <a:ext cx="21744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21280" y="5084280"/>
            <a:ext cx="217440" cy="24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91440" y="4267080"/>
            <a:ext cx="3142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2M_12_diurnal_JUL2001_SMT_Eta" descr=""/>
          <p:cNvPicPr/>
          <p:nvPr/>
        </p:nvPicPr>
        <p:blipFill>
          <a:blip r:embed="rId6"/>
          <a:srcRect l="0" t="6812" r="0" b="0"/>
          <a:stretch/>
        </p:blipFill>
        <p:spPr>
          <a:xfrm>
            <a:off x="6095880" y="4648320"/>
            <a:ext cx="28958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6400800" y="4822920"/>
            <a:ext cx="2165040" cy="0"/>
            <a:chOff x="6400800" y="4822920"/>
            <a:chExt cx="2165040" cy="0"/>
          </a:xfrm>
        </p:grpSpPr>
        <p:sp>
          <p:nvSpPr>
            <p:cNvPr id="116" name=""/>
            <p:cNvSpPr/>
            <p:nvPr/>
          </p:nvSpPr>
          <p:spPr>
            <a:xfrm>
              <a:off x="8315640" y="4822920"/>
              <a:ext cx="2502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46360" y="4822920"/>
              <a:ext cx="856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822920"/>
              <a:ext cx="47196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023600" y="1522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f00"/>
                </a:solidFill>
                <a:latin typeface="Helvetica Narrow"/>
              </a:rPr>
              <a:t>July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33920" y="1828800"/>
            <a:ext cx="1384200" cy="969840"/>
            <a:chOff x="3733920" y="1828800"/>
            <a:chExt cx="1384200" cy="969840"/>
          </a:xfrm>
        </p:grpSpPr>
        <p:sp>
          <p:nvSpPr>
            <p:cNvPr id="121" name=""/>
            <p:cNvSpPr/>
            <p:nvPr/>
          </p:nvSpPr>
          <p:spPr>
            <a:xfrm>
              <a:off x="4724280" y="2286000"/>
              <a:ext cx="3938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cc3300"/>
                  </a:solidFill>
                  <a:latin typeface="Helvetica Narrow"/>
                </a:rPr>
                <a:t>dr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33920" y="1828800"/>
              <a:ext cx="1066680" cy="60948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737480" y="2230560"/>
            <a:ext cx="3808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 Narrow"/>
              </a:rPr>
              <a:t>semi-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40640" y="1828800"/>
            <a:ext cx="103176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76720" y="4724280"/>
            <a:ext cx="2485440" cy="133200"/>
            <a:chOff x="3276720" y="4724280"/>
            <a:chExt cx="2485440" cy="133200"/>
          </a:xfrm>
        </p:grpSpPr>
        <p:sp>
          <p:nvSpPr>
            <p:cNvPr id="126" name=""/>
            <p:cNvSpPr/>
            <p:nvPr/>
          </p:nvSpPr>
          <p:spPr>
            <a:xfrm>
              <a:off x="5447520" y="4724280"/>
              <a:ext cx="3146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33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276720" y="4822560"/>
              <a:ext cx="2165040" cy="0"/>
              <a:chOff x="3276720" y="4822560"/>
              <a:chExt cx="2165040" cy="0"/>
            </a:xfrm>
          </p:grpSpPr>
          <p:sp>
            <p:nvSpPr>
              <p:cNvPr id="128" name=""/>
              <p:cNvSpPr/>
              <p:nvPr/>
            </p:nvSpPr>
            <p:spPr>
              <a:xfrm>
                <a:off x="5191560" y="4822560"/>
                <a:ext cx="250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22280" y="4822560"/>
                <a:ext cx="856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4822560"/>
                <a:ext cx="471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34002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Eta forecast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03560" y="464832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elvetica-Narrow"/>
              </a:rPr>
              <a:t>32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477120" y="6629400"/>
            <a:ext cx="2472840" cy="165240"/>
            <a:chOff x="6477120" y="6629400"/>
            <a:chExt cx="2472840" cy="165240"/>
          </a:xfrm>
        </p:grpSpPr>
        <p:sp>
          <p:nvSpPr>
            <p:cNvPr id="134" name=""/>
            <p:cNvSpPr/>
            <p:nvPr/>
          </p:nvSpPr>
          <p:spPr>
            <a:xfrm>
              <a:off x="647712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0968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4880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8028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4656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16760" y="4816440"/>
            <a:ext cx="207720" cy="1736640"/>
            <a:chOff x="6116760" y="4816440"/>
            <a:chExt cx="207720" cy="1736640"/>
          </a:xfrm>
        </p:grpSpPr>
        <p:sp>
          <p:nvSpPr>
            <p:cNvPr id="140" name=""/>
            <p:cNvSpPr/>
            <p:nvPr/>
          </p:nvSpPr>
          <p:spPr>
            <a:xfrm>
              <a:off x="6116760" y="6386400"/>
              <a:ext cx="1980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16760" y="5603760"/>
              <a:ext cx="2077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6760" y="4816440"/>
              <a:ext cx="2048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52280" y="2666880"/>
            <a:ext cx="2551320" cy="1933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1080" y="3989520"/>
            <a:ext cx="93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Moist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5400" y="3798720"/>
            <a:ext cx="284040" cy="190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61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3352680" y="2666880"/>
            <a:ext cx="2551320" cy="1981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52680" y="399240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Dry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01800" y="3809880"/>
            <a:ext cx="28404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vsm2.2001073112" descr=""/>
          <p:cNvPicPr/>
          <p:nvPr/>
        </p:nvPicPr>
        <p:blipFill>
          <a:blip r:embed="rId9"/>
          <a:stretch/>
        </p:blipFill>
        <p:spPr>
          <a:xfrm>
            <a:off x="6248520" y="2590920"/>
            <a:ext cx="2666880" cy="2060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135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94812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emi-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oil 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537240" y="3809880"/>
            <a:ext cx="28440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ources of Noah Land States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pled cycled LDA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l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E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2-km Eta/Noah (4 soil layers: 10, 30, 60, 100 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AS: 1-deg GFS/OSU (2 soil layers: 10, 190 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pled cycled LDA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Reanalysis I: 1948- present (GDAS: 2.5 d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Reanalysis II: 1979-present (GDAS: 2.5 d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gional Re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979-2004 (EDAS: 32-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upled cycled LDAS: Realtime parall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NL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. American Land Data Assimilation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8-deg, CONUS grid, Noah LSM, 4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DAS: Global Land Data Assimil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-deg, Noah LSM, 4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A spearhe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itializing 8-km WRF/Noah runs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rom 12-km 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F uses same Noah LSM as E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F use same Noah LSM paramet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States from nearest neighbor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-class and soil class from nearest neigh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temperature profile adjusted for terrain height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zen soil moisture adjusted if soil temperature adj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rom 8-km NLDAS executing on WRF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0:48:51Z</dcterms:created>
  <dc:creator>M. EK</dc:creator>
  <dc:description/>
  <dc:language>en-US</dc:language>
  <cp:lastModifiedBy>kemitchell</cp:lastModifiedBy>
  <dcterms:modified xsi:type="dcterms:W3CDTF">2003-07-02T16:55:47Z</dcterms:modified>
  <cp:revision>10</cp:revision>
  <dc:subject/>
  <dc:title>PowerPoint Presentation</dc:title>
</cp:coreProperties>
</file>