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2.png" ContentType="image/png"/>
  <Override PartName="/ppt/media/image12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9BC-3814-4CAB-A901-E0B149CA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50F-0512-4C4C-BDD0-31792148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F95-7D44-4337-AC61-CE5A2A65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554-14A1-4B7D-AB89-5EB03E61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B0F9-839A-4105-9AFD-B285DF8A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6E55-ADDC-4208-A24C-BE00699F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A8E2-9188-4E63-8908-B796DF11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4300-8CEC-4B85-A5B5-17B713DE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A8D3-67A4-49AD-AE5C-9602C95A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8AFE-4785-4AEB-87DE-7BB66C48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502C-026C-432B-8C7D-FC26DB0F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682-2E18-4853-B97B-675A96E0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0970-DD0C-4D7A-BA27-465C7AE7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E8ED-28C5-438E-9082-83E1CB08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3871-3979-4589-8D28-5AB5F7A6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BF92-39CA-49B2-85C1-FAA20D05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4AEF-1457-4A06-84E9-16DA2323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CCD-940A-4BE0-B743-AEA0C302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9C6E-E9B1-43A1-8BA9-39CEA0DD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89CC-5F29-4DE7-B0E1-B611394A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376-6475-45E0-BEEE-6C40CBD1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9D2-4AB7-4070-AE10-411A0949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579-454F-4433-ABF8-B64D250A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796-B260-4631-AC15-0E084865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A202-3C43-4673-8156-AC7439EB5D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B917-1867-4629-BAA0-936160C65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c.fsl.noaa.gov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zmoroz2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915400" cy="5937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2819520"/>
            <a:ext cx="891540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Unicode MS"/>
              </a:rPr>
              <a:t>RUC Land Surface Model implementation in WRF</a:t>
            </a: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Tanya Smirnova, WRFLSM Workshop, 18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6696-36A6-4AC9-A1CB-6B2A596CD3A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0"/>
            <a:ext cx="8839440" cy="66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Physics options used in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WRFRUC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 at FS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CEP 5-class microphysics scheme (option 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RRTM longwave radiation (option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udhia shortwave radiation (option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ellor-Yamada-Janjic Monin-Obukhov surfa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yer (option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RUC land-surface model (option 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ellor-Yamada-Janjic TKE scheme (option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Kain-Fritsch (for CONUS) and Betts-Miller 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njic (for TAQ) cumulus parameteriz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option 1, 2) as of May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FFB-8828-4213-BB34-3286BF6E27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ucvgmdl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5943600" cy="4754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5867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Schematic presentation of processes included into RUC-LSM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5562720"/>
            <a:ext cx="8915400" cy="1130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6 levels in soil – 0, 5, 20, 40, 160, 300 c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State variables -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volumetric soil moisture, soil temperature, snow  cover/depth/temperature  - cycled in 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RUC 1h cycle since 1997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15200" y="20574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6F4-DA87-4B8E-8EE8-5315BECB8EB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6440" y="318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04920"/>
            <a:ext cx="91440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RFRUC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initialization need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RF S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Brent Shaw)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native RUC vertical coordinate rather tha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baric levels to provide initial fields of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mospheric variables including hydrometeor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vapor, cloud, ice, rain, snow, graup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4648320"/>
            <a:ext cx="870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most recent official release of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RF S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ncludes all these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B5F-5559-4661-B623-ED52AEFF1EE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28600"/>
            <a:ext cx="9144000" cy="62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anges for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RFRUC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initialization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s to 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REAL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Dave Gi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mmodate for level structure in RUC soil doma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 through hydrometeor fie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Further changes needed to pass through from SI to WRF model other land-surface related variables such as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fields for snow tempera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w dens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ter vapor mixing ratio at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quid volumetric soil moisture and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D182-91F2-45FD-BCB7-57D44892569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304920"/>
            <a:ext cx="8763120" cy="71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WRFRUC LSM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il and vegetation parameters, vegetation    fraction and albedo provided by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WRF 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cled soil temperature and moisture from RUC2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(RUC and WRFRUC use the same LSM, land-use and soil classifications, and the same parameter tab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cled snow depth and temperature from RUC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ce in soil is initialized in WR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mospheric forcing is provided by WRF. Still need from WRF modeling framewor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precipitation type (solid versus liqui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tion in surface driver for implicit solution of energy and moisture bud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4B9-61D1-4BA8-A6F1-58A63FA73C3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uc20_vegtyp" descr=""/>
          <p:cNvPicPr/>
          <p:nvPr/>
        </p:nvPicPr>
        <p:blipFill>
          <a:blip r:embed="rId1"/>
          <a:srcRect l="50007" t="21752" r="2631" b="33770"/>
          <a:stretch/>
        </p:blipFill>
        <p:spPr>
          <a:xfrm>
            <a:off x="0" y="685800"/>
            <a:ext cx="4495680" cy="3890880"/>
          </a:xfrm>
          <a:prstGeom prst="rect">
            <a:avLst/>
          </a:prstGeom>
          <a:ln w="0">
            <a:noFill/>
          </a:ln>
        </p:spPr>
      </p:pic>
      <p:pic>
        <p:nvPicPr>
          <p:cNvPr id="136" name="wrf10_vegtyp" descr=""/>
          <p:cNvPicPr/>
          <p:nvPr/>
        </p:nvPicPr>
        <p:blipFill>
          <a:blip r:embed="rId2"/>
          <a:srcRect l="1890" t="0" r="3662" b="0"/>
          <a:stretch/>
        </p:blipFill>
        <p:spPr>
          <a:xfrm>
            <a:off x="4575240" y="1676520"/>
            <a:ext cx="4568760" cy="5181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01800" y="179280"/>
            <a:ext cx="426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Vegetation types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–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th provided by WRF 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(24 USGS clas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46600" y="380988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C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63680" y="541008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F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7080" y="4800600"/>
            <a:ext cx="383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-use paramet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ughness 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iss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coeffic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A7D8-E8C4-45C9-BF8C-76B866DC2B6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uc20_soiltex" descr=""/>
          <p:cNvPicPr/>
          <p:nvPr/>
        </p:nvPicPr>
        <p:blipFill>
          <a:blip r:embed="rId1"/>
          <a:srcRect l="49104" t="0" r="0" b="38492"/>
          <a:stretch/>
        </p:blipFill>
        <p:spPr>
          <a:xfrm>
            <a:off x="152280" y="228600"/>
            <a:ext cx="4303800" cy="4724280"/>
          </a:xfrm>
          <a:prstGeom prst="rect">
            <a:avLst/>
          </a:prstGeom>
          <a:ln w="0">
            <a:noFill/>
          </a:ln>
        </p:spPr>
      </p:pic>
      <p:pic>
        <p:nvPicPr>
          <p:cNvPr id="142" name="wrf10_soiltex" descr=""/>
          <p:cNvPicPr/>
          <p:nvPr/>
        </p:nvPicPr>
        <p:blipFill>
          <a:blip r:embed="rId2"/>
          <a:srcRect l="2822" t="0" r="3814" b="0"/>
          <a:stretch/>
        </p:blipFill>
        <p:spPr>
          <a:xfrm>
            <a:off x="4648320" y="1752480"/>
            <a:ext cx="4303440" cy="5105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641680" y="396252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UC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08240" y="53341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RF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1280" y="84240"/>
            <a:ext cx="436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oil types –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oth provided by WRF 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(16 clas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2920" y="5410080"/>
            <a:ext cx="307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il parameters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-up 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8E6-F555-4965-AB7B-5F2CB27B2FA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ruc20_smc_17june" descr=""/>
          <p:cNvPicPr/>
          <p:nvPr/>
        </p:nvPicPr>
        <p:blipFill>
          <a:blip r:embed="rId1"/>
          <a:srcRect l="50050" t="0" r="0" b="40599"/>
          <a:stretch/>
        </p:blipFill>
        <p:spPr>
          <a:xfrm>
            <a:off x="93600" y="152280"/>
            <a:ext cx="4378320" cy="4953240"/>
          </a:xfrm>
          <a:prstGeom prst="rect">
            <a:avLst/>
          </a:prstGeom>
          <a:ln w="0">
            <a:noFill/>
          </a:ln>
        </p:spPr>
      </p:pic>
      <p:pic>
        <p:nvPicPr>
          <p:cNvPr id="148" name="wrf10_smc_17june" descr=""/>
          <p:cNvPicPr/>
          <p:nvPr/>
        </p:nvPicPr>
        <p:blipFill>
          <a:blip r:embed="rId2"/>
          <a:stretch/>
        </p:blipFill>
        <p:spPr>
          <a:xfrm>
            <a:off x="4533840" y="1533600"/>
            <a:ext cx="4610160" cy="5324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87480" y="0"/>
            <a:ext cx="431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oil moisture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id 0000 U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22920" y="449568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C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84200" y="53341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F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F58B-B7F2-441E-8CAD-02AFB60E0C8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aq-wrf-topo" descr=""/>
          <p:cNvPicPr/>
          <p:nvPr/>
        </p:nvPicPr>
        <p:blipFill>
          <a:blip r:embed="rId1"/>
          <a:srcRect l="8913" t="10331" r="7496" b="4661"/>
          <a:stretch/>
        </p:blipFill>
        <p:spPr>
          <a:xfrm>
            <a:off x="3738600" y="0"/>
            <a:ext cx="5172120" cy="5257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2160" y="457200"/>
            <a:ext cx="1995480" cy="2286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r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Q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20kmtopo" descr=""/>
          <p:cNvPicPr/>
          <p:nvPr/>
        </p:nvPicPr>
        <p:blipFill>
          <a:blip r:embed="rId2"/>
          <a:srcRect l="4399" t="15602" r="3598" b="9199"/>
          <a:stretch/>
        </p:blipFill>
        <p:spPr>
          <a:xfrm>
            <a:off x="0" y="2706840"/>
            <a:ext cx="4800600" cy="3924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03400" y="563868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C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3071-2E5B-4BA3-AEE2-868CC481CBD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ruc20_sfctem_17june" descr=""/>
          <p:cNvPicPr/>
          <p:nvPr/>
        </p:nvPicPr>
        <p:blipFill>
          <a:blip r:embed="rId1"/>
          <a:srcRect l="55362" t="15965" r="2677" b="39907"/>
          <a:stretch/>
        </p:blipFill>
        <p:spPr>
          <a:xfrm>
            <a:off x="228600" y="83808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157" name="wrf20_sfctgem_17june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4676760" cy="54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29280" y="160200"/>
            <a:ext cx="4257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urface tempera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, 17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22720" y="502920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RUC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05120" y="4800240"/>
            <a:ext cx="0" cy="3049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963-8A8B-4EA9-900C-6D8B6C13D64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soil_atm2" descr=""/>
          <p:cNvPicPr/>
          <p:nvPr/>
        </p:nvPicPr>
        <p:blipFill>
          <a:blip r:embed="rId1"/>
          <a:srcRect l="16218" t="0" r="0" b="0"/>
          <a:stretch/>
        </p:blipFill>
        <p:spPr>
          <a:xfrm>
            <a:off x="457200" y="609480"/>
            <a:ext cx="8381880" cy="5340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62120" y="83808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Part 1:  Current and Future 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 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Initialization of WRF 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Land States at FS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F72-A218-4D1C-887B-5F1E556D0CA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soil_atm3" descr=""/>
          <p:cNvPicPr/>
          <p:nvPr/>
        </p:nvPicPr>
        <p:blipFill>
          <a:blip r:embed="rId1"/>
          <a:srcRect l="0" t="0" r="27046" b="0"/>
          <a:stretch/>
        </p:blipFill>
        <p:spPr>
          <a:xfrm>
            <a:off x="457200" y="304920"/>
            <a:ext cx="8381880" cy="6134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08040" y="2952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9907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Unicode MS"/>
              </a:rPr>
              <a:t>Part 2:  Evaluation of LSM </a:t>
            </a:r>
            <a:r>
              <a:rPr b="0" lang="en-US" sz="40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Arial Unicode MS"/>
              </a:rPr>
              <a:t>perform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B30-0A32-4713-BBE5-422BF84DE66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28600"/>
            <a:ext cx="9144000" cy="65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C LSM participated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99ff99"/>
                </a:solidFill>
                <a:latin typeface="Tahoma"/>
              </a:rPr>
              <a:t>Project for the Intercomparison of Land-Surface  </a:t>
            </a:r>
            <a:r>
              <a:rPr b="0" lang="en-US" sz="2400" spc="-1" strike="noStrike">
                <a:solidFill>
                  <a:srgbClr val="99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99ff99"/>
                </a:solidFill>
                <a:latin typeface="Tahoma"/>
              </a:rPr>
              <a:t>Parameterization Schemes </a:t>
            </a:r>
            <a:r>
              <a:rPr b="0" lang="en-US" sz="2400" spc="-1" strike="noStrike">
                <a:solidFill>
                  <a:srgbClr val="ffccff"/>
                </a:solidFill>
                <a:latin typeface="Tahoma"/>
              </a:rPr>
              <a:t>(PILPS)</a:t>
            </a:r>
            <a:r>
              <a:rPr b="0" lang="en-US" sz="2400" spc="-1" strike="noStrike">
                <a:solidFill>
                  <a:srgbClr val="99ff99"/>
                </a:solidFill>
                <a:latin typeface="Tahoma"/>
              </a:rPr>
              <a:t> - Phase 2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Snow Models Intercomparison Project </a:t>
            </a:r>
            <a:r>
              <a:rPr b="0" lang="en-US" sz="2400" spc="-1" strike="noStrike">
                <a:solidFill>
                  <a:srgbClr val="ffccff"/>
                </a:solidFill>
                <a:latin typeface="Tahoma"/>
              </a:rPr>
              <a:t>(SNOWMIP)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– Phase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C LSM is implemented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Operational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RUC20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t NC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eal-time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RUC20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t FSL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CD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MM5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hemistry package (Georg Grell) used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- air quality pred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- regional climate simulations (FSL, Germany, Israel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WRF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054-67D6-4A9F-8082-0551361F15C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ved 1-d (PILPS 2d – Valdai, Russia)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tal runof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now water equivale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ecasts with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improved snow and soil physi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MAPS land-surface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1400" y="3516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5800" y="129528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 run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7000" y="396252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now water equival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swevald_76-77" descr=""/>
          <p:cNvPicPr/>
          <p:nvPr/>
        </p:nvPicPr>
        <p:blipFill>
          <a:blip r:embed="rId1"/>
          <a:stretch/>
        </p:blipFill>
        <p:spPr>
          <a:xfrm>
            <a:off x="0" y="4432320"/>
            <a:ext cx="4876920" cy="2244600"/>
          </a:xfrm>
          <a:prstGeom prst="rect">
            <a:avLst/>
          </a:prstGeom>
          <a:ln w="0">
            <a:noFill/>
          </a:ln>
        </p:spPr>
      </p:pic>
      <p:pic>
        <p:nvPicPr>
          <p:cNvPr id="170" name="rffvald_76-77" descr=""/>
          <p:cNvPicPr/>
          <p:nvPr/>
        </p:nvPicPr>
        <p:blipFill>
          <a:blip r:embed="rId2"/>
          <a:stretch/>
        </p:blipFill>
        <p:spPr>
          <a:xfrm>
            <a:off x="0" y="1782720"/>
            <a:ext cx="4876920" cy="2257560"/>
          </a:xfrm>
          <a:prstGeom prst="rect">
            <a:avLst/>
          </a:prstGeom>
          <a:ln w="0">
            <a:noFill/>
          </a:ln>
        </p:spPr>
      </p:pic>
      <p:pic>
        <p:nvPicPr>
          <p:cNvPr id="171" name="tsfcvald_76-77" descr=""/>
          <p:cNvPicPr/>
          <p:nvPr/>
        </p:nvPicPr>
        <p:blipFill>
          <a:blip r:embed="rId3"/>
          <a:stretch/>
        </p:blipFill>
        <p:spPr>
          <a:xfrm>
            <a:off x="4572000" y="3505320"/>
            <a:ext cx="4572000" cy="2124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12840" y="297180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n 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920" y="182880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mber 1976 - May 197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CA5-A621-4D30-8FB0-B6560DF9A86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valdai_melt" descr=""/>
          <p:cNvPicPr/>
          <p:nvPr/>
        </p:nvPicPr>
        <p:blipFill>
          <a:blip r:embed="rId1"/>
          <a:srcRect l="0" t="32477" r="0" b="0"/>
          <a:stretch/>
        </p:blipFill>
        <p:spPr>
          <a:xfrm>
            <a:off x="457200" y="1143000"/>
            <a:ext cx="5257800" cy="503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200" y="152280"/>
            <a:ext cx="8381880" cy="825480"/>
          </a:xfrm>
          <a:prstGeom prst="rect">
            <a:avLst/>
          </a:prstGeom>
          <a:noFill/>
          <a:ln w="381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Effects of frozen soil physics on the simulation of the melting seasons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aldai, Russia (1966-198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27760" y="1717560"/>
            <a:ext cx="321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s when snow ablation st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434340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s when snow pack is all mel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6248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(Smirnova et al., JGR (2000),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105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, 4077-408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E79D-D8E8-4FF8-9C77-160CB5200D8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fig_snowmip_paper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47000" cy="4768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17000" y="228600"/>
            <a:ext cx="87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WMIP, an intercomparison of snow models: fir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. Etchevers, E. Martin, R. Brown et 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SW meeting, August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114800" y="5105160"/>
            <a:ext cx="0" cy="5331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3886200"/>
            <a:ext cx="228600" cy="83808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E588-34A0-4830-B02B-FEBA7D2DE19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snd_RUC_NCEP_00" descr=""/>
          <p:cNvPicPr/>
          <p:nvPr/>
        </p:nvPicPr>
        <p:blipFill>
          <a:blip r:embed="rId1"/>
          <a:srcRect l="0" t="0" r="0" b="29901"/>
          <a:stretch/>
        </p:blipFill>
        <p:spPr>
          <a:xfrm>
            <a:off x="3962520" y="3200400"/>
            <a:ext cx="5181480" cy="3454560"/>
          </a:xfrm>
          <a:prstGeom prst="rect">
            <a:avLst/>
          </a:prstGeom>
          <a:ln w="0">
            <a:noFill/>
          </a:ln>
        </p:spPr>
      </p:pic>
      <p:pic>
        <p:nvPicPr>
          <p:cNvPr id="184" name="syn_snow_ste_03008new" descr=""/>
          <p:cNvPicPr/>
          <p:nvPr/>
        </p:nvPicPr>
        <p:blipFill>
          <a:blip r:embed="rId2"/>
          <a:srcRect l="25915" t="44333" r="23792" b="7496"/>
          <a:stretch/>
        </p:blipFill>
        <p:spPr>
          <a:xfrm>
            <a:off x="304920" y="3657600"/>
            <a:ext cx="4190760" cy="3011400"/>
          </a:xfrm>
          <a:prstGeom prst="rect">
            <a:avLst/>
          </a:prstGeom>
          <a:ln w="0">
            <a:noFill/>
          </a:ln>
        </p:spPr>
      </p:pic>
      <p:pic>
        <p:nvPicPr>
          <p:cNvPr id="185" name="syn_snow_ste_03007)new" descr=""/>
          <p:cNvPicPr/>
          <p:nvPr/>
        </p:nvPicPr>
        <p:blipFill>
          <a:blip r:embed="rId3"/>
          <a:srcRect l="26624" t="45278" r="22372" b="7727"/>
          <a:stretch/>
        </p:blipFill>
        <p:spPr>
          <a:xfrm>
            <a:off x="380880" y="152280"/>
            <a:ext cx="4191120" cy="2895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25680" y="320040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SDIS daily snow co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02280" y="2597040"/>
            <a:ext cx="194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7 January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78600" y="6178680"/>
            <a:ext cx="194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8 January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27680" y="533520"/>
            <a:ext cx="3946680" cy="210600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ycled field of snow dep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from operational RUC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t NC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ahoma"/>
              </a:rPr>
              <a:t>Valid at 2100 UT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ahoma"/>
              </a:rPr>
              <a:t>8 January 2003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56960" y="6095880"/>
            <a:ext cx="194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8 January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F50-C23C-428E-91A4-1CC8D90DDC0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rad_us-12" descr=""/>
          <p:cNvPicPr/>
          <p:nvPr/>
        </p:nvPicPr>
        <p:blipFill>
          <a:blip r:embed="rId1"/>
          <a:srcRect l="48469" t="18636" r="0" b="13379"/>
          <a:stretch/>
        </p:blipFill>
        <p:spPr>
          <a:xfrm>
            <a:off x="2514600" y="3429000"/>
            <a:ext cx="3597120" cy="3429000"/>
          </a:xfrm>
          <a:prstGeom prst="rect">
            <a:avLst/>
          </a:prstGeom>
          <a:ln w="0">
            <a:noFill/>
          </a:ln>
        </p:spPr>
      </p:pic>
      <p:pic>
        <p:nvPicPr>
          <p:cNvPr id="192" name="ruc-12h_pcpn" descr=""/>
          <p:cNvPicPr/>
          <p:nvPr/>
        </p:nvPicPr>
        <p:blipFill>
          <a:blip r:embed="rId2"/>
          <a:srcRect l="3790" t="0" r="14800" b="0"/>
          <a:stretch/>
        </p:blipFill>
        <p:spPr>
          <a:xfrm>
            <a:off x="0" y="152280"/>
            <a:ext cx="3276720" cy="4648320"/>
          </a:xfrm>
          <a:prstGeom prst="rect">
            <a:avLst/>
          </a:prstGeom>
          <a:ln w="0">
            <a:noFill/>
          </a:ln>
        </p:spPr>
      </p:pic>
      <p:pic>
        <p:nvPicPr>
          <p:cNvPr id="193" name="wrfruc-12h_pcpn" descr=""/>
          <p:cNvPicPr/>
          <p:nvPr/>
        </p:nvPicPr>
        <p:blipFill>
          <a:blip r:embed="rId3"/>
          <a:srcRect l="2326" t="0" r="13827" b="0"/>
          <a:stretch/>
        </p:blipFill>
        <p:spPr>
          <a:xfrm>
            <a:off x="5715000" y="152280"/>
            <a:ext cx="342900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930720" y="838080"/>
            <a:ext cx="10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WR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22840" y="76212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RU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28600"/>
            <a:ext cx="1981080" cy="308016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-h fore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00 U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9 Janua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A9C8-507F-4AE0-8794-AE57FACA15F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ruc20_anal_18z" descr=""/>
          <p:cNvPicPr/>
          <p:nvPr/>
        </p:nvPicPr>
        <p:blipFill>
          <a:blip r:embed="rId1"/>
          <a:srcRect l="58346" t="16166" r="4697" b="39958"/>
          <a:stretch/>
        </p:blipFill>
        <p:spPr>
          <a:xfrm>
            <a:off x="3124080" y="3200400"/>
            <a:ext cx="2970360" cy="3352680"/>
          </a:xfrm>
          <a:prstGeom prst="rect">
            <a:avLst/>
          </a:prstGeom>
          <a:ln w="0">
            <a:noFill/>
          </a:ln>
        </p:spPr>
      </p:pic>
      <p:pic>
        <p:nvPicPr>
          <p:cNvPr id="198" name="ruc_18" descr=""/>
          <p:cNvPicPr/>
          <p:nvPr/>
        </p:nvPicPr>
        <p:blipFill>
          <a:blip r:embed="rId2"/>
          <a:srcRect l="3169" t="0" r="4950" b="1228"/>
          <a:stretch/>
        </p:blipFill>
        <p:spPr>
          <a:xfrm>
            <a:off x="0" y="1523880"/>
            <a:ext cx="3500280" cy="4343400"/>
          </a:xfrm>
          <a:prstGeom prst="rect">
            <a:avLst/>
          </a:prstGeom>
          <a:ln w="0">
            <a:noFill/>
          </a:ln>
        </p:spPr>
      </p:pic>
      <p:pic>
        <p:nvPicPr>
          <p:cNvPr id="199" name="wrfruc_temp_tl_18" descr=""/>
          <p:cNvPicPr/>
          <p:nvPr/>
        </p:nvPicPr>
        <p:blipFill>
          <a:blip r:embed="rId3"/>
          <a:srcRect l="2927" t="0" r="6313" b="1136"/>
          <a:stretch/>
        </p:blipFill>
        <p:spPr>
          <a:xfrm>
            <a:off x="5486400" y="1523880"/>
            <a:ext cx="3513240" cy="4419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546600" y="2971800"/>
            <a:ext cx="16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F-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560" y="289548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C-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216720" y="0"/>
            <a:ext cx="959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-h forecast of surface temperature from RUC and WR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RUC-20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00 UTC 29 January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87200" y="373392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C-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479-F79D-4C4F-B541-9E176389C28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320" y="6357960"/>
            <a:ext cx="82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http://www.etl.noaa.gov/programs/2002/taq/ver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15480" y="2133720"/>
            <a:ext cx="2318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tford, 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79600" y="133200"/>
            <a:ext cx="330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ation ve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r TAQ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bdl0316000_met" descr=""/>
          <p:cNvPicPr/>
          <p:nvPr/>
        </p:nvPicPr>
        <p:blipFill>
          <a:blip r:embed="rId1"/>
          <a:srcRect l="2192" t="0" r="7502" b="0"/>
          <a:stretch/>
        </p:blipFill>
        <p:spPr>
          <a:xfrm>
            <a:off x="228600" y="152280"/>
            <a:ext cx="564372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543C-8A1C-4074-B304-FE8582758DB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-239760" y="6400800"/>
            <a:ext cx="82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http://www.etl.noaa.gov/programs/2002/taq/ver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5480" y="2666880"/>
            <a:ext cx="2318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ston, 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43600" y="304920"/>
            <a:ext cx="3200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ation ve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r TAQ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bos0316000_met" descr=""/>
          <p:cNvPicPr/>
          <p:nvPr/>
        </p:nvPicPr>
        <p:blipFill>
          <a:blip r:embed="rId1"/>
          <a:srcRect l="2192" t="0" r="7502" b="0"/>
          <a:stretch/>
        </p:blipFill>
        <p:spPr>
          <a:xfrm>
            <a:off x="152280" y="152280"/>
            <a:ext cx="5715000" cy="632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B53-FD59-444B-B6AB-C1F4E28D25B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447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Goal for use of WRF in the Rapid Update Cycl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057400"/>
            <a:ext cx="8001000" cy="4899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6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WRF model in Rapid Update Cycle (or Rapid Refresh) application at NC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step – test WRF model against current RUC hydrostatic model using common RUC initial cond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RFRUC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WRF initialized with RUC-20 initial conditions, full-resolution nativ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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ordinate data, including 3-d hydrometeor, land-sfc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AD6B-E15A-427E-97E9-7A186522DB7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-87480" y="6400800"/>
            <a:ext cx="82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http://www.etl.noaa.gov/programs/2002/taq/ver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5800" y="2514600"/>
            <a:ext cx="2623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cester, 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3600" y="609480"/>
            <a:ext cx="3200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ation ve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r TAQ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orh0316000_met" descr=""/>
          <p:cNvPicPr/>
          <p:nvPr/>
        </p:nvPicPr>
        <p:blipFill>
          <a:blip r:embed="rId1"/>
          <a:srcRect l="2192" t="0" r="7502" b="0"/>
          <a:stretch/>
        </p:blipFill>
        <p:spPr>
          <a:xfrm>
            <a:off x="152280" y="152280"/>
            <a:ext cx="564192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27B-564A-40D0-B182-7E34CF81363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523880" y="2362320"/>
          <a:ext cx="6019920" cy="3622680"/>
        </p:xfrm>
        <a:graphic>
          <a:graphicData uri="http://schemas.openxmlformats.org/drawingml/2006/table">
            <a:tbl>
              <a:tblPr/>
              <a:tblGrid>
                <a:gridCol w="2895840"/>
                <a:gridCol w="1218960"/>
                <a:gridCol w="1905120"/>
              </a:tblGrid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U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RFRU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ind spd – s.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ind spd bi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mp –s.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mp – bias-00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wpoint – s.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wpoint – bi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43200" y="228600"/>
            <a:ext cx="9073440" cy="1556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2-h surface forecasts verified vs. METAR o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 April – 11 June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UC-20 vs. WRFRUC-20 – all METARs in dom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1C8-107D-4CD4-93D6-96AEB7CB2C9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781680" y="768240"/>
            <a:ext cx="2210040" cy="4483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2-h winds aloft foreca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ified against rawinso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UC-20 vs. WRFRUC-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wind-ruc-wrf-17apr-12jun03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6464520" cy="557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B5E-FA74-45A0-8C38-72E091F0FA3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uc_10jun03" descr=""/>
          <p:cNvPicPr/>
          <p:nvPr/>
        </p:nvPicPr>
        <p:blipFill>
          <a:blip r:embed="rId1"/>
          <a:srcRect l="43684" t="23591" r="20334" b="31278"/>
          <a:stretch/>
        </p:blipFill>
        <p:spPr>
          <a:xfrm>
            <a:off x="152280" y="152280"/>
            <a:ext cx="3322800" cy="3962520"/>
          </a:xfrm>
          <a:prstGeom prst="rect">
            <a:avLst/>
          </a:prstGeom>
          <a:ln w="0">
            <a:noFill/>
          </a:ln>
        </p:spPr>
      </p:pic>
      <p:pic>
        <p:nvPicPr>
          <p:cNvPr id="221" name="wrf_10june2003" descr=""/>
          <p:cNvPicPr/>
          <p:nvPr/>
        </p:nvPicPr>
        <p:blipFill>
          <a:blip r:embed="rId2"/>
          <a:srcRect l="43154" t="21768" r="18882" b="31730"/>
          <a:stretch/>
        </p:blipFill>
        <p:spPr>
          <a:xfrm>
            <a:off x="5808600" y="0"/>
            <a:ext cx="3335400" cy="3886200"/>
          </a:xfrm>
          <a:prstGeom prst="rect">
            <a:avLst/>
          </a:prstGeom>
          <a:ln w="0">
            <a:noFill/>
          </a:ln>
        </p:spPr>
      </p:pic>
      <p:pic>
        <p:nvPicPr>
          <p:cNvPr id="222" name="rad_us_10jun03" descr=""/>
          <p:cNvPicPr/>
          <p:nvPr/>
        </p:nvPicPr>
        <p:blipFill>
          <a:blip r:embed="rId3"/>
          <a:srcRect l="39193" t="13949" r="18918" b="14839"/>
          <a:stretch/>
        </p:blipFill>
        <p:spPr>
          <a:xfrm>
            <a:off x="2819520" y="2971800"/>
            <a:ext cx="3163680" cy="3886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57200" y="4800600"/>
            <a:ext cx="182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C-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Grell-Devenyi cumul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30600" y="22860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FRUC-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KF cumul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4267080"/>
            <a:ext cx="297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1-h foreca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id  2100 U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1219320"/>
            <a:ext cx="129528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762120" y="3886200"/>
            <a:ext cx="45720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5D8-876F-4E23-A8B6-C9A99D35CFCE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914400"/>
            <a:ext cx="861084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CAR mass-coordinate dynamic core - v.1.2.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5 vertical sigma-p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l conditions including 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land states for WRFRU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ve coordinate data from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SL RUC2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ycl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luding assimilation of observations  not yet used 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CEP operational RUC20 –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upled Data Assimilation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ystem (CDAS)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– available for outside users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the FSL ftp site in GRIB forma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teral boundary conditions from the same FS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C20 48h foreca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C post-processing adapted to WRF output t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e RUC look-alike GRIB outpu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1320" y="152280"/>
            <a:ext cx="65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WRFRUC model configu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D6F-B29D-413A-80CB-B956920C8CE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3280" y="228600"/>
            <a:ext cx="86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UC CDAS -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ur-dimensional system (funded by GAPP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52280"/>
            <a:ext cx="8686800" cy="762120"/>
          </a:xfrm>
          <a:prstGeom prst="rect">
            <a:avLst/>
          </a:prstGeom>
          <a:noFill/>
          <a:ln w="381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762120"/>
            <a:ext cx="8626320" cy="61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Uses a forward full-physics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Cycles surface/soil fields depending on the RUC atmospheric forc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Cycles 5 hydrometor species : cloud, ice, rain, snow and graupel. Cloud clearing/building based on GOES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compared to RUC operational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Forecast length (48-hour forecasts with hourly outputs)</a:t>
            </a: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ssimilation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RAD Radar reflectivity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PS precipitable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undary-layer profi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onet observations collected at 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ain Goal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mprove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1-h precipit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cing and the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land surface model clim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8C3-131F-4937-9BEA-D112B5134CE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UC20_oper_7may03" descr=""/>
          <p:cNvPicPr/>
          <p:nvPr/>
        </p:nvPicPr>
        <p:blipFill>
          <a:blip r:embed="rId1"/>
          <a:srcRect l="0" t="9719" r="0" b="7689"/>
          <a:stretch/>
        </p:blipFill>
        <p:spPr>
          <a:xfrm>
            <a:off x="152280" y="152280"/>
            <a:ext cx="3886200" cy="3210120"/>
          </a:xfrm>
          <a:prstGeom prst="rect">
            <a:avLst/>
          </a:prstGeom>
          <a:ln w="0">
            <a:noFill/>
          </a:ln>
        </p:spPr>
      </p:pic>
      <p:pic>
        <p:nvPicPr>
          <p:cNvPr id="102" name="RUC20_cdas_7may03" descr=""/>
          <p:cNvPicPr/>
          <p:nvPr/>
        </p:nvPicPr>
        <p:blipFill>
          <a:blip r:embed="rId2"/>
          <a:srcRect l="0" t="9719" r="0" b="7689"/>
          <a:stretch/>
        </p:blipFill>
        <p:spPr>
          <a:xfrm>
            <a:off x="152280" y="3495600"/>
            <a:ext cx="3886200" cy="3210120"/>
          </a:xfrm>
          <a:prstGeom prst="rect">
            <a:avLst/>
          </a:prstGeom>
          <a:ln w="0">
            <a:noFill/>
          </a:ln>
        </p:spPr>
      </p:pic>
      <p:pic>
        <p:nvPicPr>
          <p:cNvPr id="103" name="ST4_obs_7may03" descr=""/>
          <p:cNvPicPr/>
          <p:nvPr/>
        </p:nvPicPr>
        <p:blipFill>
          <a:blip r:embed="rId3"/>
          <a:srcRect l="0" t="9719" r="0" b="10119"/>
          <a:stretch/>
        </p:blipFill>
        <p:spPr>
          <a:xfrm>
            <a:off x="4191120" y="152280"/>
            <a:ext cx="4813200" cy="3857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30480" y="4572000"/>
            <a:ext cx="52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4-hour precipitation accu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ing at 1200 UTC 6 May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9800" y="2209680"/>
            <a:ext cx="16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C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1240" y="563868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C C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6760" y="320040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age IV Rain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C57-F4C3-487B-BD27-83BA76EBF30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Xcorr_oper_7may03" descr=""/>
          <p:cNvPicPr/>
          <p:nvPr/>
        </p:nvPicPr>
        <p:blipFill>
          <a:blip r:embed="rId1"/>
          <a:srcRect l="12149" t="7289" r="12549" b="10119"/>
          <a:stretch/>
        </p:blipFill>
        <p:spPr>
          <a:xfrm>
            <a:off x="685800" y="152280"/>
            <a:ext cx="2987640" cy="3276720"/>
          </a:xfrm>
          <a:prstGeom prst="rect">
            <a:avLst/>
          </a:prstGeom>
          <a:ln w="0">
            <a:noFill/>
          </a:ln>
        </p:spPr>
      </p:pic>
      <p:pic>
        <p:nvPicPr>
          <p:cNvPr id="109" name="Xcorr_cdas_7may03" descr=""/>
          <p:cNvPicPr/>
          <p:nvPr/>
        </p:nvPicPr>
        <p:blipFill>
          <a:blip r:embed="rId2"/>
          <a:srcRect l="12149" t="7289" r="12549" b="10119"/>
          <a:stretch/>
        </p:blipFill>
        <p:spPr>
          <a:xfrm>
            <a:off x="685800" y="3429000"/>
            <a:ext cx="2987640" cy="3276720"/>
          </a:xfrm>
          <a:prstGeom prst="rect">
            <a:avLst/>
          </a:prstGeom>
          <a:ln w="0">
            <a:noFill/>
          </a:ln>
        </p:spPr>
      </p:pic>
      <p:pic>
        <p:nvPicPr>
          <p:cNvPr id="110" name="Acorr_7may03" descr=""/>
          <p:cNvPicPr/>
          <p:nvPr/>
        </p:nvPicPr>
        <p:blipFill>
          <a:blip r:embed="rId3"/>
          <a:srcRect l="12149" t="7289" r="12549" b="10119"/>
          <a:stretch/>
        </p:blipFill>
        <p:spPr>
          <a:xfrm>
            <a:off x="5410080" y="228600"/>
            <a:ext cx="3264120" cy="358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038480" y="4572000"/>
            <a:ext cx="4889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atial Correlation fields of 24-h Accumulated Precipitation ending at 1200 UTC 6 May 200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Dongsoo Ki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3960" y="594360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C C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1200" y="26668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C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2C6-2D3A-4F94-BE2F-396996E55A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3hfcst_sfctdm_west_dec-feb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5159520" cy="2441520"/>
          </a:xfrm>
          <a:prstGeom prst="rect">
            <a:avLst/>
          </a:prstGeom>
          <a:ln w="0">
            <a:noFill/>
          </a:ln>
        </p:spPr>
      </p:pic>
      <p:pic>
        <p:nvPicPr>
          <p:cNvPr id="115" name="3hfcst_sfctem_west_dec-feb" descr=""/>
          <p:cNvPicPr/>
          <p:nvPr/>
        </p:nvPicPr>
        <p:blipFill>
          <a:blip r:embed="rId2"/>
          <a:stretch/>
        </p:blipFill>
        <p:spPr>
          <a:xfrm>
            <a:off x="3581280" y="4114800"/>
            <a:ext cx="5329440" cy="2587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19160" y="297180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stern 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55360" y="152280"/>
            <a:ext cx="7482240" cy="825480"/>
          </a:xfrm>
          <a:prstGeom prst="rect">
            <a:avLst/>
          </a:prstGeom>
          <a:solidFill>
            <a:srgbClr val="3333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urnal cycle of biases fro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UC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UC C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eraged for the period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 December – 1 March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560" y="108108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-m dew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5480" y="3657600"/>
            <a:ext cx="20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-m temper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360" y="601992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stern 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1DD-6216-40A8-BA39-36BA65F23FC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380880"/>
            <a:ext cx="807732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wo WRFRUC systems run at FSL in real tim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FRUC with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10-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orizontal resolution for the TAQ (Temperature and Air Quality)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48-hour forecasts twice a day (00 and 12     UTC, runs on JET since June 200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WRFRUC with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20-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orizontal resolution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US dom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24-hour forecasts twice a day (00 and 12  UTC, runs on JET since February 200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3120" y="6076800"/>
            <a:ext cx="6672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Tahoma"/>
                <a:hlinkClick r:id="rId1"/>
              </a:rPr>
              <a:t>http://ruc.fsl.noaa.gov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- real-time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5D8-168D-47D1-89F4-E06407047AA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14:02:38Z</dcterms:created>
  <dc:creator>Stan Benjamin</dc:creator>
  <dc:description/>
  <dc:language>en-US</dc:language>
  <cp:lastModifiedBy>smirnova</cp:lastModifiedBy>
  <cp:lastPrinted>1999-08-30T20:10:40Z</cp:lastPrinted>
  <dcterms:modified xsi:type="dcterms:W3CDTF">2003-06-17T22:19:02Z</dcterms:modified>
  <cp:revision>246</cp:revision>
  <dc:subject/>
  <dc:title>Operational Use of the  Rapid Update Cycle</dc:title>
</cp:coreProperties>
</file>