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27B-DFD5-498A-9365-E11921AC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136-C2E2-4463-B1D8-E6767F3F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1168-7C04-4541-950C-01283FE2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AE7-41CF-429A-B8F6-DEB73F2E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BF17-4BD8-4CF3-A986-56D7956D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5002-9BF6-4C72-8E9D-EA522EAA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048D-0FC3-4A45-A7EC-4CE38A02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7068-1E23-449B-8CD3-99F3571F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A3F6-5532-435B-BE08-4E76261D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F281-92B4-4C08-BA17-EFE7198C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6F9D-B461-44DC-AD81-1819C532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FCE-CF24-417F-B63B-E7FE3D9B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6D25-7414-4954-BC80-417B8A70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40EB-6DD5-4962-B745-251E48E0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3DC9-265F-49E1-9630-A8A35E09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321D-AC5D-4574-AE6E-B0BDB024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65DF-FB7B-44F0-B110-955E548A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CE1-E851-4D75-83E9-590322F5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916-E961-4F23-BC55-500BAD66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8F9-3932-474F-959E-DAC5A374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841-DE89-4EA7-B2F2-344E6B5B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AFC-1A64-4AFD-9AA4-17DC2D3A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917-4E71-46D5-8D6F-1D68F21B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DC9-967D-45C2-988F-760356D3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DE0D-3614-49BE-B9F5-85FC090FB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2FA8-AB19-4DDD-8950-8FC59D599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76680" y="914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igh resolution land data assimilation system (HRLDAS)</a:t>
            </a:r>
            <a:br>
              <a:rPr sz="3200"/>
            </a:b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or MM5 and WRF 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34290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i Chen, Kevin Manning, and David Gochis (NC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22860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mpact of soil moisture on QP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3-h rainfall ending 00Z 19 June 1998 (dryline c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525780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5 using soil mois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HRL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81600" y="5334120"/>
            <a:ext cx="36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5 using soil moisture from NCEP EDAS coarse resolution and too w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52480" y="1066680"/>
          <a:ext cx="545796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066680"/>
                    <a:ext cx="54579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 flipV="1">
            <a:off x="2057400" y="4800240"/>
            <a:ext cx="6858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943600" y="480024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0280" y="6248520"/>
            <a:ext cx="34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. Trier, F. Chen, and K. Mann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mportant BL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convection initiation and intens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the 20 June 1998 dryline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5029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si-stationary convective rolls formed at the dryline seem cri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C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33880" y="4952880"/>
            <a:ext cx="39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oscale circulation formed as result of differential heating in the morning may be responsible for CI in OK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800600" y="1676520"/>
          <a:ext cx="37720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76520"/>
                    <a:ext cx="3772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73080" y="6248520"/>
            <a:ext cx="34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. Trier, K. Manning, and F. Ch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4400" y="1447920"/>
          <a:ext cx="3290760" cy="353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447920"/>
                    <a:ext cx="329076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CAR WRF and HRLDAS plan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0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F 22-km CONUS realtime forecast using EDAS and AGRM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y HRLDAS for WRF I/O framewo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output in GRIB format for WRF u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up realtime run for W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ing the interactive overland river routing scheme and re-infiltration of standing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Soil moisture initialization for NWP model application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itialization of soil moisture and temperature is a challeng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ltimate approach is to combine observation (including satellite), modeling, and data assimi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ing observed rainfall, derived/analyzed downward solar radiation, and atm analysis to drive LSMs in uncoupled m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CEP NLDAS: north America, 1/8 degr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WA ARGMET: global, 47-k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Soil moisture</a:t>
            </a:r>
            <a:br>
              <a:rPr sz="3200"/>
            </a:b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from EDAS and AGRME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t 12Z 31 May 200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0" name="smois-ag-adas-12-1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23532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52959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Latent and Sensible heat Flux</a:t>
            </a:r>
            <a:br>
              <a:rPr sz="2400"/>
            </a:b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WRF/Noah Initialized by AGRMET and EDAS soil conditions</a:t>
            </a:r>
            <a:br>
              <a:rPr sz="2400"/>
            </a:b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t 1800Z , May 31 200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2" name="ltfx-18" descr=""/>
          <p:cNvPicPr/>
          <p:nvPr/>
        </p:nvPicPr>
        <p:blipFill>
          <a:blip r:embed="rId1"/>
          <a:stretch/>
        </p:blipFill>
        <p:spPr>
          <a:xfrm>
            <a:off x="152280" y="1733400"/>
            <a:ext cx="4419720" cy="3389400"/>
          </a:xfrm>
          <a:prstGeom prst="rect">
            <a:avLst/>
          </a:prstGeom>
          <a:ln w="0">
            <a:noFill/>
          </a:ln>
        </p:spPr>
      </p:pic>
      <p:pic>
        <p:nvPicPr>
          <p:cNvPr id="153" name="senfx18" descr=""/>
          <p:cNvPicPr/>
          <p:nvPr/>
        </p:nvPicPr>
        <p:blipFill>
          <a:blip r:embed="rId2"/>
          <a:stretch/>
        </p:blipFill>
        <p:spPr>
          <a:xfrm>
            <a:off x="4572000" y="1735200"/>
            <a:ext cx="44197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Soil moisture initialization for NWP model application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6160" y="15238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s in using LDAS products in MM5 and WRF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s-match of terrain, landuse, soil texture, physical parameters used in LSM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justing soil moisture may mitigate this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initialize high-resolution MM5/WRF LSM coupling system, we develop  High-Resolution Land Data Assimilation System (HRLDA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RLDAS runs at the same grid as MM5/W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interpolation and soil moisture con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HRLDAS for IH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609480"/>
            <a:ext cx="77724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lti-resolution (4, 12 km) for the IHOP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tiliz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-km hourly NCEP Stage-II; 1-km landuse type and soil texture maps;  0.5 degree hourly  satellite derived downward solar radiation;  monthly green vegetation fraction; T,q, u, v, from model based analysi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urly product (Jan-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hrldas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3702240" cy="3292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7720" y="5578560"/>
            <a:ext cx="35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-km surface soil mois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 at 12 Z May 29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267080" y="556236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radiation_forcing_stats" descr=""/>
          <p:cNvPicPr/>
          <p:nvPr/>
        </p:nvPicPr>
        <p:blipFill>
          <a:blip r:embed="rId1"/>
          <a:stretch/>
        </p:blipFill>
        <p:spPr>
          <a:xfrm>
            <a:off x="1779480" y="1174680"/>
            <a:ext cx="5840640" cy="5607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763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veraged diurnal cycle of Radiation forcing verified with IHOP dat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4-month (1998) HRLDAS soil moisture vs Oklahoma Mesonet observ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bbow_1" descr=""/>
          <p:cNvPicPr/>
          <p:nvPr/>
        </p:nvPicPr>
        <p:blipFill>
          <a:blip r:embed="rId1"/>
          <a:stretch/>
        </p:blipFill>
        <p:spPr>
          <a:xfrm>
            <a:off x="1192320" y="1981080"/>
            <a:ext cx="3836880" cy="2116080"/>
          </a:xfrm>
          <a:prstGeom prst="rect">
            <a:avLst/>
          </a:prstGeom>
          <a:ln w="0">
            <a:noFill/>
          </a:ln>
        </p:spPr>
      </p:pic>
      <p:pic>
        <p:nvPicPr>
          <p:cNvPr id="165" name="bbow_2" descr=""/>
          <p:cNvPicPr/>
          <p:nvPr/>
        </p:nvPicPr>
        <p:blipFill>
          <a:blip r:embed="rId2"/>
          <a:stretch/>
        </p:blipFill>
        <p:spPr>
          <a:xfrm>
            <a:off x="1219320" y="4249800"/>
            <a:ext cx="3809880" cy="2151000"/>
          </a:xfrm>
          <a:prstGeom prst="rect">
            <a:avLst/>
          </a:prstGeom>
          <a:ln w="0">
            <a:noFill/>
          </a:ln>
        </p:spPr>
      </p:pic>
      <p:pic>
        <p:nvPicPr>
          <p:cNvPr id="166" name="king_2" descr=""/>
          <p:cNvPicPr/>
          <p:nvPr/>
        </p:nvPicPr>
        <p:blipFill>
          <a:blip r:embed="rId3"/>
          <a:stretch/>
        </p:blipFill>
        <p:spPr>
          <a:xfrm>
            <a:off x="5199120" y="4267080"/>
            <a:ext cx="3792600" cy="2170080"/>
          </a:xfrm>
          <a:prstGeom prst="rect">
            <a:avLst/>
          </a:prstGeom>
          <a:ln w="0">
            <a:noFill/>
          </a:ln>
        </p:spPr>
      </p:pic>
      <p:pic>
        <p:nvPicPr>
          <p:cNvPr id="167" name="king_1" descr=""/>
          <p:cNvPicPr/>
          <p:nvPr/>
        </p:nvPicPr>
        <p:blipFill>
          <a:blip r:embed="rId4"/>
          <a:stretch/>
        </p:blipFill>
        <p:spPr>
          <a:xfrm>
            <a:off x="5191200" y="1981080"/>
            <a:ext cx="3800520" cy="2143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14560" y="28098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-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760" y="4662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-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0880" y="3808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M5 4-h forecasted soil moisture on 3.3km gri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alid at 16Z 19 June 1998 (dryline c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52578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l mois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HRL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81600" y="5334120"/>
            <a:ext cx="365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l moisture from NCEP E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057400" y="4800240"/>
            <a:ext cx="6858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5943600" y="480024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0280" y="6248520"/>
            <a:ext cx="34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. Trier, F. Chen, and K. Mann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152388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28800" y="1305000"/>
          <a:ext cx="545796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05000"/>
                    <a:ext cx="545796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08:27:12Z</dcterms:created>
  <dc:creator>feichen</dc:creator>
  <dc:description/>
  <dc:language>en-US</dc:language>
  <cp:lastModifiedBy>rappcshare</cp:lastModifiedBy>
  <dcterms:modified xsi:type="dcterms:W3CDTF">2003-07-03T17:51:30Z</dcterms:modified>
  <cp:revision>149</cp:revision>
  <dc:subject/>
  <dc:title>PowerPoint Presentation</dc:title>
</cp:coreProperties>
</file>