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4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4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  <p:pic>
        <p:nvPicPr>
          <p:cNvPr id="2" name="ncar_new" descr=""/>
          <p:cNvPicPr/>
          <p:nvPr/>
        </p:nvPicPr>
        <p:blipFill>
          <a:blip r:embed="rId2"/>
          <a:stretch/>
        </p:blipFill>
        <p:spPr>
          <a:xfrm>
            <a:off x="0" y="588024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457200"/>
            <a:ext cx="8456760" cy="13716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00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00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00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950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and preliminary test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nified Noah LSM in WR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. Chen, M. Tewari, W. Wang, J. Dudhia, NCAR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. Mitchell, M. Ek, NCEP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G. Gayno, J. Wegiel, AFWA</a:t>
            </a:r>
            <a:br>
              <a:rPr sz="2400"/>
            </a:b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 collaboration with: FSL/NCAR WRF/SI/Real group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y we need land surface models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w capabilities of the unified Noah LSM package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liminary test results</a:t>
            </a:r>
            <a:endParaRPr b="1" lang="en-US" sz="2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May_score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5851440" cy="585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2320" y="212760"/>
            <a:ext cx="84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unified Noah L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gnificantly improved the precipitation scor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d to its predecessor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SUL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440" y="133200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time 22-km CONUS 12Z Cycle initialized from 40-km EDAS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day 12-36 h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ed rainfall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15 to 31 May 2003 verified on #212 grid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67652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fied Noah LSM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91320" y="1752480"/>
            <a:ext cx="457200" cy="3049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8560" y="182880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ULSM 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343400" y="1599840"/>
            <a:ext cx="0" cy="3049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160" y="4051440"/>
            <a:ext cx="28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 scores available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SSL website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76320"/>
            <a:ext cx="75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Noah Snow forecast capability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now Storm Case 18 March 2003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24-h snow water equivalent change valid at 06Z 19 March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29" name="swe-change" descr=""/>
          <p:cNvPicPr/>
          <p:nvPr/>
        </p:nvPicPr>
        <p:blipFill>
          <a:blip r:embed="rId1"/>
          <a:stretch/>
        </p:blipFill>
        <p:spPr>
          <a:xfrm>
            <a:off x="2424240" y="3871800"/>
            <a:ext cx="4433760" cy="283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934320" y="5257800"/>
            <a:ext cx="199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: 24-h SWE change valid at 06Z 19 March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781320" y="4952520"/>
            <a:ext cx="762120" cy="3049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4251240"/>
            <a:ext cx="17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 melted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quickly i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ULSM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33" name="swe_24hr_OSU" descr=""/>
          <p:cNvPicPr/>
          <p:nvPr/>
        </p:nvPicPr>
        <p:blipFill>
          <a:blip r:embed="rId2"/>
          <a:stretch/>
        </p:blipFill>
        <p:spPr>
          <a:xfrm>
            <a:off x="196920" y="1371600"/>
            <a:ext cx="4451400" cy="2409840"/>
          </a:xfrm>
          <a:prstGeom prst="rect">
            <a:avLst/>
          </a:prstGeom>
          <a:ln w="0">
            <a:noFill/>
          </a:ln>
        </p:spPr>
      </p:pic>
      <p:pic>
        <p:nvPicPr>
          <p:cNvPr id="134" name="swe_24hr_NOAH" descr=""/>
          <p:cNvPicPr/>
          <p:nvPr/>
        </p:nvPicPr>
        <p:blipFill>
          <a:blip r:embed="rId3"/>
          <a:stretch/>
        </p:blipFill>
        <p:spPr>
          <a:xfrm>
            <a:off x="4530600" y="1344600"/>
            <a:ext cx="4461120" cy="2389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066680" y="3809880"/>
            <a:ext cx="228600" cy="45720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8080" y="3718080"/>
            <a:ext cx="99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80" y="371808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lt/sublimation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nd Future Wor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Compared to IHOP data, the WRF/Noah seems able to simulate the small scale variability, but the results are sensitive to the sources of initial soil moisture 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Need to evaluate different sources of soil data (EDAS, NLDAS, AGRMET) and their impacts on WRF coupled result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Unified Noah LSM will be released with the ‘research version’ of WRF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Coupling a simple urban-canopy model to Noah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(Dr. Kusaka from CRIEPI)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Further changes in snow physics (NCEP)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Improve soil hydrology and canopy resistance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26880" y="1279440"/>
            <a:ext cx="25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meter resolution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 NLDC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use data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Houston Area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41" name="OnlyHouston1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5110200" cy="6540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5562720"/>
            <a:ext cx="1905120" cy="609480"/>
          </a:xfrm>
          <a:prstGeom prst="ellipse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80" y="4648320"/>
            <a:ext cx="133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486400"/>
            <a:ext cx="609480" cy="304920"/>
          </a:xfrm>
          <a:prstGeom prst="line">
            <a:avLst/>
          </a:prstGeom>
          <a:ln w="12600">
            <a:solidFill>
              <a:srgbClr val="33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43200" y="0"/>
            <a:ext cx="624852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0099"/>
            </a:solidFill>
            <a:miter/>
          </a:ln>
          <a:effectLst>
            <a:outerShdw dist="107932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62600" y="2209680"/>
            <a:ext cx="0" cy="232416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85680"/>
            <a:ext cx="62485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Unified Noah LSM 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(Pan and Mahrt, 1987; Chen et al., 1997;  Chen and Dudhia, 2001; Ek et al. 2003)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958000"/>
            <a:ext cx="9129600" cy="9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80" y="5264280"/>
            <a:ext cx="9129600" cy="67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80" y="4883040"/>
            <a:ext cx="9129600" cy="44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0" y="4578480"/>
            <a:ext cx="9129600" cy="291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09400" y="6324480"/>
            <a:ext cx="154296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Gravitational Flow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86080" y="5419800"/>
            <a:ext cx="10522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Internal Soil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Moisture Flux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6280" y="5410080"/>
            <a:ext cx="101772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Internal Soil 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Heat Flux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75440" y="4591080"/>
            <a:ext cx="1047960" cy="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Soil Heat Flux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09520" y="168120"/>
            <a:ext cx="2076480" cy="1851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rcRect l="0" t="43663" r="0" b="0"/>
          <a:stretch/>
        </p:blipFill>
        <p:spPr>
          <a:xfrm>
            <a:off x="2908440" y="4579920"/>
            <a:ext cx="1009440" cy="134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630520" y="2771640"/>
            <a:ext cx="1560600" cy="17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42680" y="2084400"/>
            <a:ext cx="11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Precipit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800" y="243828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Condens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8"/>
          <a:srcRect l="0" t="43663" r="0" b="0"/>
          <a:stretch/>
        </p:blipFill>
        <p:spPr>
          <a:xfrm>
            <a:off x="6761160" y="4576680"/>
            <a:ext cx="1009800" cy="433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22880" y="3879720"/>
            <a:ext cx="492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bare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soil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5880" y="2801880"/>
            <a:ext cx="1371600" cy="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2590920"/>
            <a:ext cx="9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veget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920" y="4876920"/>
            <a:ext cx="127800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Soil Moisture Flux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400" y="3894120"/>
            <a:ext cx="76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Runoff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4203720"/>
            <a:ext cx="563040" cy="387360"/>
            <a:chOff x="324000" y="4203720"/>
            <a:chExt cx="563040" cy="387360"/>
          </a:xfrm>
        </p:grpSpPr>
        <p:sp>
          <p:nvSpPr>
            <p:cNvPr id="168" name=""/>
            <p:cNvSpPr/>
            <p:nvPr/>
          </p:nvSpPr>
          <p:spPr>
            <a:xfrm>
              <a:off x="324000" y="4210200"/>
              <a:ext cx="55332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3800" y="4203720"/>
              <a:ext cx="3240" cy="38736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295280" y="4495680"/>
            <a:ext cx="0" cy="38124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1880" y="1943280"/>
            <a:ext cx="0" cy="291456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1880" y="2990880"/>
            <a:ext cx="590400" cy="41904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6567480"/>
            <a:ext cx="0" cy="29052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09560" y="2076480"/>
            <a:ext cx="19080" cy="268596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56600" y="1722600"/>
            <a:ext cx="1151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Transpir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080" y="5497560"/>
            <a:ext cx="939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Interflow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-360" y="5848200"/>
            <a:ext cx="685800" cy="504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0000" y="1523880"/>
            <a:ext cx="1222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Canopy Water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Evapor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59120" y="1981080"/>
            <a:ext cx="571680" cy="106704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971800"/>
            <a:ext cx="1052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Direct Soil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Evaporation</a:t>
            </a:r>
            <a:endParaRPr b="0" lang="en-US" sz="1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5240" y="3505320"/>
            <a:ext cx="0" cy="105408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68760" y="1731960"/>
            <a:ext cx="257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Turbulent Heat Flux to/from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Snowpack/Soil/Plant Canopy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73760" y="3381480"/>
            <a:ext cx="304920" cy="41904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10360" y="3543480"/>
            <a:ext cx="544320" cy="58068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10800000">
            <a:off x="4444920" y="4558320"/>
            <a:ext cx="749520" cy="330120"/>
          </a:xfrm>
          <a:custGeom>
            <a:avLst/>
            <a:gdLst>
              <a:gd name="textAreaLeft" fmla="*/ 164880 w 749520"/>
              <a:gd name="textAreaRight" fmla="*/ 584640 w 749520"/>
              <a:gd name="textAreaTop" fmla="*/ 72360 h 330120"/>
              <a:gd name="textAreaBottom" fmla="*/ 2577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feb66f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8920" y="3713040"/>
            <a:ext cx="125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from Open Water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38760" y="4190760"/>
            <a:ext cx="0" cy="36180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95920" y="4148280"/>
            <a:ext cx="14436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68760" y="4394160"/>
            <a:ext cx="111240" cy="81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7400" y="4384800"/>
            <a:ext cx="414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72160" y="4122720"/>
            <a:ext cx="954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94480" y="4222800"/>
            <a:ext cx="10944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95920" y="4351320"/>
            <a:ext cx="4284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520000">
            <a:off x="5538600" y="4397040"/>
            <a:ext cx="12348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1000" y="2770200"/>
            <a:ext cx="931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Deposition/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Sublimation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to/from 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99"/>
                </a:solidFill>
                <a:latin typeface="Times New Roman"/>
              </a:rPr>
              <a:t>snowpack</a:t>
            </a:r>
            <a:endParaRPr b="0" lang="en-US" sz="1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94040" y="5854680"/>
            <a:ext cx="0" cy="45720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4800600"/>
            <a:ext cx="0" cy="60948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496000" y="5981760"/>
            <a:ext cx="6120" cy="39348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96360" y="4915080"/>
            <a:ext cx="0" cy="45720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0400" y="4565520"/>
            <a:ext cx="0" cy="457200"/>
          </a:xfrm>
          <a:prstGeom prst="line">
            <a:avLst/>
          </a:prstGeom>
          <a:ln w="12600">
            <a:solidFill>
              <a:srgbClr val="3300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4720" y="1353960"/>
            <a:ext cx="5335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8" y="1358"/>
                </a:moveTo>
                <a:arcTo wR="10800" hR="10800" stAng="-7142288" swAng="7142288"/>
                <a:lnTo>
                  <a:pt x="10800" y="10800"/>
                </a:lnTo>
                <a:close/>
              </a:path>
              <a:path fill="none" w="21600" h="21600">
                <a:moveTo>
                  <a:pt x="5558" y="1358"/>
                </a:moveTo>
                <a:arcTo wR="10800" hR="10800" stAng="-7142288" swAng="7142288"/>
              </a:path>
            </a:pathLst>
          </a:custGeom>
          <a:noFill/>
          <a:ln cap="rnd" w="1260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4610160"/>
            <a:ext cx="11160" cy="33336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859360" y="3580920"/>
            <a:ext cx="0" cy="590760"/>
          </a:xfrm>
          <a:prstGeom prst="line">
            <a:avLst/>
          </a:prstGeom>
          <a:ln w="1260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759280"/>
            <a:ext cx="0" cy="82800"/>
          </a:xfrm>
          <a:prstGeom prst="line">
            <a:avLst/>
          </a:prstGeom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4572000"/>
            <a:ext cx="134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Symbol"/>
                <a:ea typeface="Symbol"/>
              </a:rPr>
              <a:t>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= 10 cm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9528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Symbol"/>
                <a:ea typeface="Symbol"/>
              </a:rPr>
              <a:t>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= 30 cm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54100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Symbol"/>
                <a:ea typeface="Symbol"/>
              </a:rPr>
              <a:t>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= 60 cm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594360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Symbol"/>
                <a:ea typeface="Symbol"/>
              </a:rPr>
              <a:t>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Times New Roman"/>
              </a:rPr>
              <a:t>= 100 cm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5232240" y="4118040"/>
            <a:ext cx="1460520" cy="442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587200" y="4295880"/>
            <a:ext cx="7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Times New Roman"/>
              </a:rPr>
              <a:t>Snowmelt</a:t>
            </a:r>
            <a:endParaRPr b="0" lang="en-US" sz="1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6926400" y="3832200"/>
            <a:ext cx="7128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23920" y="763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 Noah coupled model (10-km) verification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ensible heat fluxes at sites 1, 2, 3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AGRMET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118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EDAS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1722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6" name="hfx12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122720" cy="4299120"/>
          </a:xfrm>
          <a:prstGeom prst="rect">
            <a:avLst/>
          </a:prstGeom>
          <a:ln w="0">
            <a:noFill/>
          </a:ln>
        </p:spPr>
      </p:pic>
      <p:pic>
        <p:nvPicPr>
          <p:cNvPr id="217" name="hfx123" descr=""/>
          <p:cNvPicPr/>
          <p:nvPr/>
        </p:nvPicPr>
        <p:blipFill>
          <a:blip r:embed="rId2"/>
          <a:stretch/>
        </p:blipFill>
        <p:spPr>
          <a:xfrm>
            <a:off x="4878360" y="1828800"/>
            <a:ext cx="4037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23920" y="763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 Noah coupled model (10-km) verification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ensible heat fluxes at sites 7, 8, 9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AGRMET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8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EDAS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21" name="hfx789" descr=""/>
          <p:cNvPicPr/>
          <p:nvPr/>
        </p:nvPicPr>
        <p:blipFill>
          <a:blip r:embed="rId1"/>
          <a:stretch/>
        </p:blipFill>
        <p:spPr>
          <a:xfrm>
            <a:off x="662040" y="1871640"/>
            <a:ext cx="4214880" cy="4300560"/>
          </a:xfrm>
          <a:prstGeom prst="rect">
            <a:avLst/>
          </a:prstGeom>
          <a:ln w="0">
            <a:noFill/>
          </a:ln>
        </p:spPr>
      </p:pic>
      <p:pic>
        <p:nvPicPr>
          <p:cNvPr id="222" name="hfx789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land surface mode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The lower boundary is the only physical boundary for atmospheric model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The basic function of a land surface model is to provide accurate surface sensible, latent heat fluxes, and surface skin temperature as lower boundary conditions 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LSM becomes increasingly important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More complex PBL schemes are sensitive to surface fluxes and cloud/cumulus schemes are sensitive to the PBL structures 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NWP models increase their grid-spacing (1-km and sub 1-km). Need to capture mesoscale circulations forced by surface variability in albedo, soil moisture/temperature, landuse, and snow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Seven LSM related presentations at 2003 MM5 and WRF workshop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Not a simple task: tremendous land surface variability and complex land surface/hydrology processe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Initialization of soil moisture/temperature is a challenge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Major accomplishments in WRF WG14 (land surface modeling) to embrace the WRF Test Plan</a:t>
            </a: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FSL/NCAR SI/Real team: New SI/Real to add new surface fields and to read various land data sources in GRIB format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Develop and evaluate the unified Noah LSM: a collaborative effort among NCEP, NCAR, AFWA, and universities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NCAR LSM team: tested and implemented the unified Noah LSM in WRF-mass and in MM5 V3.6.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FSL LSM team: implemented the RUC LSM in WRF-Mass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NCEP, AFWA, FSL: developed GRIB tables for defining  new land surface variables/parameters and modified their GRIB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New capabilities of the unified Noah LS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mproved Physics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Frozen-ground physics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Patchy snow cover, time-varying snow density and snow roughness length 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Soil heat flux treatment under snow pack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Modified soil thermal conductivity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dditional background fields  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Monthly global climatology albedo (0.15 degree)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Global maximum snow albedo database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mport various sources of soil data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NCEP Eta/EDAS (40-km): 4-layer soil moisture and temperature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NCEP AVN/GFS/Reanalysis: 2-layer soil data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FWA AGRMET: global land data assimilation system (47-km); 4-layer soil data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NCEP NLDAS: North-American land data assimilation system (1/8 degree); 4-layer soil data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33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ble to read important soil and landuse parameters required by the community in addition to basic land state variables </a:t>
            </a:r>
            <a:endParaRPr b="0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 of AGRMET (47-km) and EDAS (40-km) soil moisture for soil layer 1 and 2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 at 12Z May 31 200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smois-ag-edas-4" descr=""/>
          <p:cNvPicPr/>
          <p:nvPr/>
        </p:nvPicPr>
        <p:blipFill>
          <a:blip r:embed="rId1"/>
          <a:stretch/>
        </p:blipFill>
        <p:spPr>
          <a:xfrm>
            <a:off x="1303200" y="1146240"/>
            <a:ext cx="7459920" cy="548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6440" y="19940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5 cm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960" y="4937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cm </a:t>
            </a:r>
            <a:endParaRPr b="0" lang="en-US" sz="2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99"/>
                </a:solidFill>
                <a:latin typeface="Arial"/>
              </a:rPr>
              <a:t>Nine IHOP/NCAR Surface, soil, and vegetation stations. Plus one (site 10) from 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Ihop_map" descr=""/>
          <p:cNvPicPr/>
          <p:nvPr/>
        </p:nvPicPr>
        <p:blipFill>
          <a:blip r:embed="rId1"/>
          <a:stretch/>
        </p:blipFill>
        <p:spPr>
          <a:xfrm>
            <a:off x="0" y="1000080"/>
            <a:ext cx="4140360" cy="3191040"/>
          </a:xfrm>
          <a:prstGeom prst="rect">
            <a:avLst/>
          </a:prstGeom>
          <a:ln w="0">
            <a:noFill/>
          </a:ln>
        </p:spPr>
      </p:pic>
      <p:pic>
        <p:nvPicPr>
          <p:cNvPr id="92" name="area" descr=""/>
          <p:cNvPicPr/>
          <p:nvPr/>
        </p:nvPicPr>
        <p:blipFill>
          <a:blip r:embed="rId2"/>
          <a:srcRect l="5114" t="10901" r="0" b="21802"/>
          <a:stretch/>
        </p:blipFill>
        <p:spPr>
          <a:xfrm>
            <a:off x="3581280" y="2666880"/>
            <a:ext cx="5562720" cy="3705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92468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LE Network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9080" y="50292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Mesonet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81640" y="4952880"/>
            <a:ext cx="18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estern Leg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ites 1, 2, 3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CU station 10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00400" y="4495680"/>
            <a:ext cx="11430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24840" y="18446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Central Leg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ites 4, 5, 6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182880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Eastern Leg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ites 7, 8, 9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590920"/>
            <a:ext cx="1447560" cy="1371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514600"/>
            <a:ext cx="380880" cy="12952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23920" y="763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 Unified Noah coupled model verification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(with 10-km grid spacing)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99072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IHOP cas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31 May 2002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Clear sky day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ites 1, 2, 3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ites 7, 8, 9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04" name="SW123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2962440" cy="2836800"/>
          </a:xfrm>
          <a:prstGeom prst="rect">
            <a:avLst/>
          </a:prstGeom>
          <a:ln w="0">
            <a:noFill/>
          </a:ln>
        </p:spPr>
      </p:pic>
      <p:pic>
        <p:nvPicPr>
          <p:cNvPr id="105" name="LW123" descr=""/>
          <p:cNvPicPr/>
          <p:nvPr/>
        </p:nvPicPr>
        <p:blipFill>
          <a:blip r:embed="rId2"/>
          <a:stretch/>
        </p:blipFill>
        <p:spPr>
          <a:xfrm>
            <a:off x="5335560" y="990720"/>
            <a:ext cx="2970360" cy="2833560"/>
          </a:xfrm>
          <a:prstGeom prst="rect">
            <a:avLst/>
          </a:prstGeom>
          <a:ln w="0">
            <a:noFill/>
          </a:ln>
        </p:spPr>
      </p:pic>
      <p:pic>
        <p:nvPicPr>
          <p:cNvPr id="106" name="SW789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2998800" cy="2826000"/>
          </a:xfrm>
          <a:prstGeom prst="rect">
            <a:avLst/>
          </a:prstGeom>
          <a:ln w="0">
            <a:noFill/>
          </a:ln>
        </p:spPr>
      </p:pic>
      <p:pic>
        <p:nvPicPr>
          <p:cNvPr id="107" name="LW789" descr=""/>
          <p:cNvPicPr/>
          <p:nvPr/>
        </p:nvPicPr>
        <p:blipFill>
          <a:blip r:embed="rId4"/>
          <a:stretch/>
        </p:blipFill>
        <p:spPr>
          <a:xfrm>
            <a:off x="5334120" y="3782880"/>
            <a:ext cx="2943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3920" y="24444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 Noah coupled model (10-km) verification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Latent heat fluxes at sites 1, 2, 3 for 31 May 2002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AGRMET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18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EDAS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6172200"/>
            <a:ext cx="716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12" name="LH123" descr=""/>
          <p:cNvPicPr/>
          <p:nvPr/>
        </p:nvPicPr>
        <p:blipFill>
          <a:blip r:embed="rId1"/>
          <a:stretch/>
        </p:blipFill>
        <p:spPr>
          <a:xfrm>
            <a:off x="635040" y="1862280"/>
            <a:ext cx="4241880" cy="4309920"/>
          </a:xfrm>
          <a:prstGeom prst="rect">
            <a:avLst/>
          </a:prstGeom>
          <a:ln w="0">
            <a:noFill/>
          </a:ln>
        </p:spPr>
      </p:pic>
      <p:pic>
        <p:nvPicPr>
          <p:cNvPr id="113" name="LH123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078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23920" y="24444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WRF/ Noah coupled model (10-km) verification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Latent heat fluxes at sites 7, 8, 9 31 May 2002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AGRMET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18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Using EDAS soil conditions </a:t>
            </a:r>
            <a:endParaRPr b="0" lang="en-US" sz="1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17" name="LH789" descr=""/>
          <p:cNvPicPr/>
          <p:nvPr/>
        </p:nvPicPr>
        <p:blipFill>
          <a:blip r:embed="rId1"/>
          <a:stretch/>
        </p:blipFill>
        <p:spPr>
          <a:xfrm>
            <a:off x="446040" y="1828800"/>
            <a:ext cx="4278240" cy="4317840"/>
          </a:xfrm>
          <a:prstGeom prst="rect">
            <a:avLst/>
          </a:prstGeom>
          <a:ln w="0">
            <a:noFill/>
          </a:ln>
        </p:spPr>
      </p:pic>
      <p:pic>
        <p:nvPicPr>
          <p:cNvPr id="118" name="LH789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199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20:04:00Z</dcterms:created>
  <dc:creator>Rhonda McGaffic</dc:creator>
  <dc:description/>
  <dc:language>en-US</dc:language>
  <cp:lastModifiedBy>mukul</cp:lastModifiedBy>
  <dcterms:modified xsi:type="dcterms:W3CDTF">2003-07-02T17:43:12Z</dcterms:modified>
  <cp:revision>206</cp:revision>
  <dc:subject/>
  <dc:title>NCAR R&amp;D Related to Homeland Defense and</dc:title>
</cp:coreProperties>
</file>