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F476-C181-4F6D-8FC0-478350F602B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4BDDABFE-F529-489E-8C31-16AA76DD448E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5:46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3069584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0</vt:lpwstr>
  </property>
  <property fmtid="{D5CDD505-2E9C-101B-9397-08002B2CF9AE}" pid="6" name="_ReviewingToolsShownOnce">
    <vt:lpwstr/>
  </property>
</Properties>
</file>