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640F-F43D-472A-8674-225AFD85F2E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98E23C90-1481-4CB8-A3F6-28E630634E58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8:57Z</dcterms:modified>
  <cp:revision>44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855012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1</vt:lpwstr>
  </property>
  <property fmtid="{D5CDD505-2E9C-101B-9397-08002B2CF9AE}" pid="6" name="_ReviewingToolsShownOnce">
    <vt:lpwstr/>
  </property>
</Properties>
</file>