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6BA6-0059-4FDD-9E5F-539FE74F699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E3EE2D4-3158-4B76-8E01-A2206AE9D9BD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8:40Z</dcterms:modified>
  <cp:revision>4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2 - Flux Site 5</vt:lpwstr>
  </property>
  <property fmtid="{D5CDD505-2E9C-101B-9397-08002B2CF9AE}" pid="6" name="_ReviewingToolsShownOnce">
    <vt:lpwstr/>
  </property>
</Properties>
</file>