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61A3-C1F7-4663-9C05-C0B433EE4D9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6E1051E-9986-4522-92CF-B94D0A9A08DE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5:22Z</dcterms:modified>
  <cp:revision>42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7744978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2</vt:lpwstr>
  </property>
  <property fmtid="{D5CDD505-2E9C-101B-9397-08002B2CF9AE}" pid="6" name="_ReviewingToolsShownOnce">
    <vt:lpwstr/>
  </property>
</Properties>
</file>