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DECD-8BCE-4DC5-8272-DD7BBF91FC0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B86E260D-14C9-4ACB-9B84-57314DCBFA01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00:17:46Z</dcterms:modified>
  <cp:revision>42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97885657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</vt:lpwstr>
  </property>
  <property fmtid="{D5CDD505-2E9C-101B-9397-08002B2CF9AE}" pid="6" name="_ReviewingToolsShownOnce">
    <vt:lpwstr/>
  </property>
</Properties>
</file>