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5BA1F-0A10-405C-88F5-1777C2E9B77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2D17D1E4-5293-4E80-9431-5C2B40BAE361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21:32:44Z</dcterms:modified>
  <cp:revision>44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66506422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9</vt:lpwstr>
  </property>
  <property fmtid="{D5CDD505-2E9C-101B-9397-08002B2CF9AE}" pid="6" name="_ReviewingToolsShownOnce">
    <vt:lpwstr/>
  </property>
</Properties>
</file>