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BE8B-C914-4BC9-9AE7-BCE38C2007C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4, Flux Site #3 – Sage +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BD84B4D3-FFE4-41D3-94BD-8DCB01FA594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1:11Z</dcterms:modified>
  <cp:revision>4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149716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4</vt:lpwstr>
  </property>
  <property fmtid="{D5CDD505-2E9C-101B-9397-08002B2CF9AE}" pid="6" name="_ReviewingToolsShownOnce">
    <vt:lpwstr/>
  </property>
</Properties>
</file>