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CABEA-DAD1-4149-B6A9-32CD06DA69F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il Profile #8, Flux Site #9 – Grass site, DOY 130 to 180, 2002.  Soil temperature data measured by CS107 probe.  (From R. H. Cuenca, Hydrologic Science Team, Oregon State Univers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il Profile #8, Flux Site #9 – Grass site, DOY 130 to 180, 2002.  Precipitation data measured by TE525 tipping bucket rain guage.  (From R. H. Cuenca, Hydrologic Science Team, Oregon State Univers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3288E9F1-C4F4-492B-99AC-B2426E1198AB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16:43:42Z</dcterms:modified>
  <cp:revision>438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455891103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5</vt:lpwstr>
  </property>
  <property fmtid="{D5CDD505-2E9C-101B-9397-08002B2CF9AE}" pid="6" name="_ReviewingToolsShownOnce">
    <vt:lpwstr/>
  </property>
</Properties>
</file>