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C4D3-58CD-4AEF-B69A-9D092ECDA73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2650E9AA-BFAC-43CA-B7ED-F2F2BDD35DE1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5:46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53069584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0</vt:lpwstr>
  </property>
  <property fmtid="{D5CDD505-2E9C-101B-9397-08002B2CF9AE}" pid="6" name="_ReviewingToolsShownOnce">
    <vt:lpwstr/>
  </property>
</Properties>
</file>