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72D0-0A16-4CE9-8C9E-1357CE9D79F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E40A2ED-6DC6-4525-801A-5279DFAA4C64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8:57Z</dcterms:modified>
  <cp:revision>4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55012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1</vt:lpwstr>
  </property>
  <property fmtid="{D5CDD505-2E9C-101B-9397-08002B2CF9AE}" pid="6" name="_ReviewingToolsShownOnce">
    <vt:lpwstr/>
  </property>
</Properties>
</file>