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253C-56E8-44B3-A389-2A939FEE0E7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575647AA-B67B-46C4-80FA-AF76CFA494DC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10:42Z</dcterms:modified>
  <cp:revision>4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869565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3 - Flux Site 9</vt:lpwstr>
  </property>
  <property fmtid="{D5CDD505-2E9C-101B-9397-08002B2CF9AE}" pid="6" name="_ReviewingToolsShownOnce">
    <vt:lpwstr/>
  </property>
</Properties>
</file>