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7D9F-E667-457A-8CE1-9D645CD7BA3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BCB0217D-54B2-4E9D-A2A9-783FA886D53B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41:15Z</dcterms:modified>
  <cp:revision>45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32580840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2</vt:lpwstr>
  </property>
  <property fmtid="{D5CDD505-2E9C-101B-9397-08002B2CF9AE}" pid="6" name="_ReviewingToolsShownOnce">
    <vt:lpwstr/>
  </property>
</Properties>
</file>