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FAE7-E4F2-4999-8193-0D48FFBE62A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17766B4B-6968-4AD2-93FC-A4ABEE0BBFC8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8:40Z</dcterms:modified>
  <cp:revision>45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2 - Flux Site 5</vt:lpwstr>
  </property>
  <property fmtid="{D5CDD505-2E9C-101B-9397-08002B2CF9AE}" pid="6" name="_ReviewingToolsShownOnce">
    <vt:lpwstr/>
  </property>
</Properties>
</file>