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0073-6589-416A-9D21-E07F9210624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58A3B1AE-5907-4330-A7AD-DD7FC8B99802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10:42Z</dcterms:modified>
  <cp:revision>45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1869565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13 - Flux Site 9</vt:lpwstr>
  </property>
  <property fmtid="{D5CDD505-2E9C-101B-9397-08002B2CF9AE}" pid="6" name="_ReviewingToolsShownOnce">
    <vt:lpwstr/>
  </property>
</Properties>
</file>