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9C73-CD7E-40D2-AD70-A8CC67A013B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1E65570D-0205-42D9-82D0-D48188FB447C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00:17:46Z</dcterms:modified>
  <cp:revision>42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97885657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</vt:lpwstr>
  </property>
  <property fmtid="{D5CDD505-2E9C-101B-9397-08002B2CF9AE}" pid="6" name="_ReviewingToolsShownOnce">
    <vt:lpwstr/>
  </property>
</Properties>
</file>