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5816-3936-4548-8704-32C7A316B20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C2F29D86-D169-4E03-9D90-0D42222AF20D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8:06Z</dcterms:modified>
  <cp:revision>4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7436221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7 + Data Catalog</vt:lpwstr>
  </property>
  <property fmtid="{D5CDD505-2E9C-101B-9397-08002B2CF9AE}" pid="6" name="_ReviewingToolsShownOnce">
    <vt:lpwstr/>
  </property>
</Properties>
</file>