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0CA6-E889-4C8A-823F-925D4075343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A7E14280-53B5-4FA1-B162-58C5A2EA7635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5:46Z</dcterms:modified>
  <cp:revision>44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53069584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0</vt:lpwstr>
  </property>
  <property fmtid="{D5CDD505-2E9C-101B-9397-08002B2CF9AE}" pid="6" name="_ReviewingToolsShownOnce">
    <vt:lpwstr/>
  </property>
</Properties>
</file>